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E50-AB8F-4261-9535-F66447D3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9B1-E7E7-40D9-8BFC-6875D95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0E3-C133-4236-809E-AB63CBBD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299-F263-4B8B-B80F-FC25D144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ACD4-1E23-4F0D-B04C-6836508F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5041-E4F3-4C5E-9D10-49C61DB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5526-C6AE-4446-8173-40CBA885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DD38-B5C9-4151-9370-7319B58F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ED38-D328-415F-B7C4-B5F45581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8DB4-2AE2-4F5F-985C-2A086DD4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4426-5BFA-44FA-8EA7-360A86B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12D-2AA6-4C8B-ADE2-E38ED613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EAA8-4609-48C7-9C5B-758D4FB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97DB-0CD6-49AC-9FCA-A9B66707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0FDD-508D-4174-9700-66B11812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1027-E4D0-41FC-AE84-9BF930DF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3E51-2258-4657-8071-B0676F73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E97-7AB0-400B-89C3-76D1F842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0E4-CDD6-4F97-8A44-A9B8B14B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DAE-B161-4473-A1D5-6C49FFE1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993-6C74-4745-95EB-A16A3FE5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463-1C57-40D4-BB3F-93A92B61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3DB-FC53-4718-846C-8BDFEFE2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3DD-AB8A-4A86-9B16-C8A6608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B505-E51C-49A3-8C60-A91C6D95F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E317-F0BC-48DA-B0B4-9AD5C261A0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ebd40"/>
                </a:solidFill>
                <a:latin typeface="Arial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cebd40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4" name="Ink 2"/>
          <p:cNvSpPr/>
          <p:nvPr/>
        </p:nvSpPr>
        <p:spPr>
          <a:xfrm>
            <a:off x="455760" y="820800"/>
            <a:ext cx="420480" cy="42048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1984" y="2654"/>
                </a:moveTo>
                <a:cubicBezTo>
                  <a:pt x="1946" y="2588"/>
                  <a:pt x="1962" y="2525"/>
                  <a:pt x="1910" y="2456"/>
                </a:cubicBezTo>
                <a:cubicBezTo>
                  <a:pt x="1887" y="2425"/>
                  <a:pt x="1815" y="2378"/>
                  <a:pt x="1786" y="2381"/>
                </a:cubicBezTo>
                <a:cubicBezTo>
                  <a:pt x="1690" y="2391"/>
                  <a:pt x="1661" y="2439"/>
                  <a:pt x="1612" y="2505"/>
                </a:cubicBezTo>
                <a:cubicBezTo>
                  <a:pt x="1578" y="2550"/>
                  <a:pt x="1523" y="2621"/>
                  <a:pt x="1513" y="2679"/>
                </a:cubicBezTo>
                <a:cubicBezTo>
                  <a:pt x="1498" y="2766"/>
                  <a:pt x="1532" y="2821"/>
                  <a:pt x="1588" y="2877"/>
                </a:cubicBezTo>
                <a:cubicBezTo>
                  <a:pt x="1640" y="2929"/>
                  <a:pt x="1709" y="2904"/>
                  <a:pt x="1761" y="2877"/>
                </a:cubicBezTo>
                <a:cubicBezTo>
                  <a:pt x="1831" y="2840"/>
                  <a:pt x="1839" y="2789"/>
                  <a:pt x="1885" y="2729"/>
                </a:cubicBezTo>
                <a:cubicBezTo>
                  <a:pt x="1916" y="2687"/>
                  <a:pt x="1944" y="2555"/>
                  <a:pt x="1960" y="2604"/>
                </a:cubicBezTo>
                <a:cubicBezTo>
                  <a:pt x="1998" y="2719"/>
                  <a:pt x="1954" y="2891"/>
                  <a:pt x="1935" y="3001"/>
                </a:cubicBezTo>
                <a:cubicBezTo>
                  <a:pt x="1925" y="3059"/>
                  <a:pt x="1935" y="3274"/>
                  <a:pt x="1935" y="3249"/>
                </a:cubicBezTo>
              </a:path>
              <a:path w="1167" h="1167">
                <a:moveTo>
                  <a:pt x="2133" y="2431"/>
                </a:moveTo>
                <a:cubicBezTo>
                  <a:pt x="2094" y="2381"/>
                  <a:pt x="2033" y="2295"/>
                  <a:pt x="1960" y="2282"/>
                </a:cubicBezTo>
                <a:cubicBezTo>
                  <a:pt x="1883" y="2268"/>
                  <a:pt x="1805" y="2283"/>
                  <a:pt x="1736" y="2307"/>
                </a:cubicBezTo>
                <a:cubicBezTo>
                  <a:pt x="1578" y="2362"/>
                  <a:pt x="1489" y="2444"/>
                  <a:pt x="1389" y="2580"/>
                </a:cubicBezTo>
                <a:cubicBezTo>
                  <a:pt x="1338" y="2649"/>
                  <a:pt x="1279" y="2765"/>
                  <a:pt x="1265" y="2853"/>
                </a:cubicBezTo>
                <a:cubicBezTo>
                  <a:pt x="1252" y="2934"/>
                  <a:pt x="1252" y="3053"/>
                  <a:pt x="1290" y="3125"/>
                </a:cubicBezTo>
                <a:cubicBezTo>
                  <a:pt x="1327" y="3195"/>
                  <a:pt x="1374" y="3276"/>
                  <a:pt x="1439" y="3324"/>
                </a:cubicBezTo>
                <a:cubicBezTo>
                  <a:pt x="1507" y="3375"/>
                  <a:pt x="1625" y="3435"/>
                  <a:pt x="1712" y="3448"/>
                </a:cubicBezTo>
                <a:cubicBezTo>
                  <a:pt x="1806" y="3463"/>
                  <a:pt x="1926" y="3412"/>
                  <a:pt x="2009" y="3373"/>
                </a:cubicBezTo>
                <a:cubicBezTo>
                  <a:pt x="2144" y="3310"/>
                  <a:pt x="2316" y="3192"/>
                  <a:pt x="2381" y="3051"/>
                </a:cubicBezTo>
                <a:cubicBezTo>
                  <a:pt x="2423" y="2959"/>
                  <a:pt x="2431" y="2876"/>
                  <a:pt x="2431" y="2778"/>
                </a:cubicBezTo>
                <a:cubicBezTo>
                  <a:pt x="2431" y="2682"/>
                  <a:pt x="2424" y="2640"/>
                  <a:pt x="2381" y="2555"/>
                </a:cubicBezTo>
                <a:cubicBezTo>
                  <a:pt x="2358" y="2510"/>
                  <a:pt x="2279" y="2433"/>
                  <a:pt x="2232" y="2406"/>
                </a:cubicBezTo>
                <a:cubicBezTo>
                  <a:pt x="2224" y="2406"/>
                  <a:pt x="2216" y="2406"/>
                  <a:pt x="2208" y="24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3"/>
          <p:cNvSpPr/>
          <p:nvPr/>
        </p:nvSpPr>
        <p:spPr>
          <a:xfrm>
            <a:off x="1108080" y="677880"/>
            <a:ext cx="2865600" cy="536400"/>
          </a:xfrm>
          <a:custGeom>
            <a:avLst/>
            <a:gdLst/>
            <a:ahLst/>
            <a:rect l="l" t="t" r="r" b="b"/>
            <a:pathLst>
              <a:path w="7963" h="1489">
                <a:moveTo>
                  <a:pt x="3398" y="2232"/>
                </a:moveTo>
                <a:cubicBezTo>
                  <a:pt x="3428" y="2282"/>
                  <a:pt x="3440" y="2370"/>
                  <a:pt x="3448" y="2431"/>
                </a:cubicBezTo>
                <a:cubicBezTo>
                  <a:pt x="3465" y="2565"/>
                  <a:pt x="3438" y="2699"/>
                  <a:pt x="3423" y="2828"/>
                </a:cubicBezTo>
                <a:cubicBezTo>
                  <a:pt x="3413" y="2910"/>
                  <a:pt x="3402" y="2995"/>
                  <a:pt x="3398" y="3076"/>
                </a:cubicBezTo>
                <a:cubicBezTo>
                  <a:pt x="3395" y="3125"/>
                  <a:pt x="3398" y="3176"/>
                  <a:pt x="3398" y="3225"/>
                </a:cubicBezTo>
              </a:path>
              <a:path w="7963" h="1489">
                <a:moveTo>
                  <a:pt x="3076" y="2778"/>
                </a:moveTo>
                <a:cubicBezTo>
                  <a:pt x="3126" y="2748"/>
                  <a:pt x="3186" y="2732"/>
                  <a:pt x="3249" y="2729"/>
                </a:cubicBezTo>
                <a:cubicBezTo>
                  <a:pt x="3359" y="2724"/>
                  <a:pt x="3470" y="2742"/>
                  <a:pt x="3572" y="2753"/>
                </a:cubicBezTo>
                <a:cubicBezTo>
                  <a:pt x="3628" y="2759"/>
                  <a:pt x="3690" y="2753"/>
                  <a:pt x="3746" y="2753"/>
                </a:cubicBezTo>
              </a:path>
              <a:path w="7963" h="1489">
                <a:moveTo>
                  <a:pt x="4093" y="2704"/>
                </a:moveTo>
                <a:cubicBezTo>
                  <a:pt x="3980" y="2766"/>
                  <a:pt x="3930" y="2806"/>
                  <a:pt x="3845" y="2902"/>
                </a:cubicBezTo>
                <a:cubicBezTo>
                  <a:pt x="3809" y="2943"/>
                  <a:pt x="3756" y="3020"/>
                  <a:pt x="3746" y="3076"/>
                </a:cubicBezTo>
                <a:cubicBezTo>
                  <a:pt x="3726" y="3192"/>
                  <a:pt x="3779" y="3167"/>
                  <a:pt x="3845" y="3200"/>
                </a:cubicBezTo>
                <a:cubicBezTo>
                  <a:pt x="3879" y="3217"/>
                  <a:pt x="3953" y="3194"/>
                  <a:pt x="3994" y="3150"/>
                </a:cubicBezTo>
                <a:cubicBezTo>
                  <a:pt x="4032" y="3109"/>
                  <a:pt x="4065" y="3053"/>
                  <a:pt x="4068" y="3001"/>
                </a:cubicBezTo>
                <a:cubicBezTo>
                  <a:pt x="4071" y="2952"/>
                  <a:pt x="4068" y="2902"/>
                  <a:pt x="4068" y="2853"/>
                </a:cubicBezTo>
                <a:cubicBezTo>
                  <a:pt x="4068" y="2714"/>
                  <a:pt x="4068" y="3000"/>
                  <a:pt x="4068" y="3026"/>
                </a:cubicBezTo>
                <a:cubicBezTo>
                  <a:pt x="4068" y="3073"/>
                  <a:pt x="4098" y="3174"/>
                  <a:pt x="4142" y="3200"/>
                </a:cubicBezTo>
                <a:cubicBezTo>
                  <a:pt x="4261" y="3269"/>
                  <a:pt x="4243" y="3202"/>
                  <a:pt x="4316" y="3150"/>
                </a:cubicBezTo>
                <a:cubicBezTo>
                  <a:pt x="4333" y="3142"/>
                  <a:pt x="4349" y="3133"/>
                  <a:pt x="4366" y="3125"/>
                </a:cubicBezTo>
              </a:path>
              <a:path w="7963" h="1489">
                <a:moveTo>
                  <a:pt x="4390" y="2753"/>
                </a:moveTo>
                <a:cubicBezTo>
                  <a:pt x="4384" y="2839"/>
                  <a:pt x="4339" y="2967"/>
                  <a:pt x="4366" y="3051"/>
                </a:cubicBezTo>
                <a:cubicBezTo>
                  <a:pt x="4383" y="3105"/>
                  <a:pt x="4411" y="3167"/>
                  <a:pt x="4440" y="3225"/>
                </a:cubicBezTo>
                <a:cubicBezTo>
                  <a:pt x="4440" y="3166"/>
                  <a:pt x="4403" y="3100"/>
                  <a:pt x="4415" y="3051"/>
                </a:cubicBezTo>
                <a:cubicBezTo>
                  <a:pt x="4434" y="2972"/>
                  <a:pt x="4453" y="2904"/>
                  <a:pt x="4490" y="2828"/>
                </a:cubicBezTo>
                <a:cubicBezTo>
                  <a:pt x="4507" y="2794"/>
                  <a:pt x="4588" y="2701"/>
                  <a:pt x="4638" y="2704"/>
                </a:cubicBezTo>
                <a:cubicBezTo>
                  <a:pt x="4683" y="2707"/>
                  <a:pt x="4765" y="2796"/>
                  <a:pt x="4787" y="2828"/>
                </a:cubicBezTo>
                <a:cubicBezTo>
                  <a:pt x="4820" y="2874"/>
                  <a:pt x="4831" y="2996"/>
                  <a:pt x="4837" y="3051"/>
                </a:cubicBezTo>
                <a:cubicBezTo>
                  <a:pt x="4844" y="3113"/>
                  <a:pt x="4837" y="3186"/>
                  <a:pt x="4837" y="3249"/>
                </a:cubicBezTo>
              </a:path>
              <a:path w="7963" h="1489">
                <a:moveTo>
                  <a:pt x="5581" y="2009"/>
                </a:moveTo>
                <a:cubicBezTo>
                  <a:pt x="5509" y="2121"/>
                  <a:pt x="5470" y="2224"/>
                  <a:pt x="5407" y="2332"/>
                </a:cubicBezTo>
                <a:cubicBezTo>
                  <a:pt x="5355" y="2422"/>
                  <a:pt x="5263" y="2550"/>
                  <a:pt x="5234" y="2654"/>
                </a:cubicBezTo>
                <a:cubicBezTo>
                  <a:pt x="5206" y="2752"/>
                  <a:pt x="5209" y="2874"/>
                  <a:pt x="5209" y="2977"/>
                </a:cubicBezTo>
                <a:cubicBezTo>
                  <a:pt x="5209" y="3032"/>
                  <a:pt x="5199" y="3184"/>
                  <a:pt x="5234" y="3225"/>
                </a:cubicBezTo>
                <a:cubicBezTo>
                  <a:pt x="5250" y="3244"/>
                  <a:pt x="5378" y="3341"/>
                  <a:pt x="5407" y="3349"/>
                </a:cubicBezTo>
                <a:cubicBezTo>
                  <a:pt x="5424" y="3349"/>
                  <a:pt x="5440" y="3349"/>
                  <a:pt x="5457" y="3349"/>
                </a:cubicBezTo>
              </a:path>
              <a:path w="7963" h="1489">
                <a:moveTo>
                  <a:pt x="5804" y="2282"/>
                </a:moveTo>
                <a:cubicBezTo>
                  <a:pt x="5845" y="2241"/>
                  <a:pt x="5883" y="2217"/>
                  <a:pt x="5928" y="2183"/>
                </a:cubicBezTo>
                <a:cubicBezTo>
                  <a:pt x="5987" y="2138"/>
                  <a:pt x="6064" y="2127"/>
                  <a:pt x="6127" y="2084"/>
                </a:cubicBezTo>
                <a:cubicBezTo>
                  <a:pt x="6184" y="2045"/>
                  <a:pt x="6249" y="2007"/>
                  <a:pt x="6325" y="2034"/>
                </a:cubicBezTo>
                <a:cubicBezTo>
                  <a:pt x="6376" y="2053"/>
                  <a:pt x="6344" y="2179"/>
                  <a:pt x="6325" y="2208"/>
                </a:cubicBezTo>
                <a:cubicBezTo>
                  <a:pt x="6278" y="2281"/>
                  <a:pt x="6214" y="2322"/>
                  <a:pt x="6152" y="2381"/>
                </a:cubicBezTo>
                <a:cubicBezTo>
                  <a:pt x="6086" y="2444"/>
                  <a:pt x="6005" y="2480"/>
                  <a:pt x="5928" y="2530"/>
                </a:cubicBezTo>
                <a:cubicBezTo>
                  <a:pt x="5799" y="2615"/>
                  <a:pt x="5822" y="2567"/>
                  <a:pt x="5879" y="2555"/>
                </a:cubicBezTo>
                <a:cubicBezTo>
                  <a:pt x="5962" y="2537"/>
                  <a:pt x="6040" y="2514"/>
                  <a:pt x="6127" y="2555"/>
                </a:cubicBezTo>
                <a:cubicBezTo>
                  <a:pt x="6174" y="2577"/>
                  <a:pt x="6198" y="2642"/>
                  <a:pt x="6226" y="2679"/>
                </a:cubicBezTo>
                <a:cubicBezTo>
                  <a:pt x="6277" y="2748"/>
                  <a:pt x="6266" y="2728"/>
                  <a:pt x="6251" y="2803"/>
                </a:cubicBezTo>
                <a:cubicBezTo>
                  <a:pt x="6238" y="2868"/>
                  <a:pt x="6191" y="2914"/>
                  <a:pt x="6127" y="2952"/>
                </a:cubicBezTo>
                <a:cubicBezTo>
                  <a:pt x="6054" y="2995"/>
                  <a:pt x="5912" y="3054"/>
                  <a:pt x="5829" y="3051"/>
                </a:cubicBezTo>
                <a:cubicBezTo>
                  <a:pt x="5779" y="3049"/>
                  <a:pt x="5739" y="2989"/>
                  <a:pt x="5730" y="2952"/>
                </a:cubicBezTo>
              </a:path>
              <a:path w="7963" h="1489">
                <a:moveTo>
                  <a:pt x="6598" y="2257"/>
                </a:moveTo>
                <a:cubicBezTo>
                  <a:pt x="6563" y="2405"/>
                  <a:pt x="6505" y="2555"/>
                  <a:pt x="6499" y="2704"/>
                </a:cubicBezTo>
                <a:cubicBezTo>
                  <a:pt x="6495" y="2788"/>
                  <a:pt x="6479" y="2903"/>
                  <a:pt x="6524" y="2977"/>
                </a:cubicBezTo>
                <a:cubicBezTo>
                  <a:pt x="6570" y="3052"/>
                  <a:pt x="6586" y="3051"/>
                  <a:pt x="6672" y="3051"/>
                </a:cubicBezTo>
                <a:cubicBezTo>
                  <a:pt x="6725" y="3051"/>
                  <a:pt x="6856" y="3011"/>
                  <a:pt x="6896" y="2977"/>
                </a:cubicBezTo>
                <a:cubicBezTo>
                  <a:pt x="6952" y="2928"/>
                  <a:pt x="7054" y="2815"/>
                  <a:pt x="7069" y="2729"/>
                </a:cubicBezTo>
                <a:cubicBezTo>
                  <a:pt x="7085" y="2635"/>
                  <a:pt x="7081" y="2492"/>
                  <a:pt x="7045" y="2406"/>
                </a:cubicBezTo>
                <a:cubicBezTo>
                  <a:pt x="7024" y="2355"/>
                  <a:pt x="6938" y="2257"/>
                  <a:pt x="6896" y="2232"/>
                </a:cubicBezTo>
                <a:cubicBezTo>
                  <a:pt x="6873" y="2218"/>
                  <a:pt x="6716" y="2181"/>
                  <a:pt x="6697" y="2183"/>
                </a:cubicBezTo>
                <a:cubicBezTo>
                  <a:pt x="6639" y="2188"/>
                  <a:pt x="6570" y="2205"/>
                  <a:pt x="6524" y="2232"/>
                </a:cubicBezTo>
              </a:path>
              <a:path w="7963" h="1489">
                <a:moveTo>
                  <a:pt x="7714" y="2183"/>
                </a:moveTo>
                <a:cubicBezTo>
                  <a:pt x="7714" y="2408"/>
                  <a:pt x="7704" y="2637"/>
                  <a:pt x="7739" y="2853"/>
                </a:cubicBezTo>
                <a:cubicBezTo>
                  <a:pt x="7739" y="2897"/>
                  <a:pt x="7742" y="2911"/>
                  <a:pt x="7714" y="2927"/>
                </a:cubicBezTo>
              </a:path>
              <a:path w="7963" h="1489">
                <a:moveTo>
                  <a:pt x="7491" y="2555"/>
                </a:moveTo>
                <a:cubicBezTo>
                  <a:pt x="7565" y="2604"/>
                  <a:pt x="7646" y="2620"/>
                  <a:pt x="7739" y="2604"/>
                </a:cubicBezTo>
                <a:cubicBezTo>
                  <a:pt x="7839" y="2587"/>
                  <a:pt x="7936" y="2566"/>
                  <a:pt x="8037" y="2555"/>
                </a:cubicBezTo>
              </a:path>
              <a:path w="7963" h="1489">
                <a:moveTo>
                  <a:pt x="8409" y="2158"/>
                </a:moveTo>
                <a:cubicBezTo>
                  <a:pt x="8376" y="2256"/>
                  <a:pt x="8362" y="2361"/>
                  <a:pt x="8334" y="2456"/>
                </a:cubicBezTo>
                <a:cubicBezTo>
                  <a:pt x="8310" y="2539"/>
                  <a:pt x="8356" y="2572"/>
                  <a:pt x="8409" y="2654"/>
                </a:cubicBezTo>
                <a:cubicBezTo>
                  <a:pt x="8453" y="2628"/>
                  <a:pt x="8489" y="2605"/>
                  <a:pt x="8533" y="2580"/>
                </a:cubicBezTo>
              </a:path>
              <a:path w="7963" h="1489">
                <a:moveTo>
                  <a:pt x="8657" y="2084"/>
                </a:moveTo>
                <a:cubicBezTo>
                  <a:pt x="8647" y="2170"/>
                  <a:pt x="8632" y="2243"/>
                  <a:pt x="8632" y="2332"/>
                </a:cubicBezTo>
                <a:cubicBezTo>
                  <a:pt x="8632" y="2462"/>
                  <a:pt x="8607" y="2574"/>
                  <a:pt x="8607" y="2704"/>
                </a:cubicBezTo>
                <a:cubicBezTo>
                  <a:pt x="8607" y="2798"/>
                  <a:pt x="8582" y="2881"/>
                  <a:pt x="8582" y="2977"/>
                </a:cubicBezTo>
                <a:cubicBezTo>
                  <a:pt x="8582" y="3000"/>
                  <a:pt x="8588" y="3144"/>
                  <a:pt x="8607" y="3150"/>
                </a:cubicBezTo>
                <a:cubicBezTo>
                  <a:pt x="8615" y="3142"/>
                  <a:pt x="8624" y="3133"/>
                  <a:pt x="8632" y="3125"/>
                </a:cubicBezTo>
              </a:path>
              <a:path w="7963" h="1489">
                <a:moveTo>
                  <a:pt x="9178" y="2282"/>
                </a:moveTo>
                <a:cubicBezTo>
                  <a:pt x="9274" y="2259"/>
                  <a:pt x="9383" y="2237"/>
                  <a:pt x="9475" y="2208"/>
                </a:cubicBezTo>
                <a:cubicBezTo>
                  <a:pt x="9519" y="2186"/>
                  <a:pt x="9531" y="2183"/>
                  <a:pt x="9550" y="2158"/>
                </a:cubicBezTo>
              </a:path>
              <a:path w="7963" h="1489">
                <a:moveTo>
                  <a:pt x="9178" y="2257"/>
                </a:moveTo>
                <a:cubicBezTo>
                  <a:pt x="9124" y="2323"/>
                  <a:pt x="9034" y="2395"/>
                  <a:pt x="9029" y="2480"/>
                </a:cubicBezTo>
                <a:cubicBezTo>
                  <a:pt x="9029" y="2525"/>
                  <a:pt x="9026" y="2538"/>
                  <a:pt x="9054" y="2555"/>
                </a:cubicBezTo>
                <a:cubicBezTo>
                  <a:pt x="9121" y="2545"/>
                  <a:pt x="9144" y="2515"/>
                  <a:pt x="9203" y="2480"/>
                </a:cubicBezTo>
                <a:cubicBezTo>
                  <a:pt x="9273" y="2438"/>
                  <a:pt x="9314" y="2449"/>
                  <a:pt x="9376" y="2456"/>
                </a:cubicBezTo>
                <a:cubicBezTo>
                  <a:pt x="9466" y="2467"/>
                  <a:pt x="9549" y="2537"/>
                  <a:pt x="9575" y="2629"/>
                </a:cubicBezTo>
                <a:cubicBezTo>
                  <a:pt x="9601" y="2719"/>
                  <a:pt x="9579" y="2868"/>
                  <a:pt x="9550" y="2952"/>
                </a:cubicBezTo>
                <a:cubicBezTo>
                  <a:pt x="9515" y="3052"/>
                  <a:pt x="9463" y="3068"/>
                  <a:pt x="9376" y="3101"/>
                </a:cubicBezTo>
                <a:cubicBezTo>
                  <a:pt x="9328" y="3124"/>
                  <a:pt x="9314" y="3132"/>
                  <a:pt x="9277" y="3125"/>
                </a:cubicBezTo>
              </a:path>
              <a:path w="7963" h="1489">
                <a:moveTo>
                  <a:pt x="9575" y="1885"/>
                </a:moveTo>
                <a:cubicBezTo>
                  <a:pt x="9740" y="1963"/>
                  <a:pt x="9779" y="2004"/>
                  <a:pt x="9897" y="2158"/>
                </a:cubicBezTo>
                <a:cubicBezTo>
                  <a:pt x="9970" y="2252"/>
                  <a:pt x="10030" y="2417"/>
                  <a:pt x="10071" y="2530"/>
                </a:cubicBezTo>
                <a:cubicBezTo>
                  <a:pt x="10109" y="2635"/>
                  <a:pt x="10131" y="2767"/>
                  <a:pt x="10145" y="2877"/>
                </a:cubicBezTo>
                <a:cubicBezTo>
                  <a:pt x="10151" y="2926"/>
                  <a:pt x="10125" y="3036"/>
                  <a:pt x="10096" y="3076"/>
                </a:cubicBezTo>
                <a:cubicBezTo>
                  <a:pt x="10026" y="3172"/>
                  <a:pt x="9867" y="3219"/>
                  <a:pt x="9773" y="3274"/>
                </a:cubicBezTo>
                <a:cubicBezTo>
                  <a:pt x="9737" y="3295"/>
                  <a:pt x="9664" y="3338"/>
                  <a:pt x="9624" y="3349"/>
                </a:cubicBezTo>
                <a:cubicBezTo>
                  <a:pt x="9551" y="3369"/>
                  <a:pt x="9562" y="3382"/>
                  <a:pt x="9550" y="3324"/>
                </a:cubicBezTo>
              </a:path>
              <a:path w="7963" h="1489">
                <a:moveTo>
                  <a:pt x="10567" y="2604"/>
                </a:moveTo>
                <a:cubicBezTo>
                  <a:pt x="10649" y="2610"/>
                  <a:pt x="10759" y="2609"/>
                  <a:pt x="10840" y="2629"/>
                </a:cubicBezTo>
                <a:cubicBezTo>
                  <a:pt x="10900" y="2643"/>
                  <a:pt x="10962" y="2657"/>
                  <a:pt x="11013" y="2679"/>
                </a:cubicBezTo>
              </a:path>
              <a:path w="7963" h="1489">
                <a:moveTo>
                  <a:pt x="10666" y="2927"/>
                </a:moveTo>
                <a:cubicBezTo>
                  <a:pt x="10754" y="2927"/>
                  <a:pt x="10829" y="2948"/>
                  <a:pt x="10914" y="2952"/>
                </a:cubicBezTo>
                <a:cubicBezTo>
                  <a:pt x="10955" y="2954"/>
                  <a:pt x="10997" y="2952"/>
                  <a:pt x="11038" y="29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4"/>
          <p:cNvSpPr/>
          <p:nvPr/>
        </p:nvSpPr>
        <p:spPr>
          <a:xfrm>
            <a:off x="4197240" y="741240"/>
            <a:ext cx="2347920" cy="393840"/>
          </a:xfrm>
          <a:custGeom>
            <a:avLst/>
            <a:gdLst/>
            <a:ahLst/>
            <a:rect l="l" t="t" r="r" b="b"/>
            <a:pathLst>
              <a:path w="6525" h="1092">
                <a:moveTo>
                  <a:pt x="11881" y="2059"/>
                </a:moveTo>
                <a:cubicBezTo>
                  <a:pt x="11915" y="2148"/>
                  <a:pt x="11906" y="2234"/>
                  <a:pt x="11906" y="2332"/>
                </a:cubicBezTo>
                <a:cubicBezTo>
                  <a:pt x="11906" y="2533"/>
                  <a:pt x="11901" y="2735"/>
                  <a:pt x="11931" y="2927"/>
                </a:cubicBezTo>
                <a:cubicBezTo>
                  <a:pt x="11936" y="2956"/>
                  <a:pt x="11948" y="3150"/>
                  <a:pt x="11906" y="3150"/>
                </a:cubicBezTo>
                <a:cubicBezTo>
                  <a:pt x="11898" y="3142"/>
                  <a:pt x="11889" y="3133"/>
                  <a:pt x="11881" y="3125"/>
                </a:cubicBezTo>
              </a:path>
              <a:path w="6525" h="1092">
                <a:moveTo>
                  <a:pt x="11658" y="2629"/>
                </a:moveTo>
                <a:cubicBezTo>
                  <a:pt x="11742" y="2578"/>
                  <a:pt x="11824" y="2583"/>
                  <a:pt x="11931" y="2580"/>
                </a:cubicBezTo>
                <a:cubicBezTo>
                  <a:pt x="12013" y="2577"/>
                  <a:pt x="12096" y="2580"/>
                  <a:pt x="12179" y="2580"/>
                </a:cubicBezTo>
              </a:path>
              <a:path w="6525" h="1092">
                <a:moveTo>
                  <a:pt x="12650" y="2704"/>
                </a:moveTo>
                <a:cubicBezTo>
                  <a:pt x="12605" y="2658"/>
                  <a:pt x="12598" y="2592"/>
                  <a:pt x="12551" y="2555"/>
                </a:cubicBezTo>
                <a:cubicBezTo>
                  <a:pt x="12490" y="2507"/>
                  <a:pt x="12415" y="2498"/>
                  <a:pt x="12353" y="2555"/>
                </a:cubicBezTo>
                <a:cubicBezTo>
                  <a:pt x="12285" y="2618"/>
                  <a:pt x="12240" y="2773"/>
                  <a:pt x="12229" y="2853"/>
                </a:cubicBezTo>
                <a:cubicBezTo>
                  <a:pt x="12218" y="2931"/>
                  <a:pt x="12225" y="2973"/>
                  <a:pt x="12278" y="3026"/>
                </a:cubicBezTo>
                <a:cubicBezTo>
                  <a:pt x="12331" y="3079"/>
                  <a:pt x="12355" y="3092"/>
                  <a:pt x="12427" y="3051"/>
                </a:cubicBezTo>
                <a:cubicBezTo>
                  <a:pt x="12492" y="3014"/>
                  <a:pt x="12547" y="2972"/>
                  <a:pt x="12576" y="2902"/>
                </a:cubicBezTo>
                <a:cubicBezTo>
                  <a:pt x="12608" y="2824"/>
                  <a:pt x="12617" y="2747"/>
                  <a:pt x="12576" y="2679"/>
                </a:cubicBezTo>
                <a:cubicBezTo>
                  <a:pt x="12576" y="2766"/>
                  <a:pt x="12589" y="2846"/>
                  <a:pt x="12601" y="2927"/>
                </a:cubicBezTo>
                <a:cubicBezTo>
                  <a:pt x="12611" y="2993"/>
                  <a:pt x="12627" y="3003"/>
                  <a:pt x="12675" y="3051"/>
                </a:cubicBezTo>
                <a:cubicBezTo>
                  <a:pt x="12718" y="3094"/>
                  <a:pt x="12732" y="3077"/>
                  <a:pt x="12774" y="3051"/>
                </a:cubicBezTo>
              </a:path>
              <a:path w="6525" h="1092">
                <a:moveTo>
                  <a:pt x="12874" y="2753"/>
                </a:moveTo>
                <a:cubicBezTo>
                  <a:pt x="12874" y="2844"/>
                  <a:pt x="12853" y="2974"/>
                  <a:pt x="12898" y="3051"/>
                </a:cubicBezTo>
                <a:cubicBezTo>
                  <a:pt x="12891" y="2982"/>
                  <a:pt x="12855" y="2899"/>
                  <a:pt x="12874" y="2828"/>
                </a:cubicBezTo>
                <a:cubicBezTo>
                  <a:pt x="12888" y="2776"/>
                  <a:pt x="12901" y="2698"/>
                  <a:pt x="12923" y="2654"/>
                </a:cubicBezTo>
                <a:cubicBezTo>
                  <a:pt x="12951" y="2598"/>
                  <a:pt x="13000" y="2539"/>
                  <a:pt x="13072" y="2555"/>
                </a:cubicBezTo>
                <a:cubicBezTo>
                  <a:pt x="13132" y="2568"/>
                  <a:pt x="13182" y="2715"/>
                  <a:pt x="13196" y="2778"/>
                </a:cubicBezTo>
                <a:cubicBezTo>
                  <a:pt x="13211" y="2845"/>
                  <a:pt x="13221" y="2905"/>
                  <a:pt x="13221" y="2977"/>
                </a:cubicBezTo>
                <a:cubicBezTo>
                  <a:pt x="13221" y="3017"/>
                  <a:pt x="13210" y="3164"/>
                  <a:pt x="13221" y="3101"/>
                </a:cubicBezTo>
                <a:cubicBezTo>
                  <a:pt x="13229" y="3076"/>
                  <a:pt x="13238" y="3051"/>
                  <a:pt x="13246" y="3026"/>
                </a:cubicBezTo>
              </a:path>
              <a:path w="6525" h="1092">
                <a:moveTo>
                  <a:pt x="13568" y="2282"/>
                </a:moveTo>
                <a:cubicBezTo>
                  <a:pt x="13631" y="2219"/>
                  <a:pt x="13675" y="2168"/>
                  <a:pt x="13767" y="2158"/>
                </a:cubicBezTo>
                <a:cubicBezTo>
                  <a:pt x="13844" y="2150"/>
                  <a:pt x="13843" y="2129"/>
                  <a:pt x="13915" y="2183"/>
                </a:cubicBezTo>
                <a:cubicBezTo>
                  <a:pt x="13980" y="2232"/>
                  <a:pt x="13932" y="2311"/>
                  <a:pt x="13891" y="2356"/>
                </a:cubicBezTo>
                <a:cubicBezTo>
                  <a:pt x="13836" y="2417"/>
                  <a:pt x="13804" y="2477"/>
                  <a:pt x="13742" y="2530"/>
                </a:cubicBezTo>
                <a:cubicBezTo>
                  <a:pt x="13714" y="2558"/>
                  <a:pt x="13700" y="2567"/>
                  <a:pt x="13667" y="2555"/>
                </a:cubicBezTo>
                <a:cubicBezTo>
                  <a:pt x="13707" y="2515"/>
                  <a:pt x="13752" y="2480"/>
                  <a:pt x="13816" y="2505"/>
                </a:cubicBezTo>
                <a:cubicBezTo>
                  <a:pt x="13880" y="2530"/>
                  <a:pt x="13898" y="2607"/>
                  <a:pt x="13915" y="2654"/>
                </a:cubicBezTo>
                <a:cubicBezTo>
                  <a:pt x="13940" y="2724"/>
                  <a:pt x="13968" y="2791"/>
                  <a:pt x="13940" y="2853"/>
                </a:cubicBezTo>
                <a:cubicBezTo>
                  <a:pt x="13911" y="2919"/>
                  <a:pt x="13868" y="2967"/>
                  <a:pt x="13791" y="2977"/>
                </a:cubicBezTo>
                <a:cubicBezTo>
                  <a:pt x="13701" y="2989"/>
                  <a:pt x="13679" y="2976"/>
                  <a:pt x="13618" y="2927"/>
                </a:cubicBezTo>
              </a:path>
              <a:path w="6525" h="1092">
                <a:moveTo>
                  <a:pt x="14188" y="2356"/>
                </a:moveTo>
                <a:cubicBezTo>
                  <a:pt x="14144" y="2438"/>
                  <a:pt x="14123" y="2515"/>
                  <a:pt x="14089" y="2604"/>
                </a:cubicBezTo>
                <a:cubicBezTo>
                  <a:pt x="14060" y="2682"/>
                  <a:pt x="14064" y="2747"/>
                  <a:pt x="14064" y="2828"/>
                </a:cubicBezTo>
                <a:cubicBezTo>
                  <a:pt x="14064" y="2873"/>
                  <a:pt x="14084" y="2961"/>
                  <a:pt x="14139" y="2977"/>
                </a:cubicBezTo>
                <a:cubicBezTo>
                  <a:pt x="14224" y="3002"/>
                  <a:pt x="14250" y="2970"/>
                  <a:pt x="14337" y="2952"/>
                </a:cubicBezTo>
                <a:cubicBezTo>
                  <a:pt x="14427" y="2933"/>
                  <a:pt x="14417" y="2918"/>
                  <a:pt x="14436" y="2828"/>
                </a:cubicBezTo>
                <a:cubicBezTo>
                  <a:pt x="14456" y="2737"/>
                  <a:pt x="14475" y="2641"/>
                  <a:pt x="14436" y="2555"/>
                </a:cubicBezTo>
                <a:cubicBezTo>
                  <a:pt x="14407" y="2491"/>
                  <a:pt x="14353" y="2457"/>
                  <a:pt x="14288" y="2431"/>
                </a:cubicBezTo>
                <a:cubicBezTo>
                  <a:pt x="14221" y="2405"/>
                  <a:pt x="14202" y="2390"/>
                  <a:pt x="14139" y="2381"/>
                </a:cubicBezTo>
              </a:path>
              <a:path w="6525" h="1092">
                <a:moveTo>
                  <a:pt x="15131" y="2282"/>
                </a:moveTo>
                <a:cubicBezTo>
                  <a:pt x="15131" y="2409"/>
                  <a:pt x="15111" y="2510"/>
                  <a:pt x="15106" y="2629"/>
                </a:cubicBezTo>
                <a:cubicBezTo>
                  <a:pt x="15102" y="2721"/>
                  <a:pt x="15127" y="2788"/>
                  <a:pt x="15131" y="2877"/>
                </a:cubicBezTo>
                <a:cubicBezTo>
                  <a:pt x="15133" y="2926"/>
                  <a:pt x="15131" y="2977"/>
                  <a:pt x="15131" y="3026"/>
                </a:cubicBezTo>
              </a:path>
              <a:path w="6525" h="1092">
                <a:moveTo>
                  <a:pt x="14858" y="2629"/>
                </a:moveTo>
                <a:cubicBezTo>
                  <a:pt x="14926" y="2663"/>
                  <a:pt x="15000" y="2654"/>
                  <a:pt x="15081" y="2654"/>
                </a:cubicBezTo>
                <a:cubicBezTo>
                  <a:pt x="15197" y="2654"/>
                  <a:pt x="15313" y="2654"/>
                  <a:pt x="15429" y="2654"/>
                </a:cubicBezTo>
              </a:path>
              <a:path w="6525" h="1092">
                <a:moveTo>
                  <a:pt x="15850" y="2183"/>
                </a:moveTo>
                <a:cubicBezTo>
                  <a:pt x="15850" y="2385"/>
                  <a:pt x="15857" y="2579"/>
                  <a:pt x="15875" y="2778"/>
                </a:cubicBezTo>
                <a:cubicBezTo>
                  <a:pt x="15884" y="2874"/>
                  <a:pt x="15885" y="2960"/>
                  <a:pt x="15900" y="3051"/>
                </a:cubicBezTo>
                <a:cubicBezTo>
                  <a:pt x="15900" y="3092"/>
                  <a:pt x="15900" y="3100"/>
                  <a:pt x="15900" y="3125"/>
                </a:cubicBezTo>
              </a:path>
              <a:path w="6525" h="1092">
                <a:moveTo>
                  <a:pt x="15701" y="2679"/>
                </a:moveTo>
                <a:cubicBezTo>
                  <a:pt x="15785" y="2648"/>
                  <a:pt x="15836" y="2629"/>
                  <a:pt x="15925" y="2629"/>
                </a:cubicBezTo>
                <a:cubicBezTo>
                  <a:pt x="16032" y="2629"/>
                  <a:pt x="16140" y="2629"/>
                  <a:pt x="16247" y="2629"/>
                </a:cubicBezTo>
              </a:path>
              <a:path w="6525" h="1092">
                <a:moveTo>
                  <a:pt x="16446" y="2629"/>
                </a:moveTo>
                <a:cubicBezTo>
                  <a:pt x="16364" y="2711"/>
                  <a:pt x="16333" y="2767"/>
                  <a:pt x="16272" y="2853"/>
                </a:cubicBezTo>
                <a:cubicBezTo>
                  <a:pt x="16240" y="2898"/>
                  <a:pt x="16163" y="2945"/>
                  <a:pt x="16148" y="3001"/>
                </a:cubicBezTo>
                <a:cubicBezTo>
                  <a:pt x="16148" y="3053"/>
                  <a:pt x="16149" y="3071"/>
                  <a:pt x="16173" y="3101"/>
                </a:cubicBezTo>
                <a:cubicBezTo>
                  <a:pt x="16258" y="3092"/>
                  <a:pt x="16311" y="3086"/>
                  <a:pt x="16371" y="3026"/>
                </a:cubicBezTo>
                <a:cubicBezTo>
                  <a:pt x="16425" y="2972"/>
                  <a:pt x="16443" y="2903"/>
                  <a:pt x="16446" y="2828"/>
                </a:cubicBezTo>
                <a:cubicBezTo>
                  <a:pt x="16449" y="2759"/>
                  <a:pt x="16452" y="2731"/>
                  <a:pt x="16421" y="2679"/>
                </a:cubicBezTo>
                <a:cubicBezTo>
                  <a:pt x="16421" y="2772"/>
                  <a:pt x="16424" y="2863"/>
                  <a:pt x="16446" y="2952"/>
                </a:cubicBezTo>
                <a:cubicBezTo>
                  <a:pt x="16476" y="3073"/>
                  <a:pt x="16480" y="3118"/>
                  <a:pt x="16594" y="3101"/>
                </a:cubicBezTo>
                <a:cubicBezTo>
                  <a:pt x="16602" y="3101"/>
                  <a:pt x="16611" y="3101"/>
                  <a:pt x="16619" y="3101"/>
                </a:cubicBezTo>
              </a:path>
              <a:path w="6525" h="1092">
                <a:moveTo>
                  <a:pt x="16669" y="2729"/>
                </a:moveTo>
                <a:cubicBezTo>
                  <a:pt x="16669" y="2823"/>
                  <a:pt x="16648" y="2908"/>
                  <a:pt x="16644" y="3001"/>
                </a:cubicBezTo>
                <a:cubicBezTo>
                  <a:pt x="16644" y="3051"/>
                  <a:pt x="16644" y="3068"/>
                  <a:pt x="16644" y="3101"/>
                </a:cubicBezTo>
                <a:cubicBezTo>
                  <a:pt x="16667" y="3031"/>
                  <a:pt x="16682" y="2949"/>
                  <a:pt x="16694" y="2877"/>
                </a:cubicBezTo>
                <a:cubicBezTo>
                  <a:pt x="16709" y="2789"/>
                  <a:pt x="16746" y="2755"/>
                  <a:pt x="16793" y="2679"/>
                </a:cubicBezTo>
                <a:cubicBezTo>
                  <a:pt x="16824" y="2630"/>
                  <a:pt x="16844" y="2563"/>
                  <a:pt x="16917" y="2580"/>
                </a:cubicBezTo>
                <a:cubicBezTo>
                  <a:pt x="16993" y="2597"/>
                  <a:pt x="17012" y="2689"/>
                  <a:pt x="17016" y="2753"/>
                </a:cubicBezTo>
                <a:cubicBezTo>
                  <a:pt x="17020" y="2831"/>
                  <a:pt x="17002" y="2913"/>
                  <a:pt x="16991" y="2977"/>
                </a:cubicBezTo>
                <a:cubicBezTo>
                  <a:pt x="16983" y="3020"/>
                  <a:pt x="16946" y="3071"/>
                  <a:pt x="16991" y="3026"/>
                </a:cubicBezTo>
              </a:path>
              <a:path w="6525" h="1092">
                <a:moveTo>
                  <a:pt x="17165" y="2381"/>
                </a:moveTo>
                <a:cubicBezTo>
                  <a:pt x="17194" y="2459"/>
                  <a:pt x="17180" y="2556"/>
                  <a:pt x="17214" y="2629"/>
                </a:cubicBezTo>
                <a:cubicBezTo>
                  <a:pt x="17250" y="2708"/>
                  <a:pt x="17327" y="2729"/>
                  <a:pt x="17413" y="2704"/>
                </a:cubicBezTo>
                <a:cubicBezTo>
                  <a:pt x="17443" y="2674"/>
                  <a:pt x="17454" y="2660"/>
                  <a:pt x="17462" y="2629"/>
                </a:cubicBezTo>
              </a:path>
              <a:path w="6525" h="1092">
                <a:moveTo>
                  <a:pt x="17512" y="2232"/>
                </a:moveTo>
                <a:cubicBezTo>
                  <a:pt x="17453" y="2321"/>
                  <a:pt x="17462" y="2399"/>
                  <a:pt x="17462" y="2505"/>
                </a:cubicBezTo>
                <a:cubicBezTo>
                  <a:pt x="17462" y="2667"/>
                  <a:pt x="17461" y="2823"/>
                  <a:pt x="17487" y="2977"/>
                </a:cubicBezTo>
                <a:cubicBezTo>
                  <a:pt x="17504" y="3076"/>
                  <a:pt x="17467" y="3096"/>
                  <a:pt x="17562" y="3001"/>
                </a:cubicBezTo>
              </a:path>
              <a:path w="6525" h="1092">
                <a:moveTo>
                  <a:pt x="17785" y="2332"/>
                </a:moveTo>
                <a:cubicBezTo>
                  <a:pt x="17917" y="2332"/>
                  <a:pt x="18050" y="2332"/>
                  <a:pt x="18182" y="2332"/>
                </a:cubicBezTo>
              </a:path>
              <a:path w="6525" h="1092">
                <a:moveTo>
                  <a:pt x="17810" y="2381"/>
                </a:moveTo>
                <a:cubicBezTo>
                  <a:pt x="17785" y="2449"/>
                  <a:pt x="17739" y="2529"/>
                  <a:pt x="17760" y="2604"/>
                </a:cubicBezTo>
                <a:cubicBezTo>
                  <a:pt x="17791" y="2716"/>
                  <a:pt x="17890" y="2622"/>
                  <a:pt x="17959" y="2629"/>
                </a:cubicBezTo>
                <a:cubicBezTo>
                  <a:pt x="18024" y="2635"/>
                  <a:pt x="18094" y="2673"/>
                  <a:pt x="18132" y="2729"/>
                </a:cubicBezTo>
                <a:cubicBezTo>
                  <a:pt x="18186" y="2809"/>
                  <a:pt x="18195" y="2893"/>
                  <a:pt x="18157" y="2977"/>
                </a:cubicBezTo>
                <a:cubicBezTo>
                  <a:pt x="18128" y="3042"/>
                  <a:pt x="18103" y="3073"/>
                  <a:pt x="18033" y="3076"/>
                </a:cubicBezTo>
                <a:cubicBezTo>
                  <a:pt x="17951" y="3080"/>
                  <a:pt x="17867" y="3076"/>
                  <a:pt x="17785" y="30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5"/>
          <p:cNvSpPr/>
          <p:nvPr/>
        </p:nvSpPr>
        <p:spPr>
          <a:xfrm>
            <a:off x="4313160" y="1384200"/>
            <a:ext cx="330120" cy="384120"/>
          </a:xfrm>
          <a:custGeom>
            <a:avLst/>
            <a:gdLst/>
            <a:ahLst/>
            <a:rect l="l" t="t" r="r" b="b"/>
            <a:pathLst>
              <a:path w="918" h="1067">
                <a:moveTo>
                  <a:pt x="11981" y="3845"/>
                </a:moveTo>
                <a:cubicBezTo>
                  <a:pt x="11989" y="3925"/>
                  <a:pt x="12005" y="3983"/>
                  <a:pt x="12005" y="4068"/>
                </a:cubicBezTo>
                <a:cubicBezTo>
                  <a:pt x="12005" y="4197"/>
                  <a:pt x="12015" y="4315"/>
                  <a:pt x="12030" y="4440"/>
                </a:cubicBezTo>
                <a:cubicBezTo>
                  <a:pt x="12046" y="4581"/>
                  <a:pt x="12033" y="4726"/>
                  <a:pt x="12055" y="4862"/>
                </a:cubicBezTo>
                <a:cubicBezTo>
                  <a:pt x="12055" y="4903"/>
                  <a:pt x="12055" y="4927"/>
                  <a:pt x="12055" y="4887"/>
                </a:cubicBezTo>
              </a:path>
              <a:path w="918" h="1067">
                <a:moveTo>
                  <a:pt x="12328" y="4440"/>
                </a:moveTo>
                <a:cubicBezTo>
                  <a:pt x="12458" y="4440"/>
                  <a:pt x="12574" y="4432"/>
                  <a:pt x="12700" y="4415"/>
                </a:cubicBezTo>
                <a:cubicBezTo>
                  <a:pt x="12763" y="4406"/>
                  <a:pt x="12874" y="4403"/>
                  <a:pt x="12898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6"/>
          <p:cNvSpPr/>
          <p:nvPr/>
        </p:nvSpPr>
        <p:spPr>
          <a:xfrm>
            <a:off x="4786200" y="1177920"/>
            <a:ext cx="2170080" cy="563400"/>
          </a:xfrm>
          <a:custGeom>
            <a:avLst/>
            <a:gdLst/>
            <a:ahLst/>
            <a:rect l="l" t="t" r="r" b="b"/>
            <a:pathLst>
              <a:path w="6029" h="1564">
                <a:moveTo>
                  <a:pt x="13519" y="3944"/>
                </a:moveTo>
                <a:cubicBezTo>
                  <a:pt x="13496" y="4006"/>
                  <a:pt x="13475" y="4137"/>
                  <a:pt x="13494" y="4217"/>
                </a:cubicBezTo>
                <a:cubicBezTo>
                  <a:pt x="13514" y="4300"/>
                  <a:pt x="13503" y="4380"/>
                  <a:pt x="13519" y="4465"/>
                </a:cubicBezTo>
                <a:cubicBezTo>
                  <a:pt x="13536" y="4557"/>
                  <a:pt x="13579" y="4648"/>
                  <a:pt x="13593" y="4738"/>
                </a:cubicBezTo>
                <a:cubicBezTo>
                  <a:pt x="13593" y="4754"/>
                  <a:pt x="13593" y="4771"/>
                  <a:pt x="13593" y="4787"/>
                </a:cubicBezTo>
              </a:path>
              <a:path w="6029" h="1564">
                <a:moveTo>
                  <a:pt x="13295" y="4341"/>
                </a:moveTo>
                <a:cubicBezTo>
                  <a:pt x="13388" y="4301"/>
                  <a:pt x="13466" y="4270"/>
                  <a:pt x="13568" y="4266"/>
                </a:cubicBezTo>
                <a:cubicBezTo>
                  <a:pt x="13634" y="4266"/>
                  <a:pt x="13651" y="4266"/>
                  <a:pt x="13692" y="4266"/>
                </a:cubicBezTo>
              </a:path>
              <a:path w="6029" h="1564">
                <a:moveTo>
                  <a:pt x="14089" y="4242"/>
                </a:moveTo>
                <a:cubicBezTo>
                  <a:pt x="14036" y="4272"/>
                  <a:pt x="13951" y="4330"/>
                  <a:pt x="13915" y="4366"/>
                </a:cubicBezTo>
                <a:cubicBezTo>
                  <a:pt x="13885" y="4396"/>
                  <a:pt x="13821" y="4544"/>
                  <a:pt x="13816" y="4589"/>
                </a:cubicBezTo>
                <a:cubicBezTo>
                  <a:pt x="13816" y="4690"/>
                  <a:pt x="13806" y="4711"/>
                  <a:pt x="13841" y="4762"/>
                </a:cubicBezTo>
                <a:cubicBezTo>
                  <a:pt x="13938" y="4762"/>
                  <a:pt x="13966" y="4756"/>
                  <a:pt x="14039" y="4688"/>
                </a:cubicBezTo>
                <a:cubicBezTo>
                  <a:pt x="14077" y="4652"/>
                  <a:pt x="14086" y="4566"/>
                  <a:pt x="14089" y="4514"/>
                </a:cubicBezTo>
                <a:cubicBezTo>
                  <a:pt x="14093" y="4439"/>
                  <a:pt x="14090" y="4384"/>
                  <a:pt x="14064" y="4316"/>
                </a:cubicBezTo>
                <a:cubicBezTo>
                  <a:pt x="14064" y="4405"/>
                  <a:pt x="14074" y="4489"/>
                  <a:pt x="14089" y="4564"/>
                </a:cubicBezTo>
                <a:cubicBezTo>
                  <a:pt x="14102" y="4628"/>
                  <a:pt x="14125" y="4671"/>
                  <a:pt x="14188" y="4713"/>
                </a:cubicBezTo>
                <a:cubicBezTo>
                  <a:pt x="14238" y="4738"/>
                  <a:pt x="14255" y="4746"/>
                  <a:pt x="14288" y="4713"/>
                </a:cubicBezTo>
              </a:path>
              <a:path w="6029" h="1564">
                <a:moveTo>
                  <a:pt x="14337" y="4341"/>
                </a:moveTo>
                <a:cubicBezTo>
                  <a:pt x="14358" y="4445"/>
                  <a:pt x="14362" y="4532"/>
                  <a:pt x="14362" y="4638"/>
                </a:cubicBezTo>
                <a:cubicBezTo>
                  <a:pt x="14362" y="4694"/>
                  <a:pt x="14385" y="4742"/>
                  <a:pt x="14412" y="4787"/>
                </a:cubicBezTo>
                <a:cubicBezTo>
                  <a:pt x="14412" y="4674"/>
                  <a:pt x="14419" y="4571"/>
                  <a:pt x="14436" y="4465"/>
                </a:cubicBezTo>
                <a:cubicBezTo>
                  <a:pt x="14447" y="4399"/>
                  <a:pt x="14466" y="4345"/>
                  <a:pt x="14511" y="4291"/>
                </a:cubicBezTo>
                <a:cubicBezTo>
                  <a:pt x="14555" y="4247"/>
                  <a:pt x="14565" y="4230"/>
                  <a:pt x="14610" y="4242"/>
                </a:cubicBezTo>
                <a:cubicBezTo>
                  <a:pt x="14642" y="4273"/>
                  <a:pt x="14698" y="4325"/>
                  <a:pt x="14709" y="4366"/>
                </a:cubicBezTo>
                <a:cubicBezTo>
                  <a:pt x="14728" y="4437"/>
                  <a:pt x="14734" y="4514"/>
                  <a:pt x="14734" y="4589"/>
                </a:cubicBezTo>
                <a:cubicBezTo>
                  <a:pt x="14734" y="4658"/>
                  <a:pt x="14693" y="4824"/>
                  <a:pt x="14759" y="4738"/>
                </a:cubicBezTo>
              </a:path>
              <a:path w="6029" h="1564">
                <a:moveTo>
                  <a:pt x="14982" y="4043"/>
                </a:moveTo>
                <a:cubicBezTo>
                  <a:pt x="15054" y="3987"/>
                  <a:pt x="15119" y="3932"/>
                  <a:pt x="15205" y="3994"/>
                </a:cubicBezTo>
                <a:cubicBezTo>
                  <a:pt x="15289" y="4054"/>
                  <a:pt x="15239" y="4124"/>
                  <a:pt x="15205" y="4192"/>
                </a:cubicBezTo>
                <a:cubicBezTo>
                  <a:pt x="15165" y="4272"/>
                  <a:pt x="15125" y="4267"/>
                  <a:pt x="15056" y="4316"/>
                </a:cubicBezTo>
                <a:cubicBezTo>
                  <a:pt x="15048" y="4324"/>
                  <a:pt x="15040" y="4333"/>
                  <a:pt x="15032" y="4341"/>
                </a:cubicBezTo>
                <a:cubicBezTo>
                  <a:pt x="15101" y="4341"/>
                  <a:pt x="15149" y="4337"/>
                  <a:pt x="15205" y="4366"/>
                </a:cubicBezTo>
                <a:cubicBezTo>
                  <a:pt x="15283" y="4407"/>
                  <a:pt x="15329" y="4469"/>
                  <a:pt x="15304" y="4564"/>
                </a:cubicBezTo>
                <a:cubicBezTo>
                  <a:pt x="15289" y="4618"/>
                  <a:pt x="15225" y="4683"/>
                  <a:pt x="15180" y="4713"/>
                </a:cubicBezTo>
                <a:cubicBezTo>
                  <a:pt x="15144" y="4737"/>
                  <a:pt x="15002" y="4774"/>
                  <a:pt x="14982" y="4713"/>
                </a:cubicBezTo>
                <a:cubicBezTo>
                  <a:pt x="14982" y="4688"/>
                  <a:pt x="14982" y="4663"/>
                  <a:pt x="14982" y="4638"/>
                </a:cubicBezTo>
              </a:path>
              <a:path w="6029" h="1564">
                <a:moveTo>
                  <a:pt x="15553" y="4118"/>
                </a:moveTo>
                <a:cubicBezTo>
                  <a:pt x="15544" y="4221"/>
                  <a:pt x="15511" y="4314"/>
                  <a:pt x="15478" y="4415"/>
                </a:cubicBezTo>
                <a:cubicBezTo>
                  <a:pt x="15456" y="4483"/>
                  <a:pt x="15416" y="4591"/>
                  <a:pt x="15429" y="4663"/>
                </a:cubicBezTo>
                <a:cubicBezTo>
                  <a:pt x="15443" y="4738"/>
                  <a:pt x="15484" y="4833"/>
                  <a:pt x="15577" y="4812"/>
                </a:cubicBezTo>
                <a:cubicBezTo>
                  <a:pt x="15711" y="4782"/>
                  <a:pt x="15731" y="4655"/>
                  <a:pt x="15751" y="4539"/>
                </a:cubicBezTo>
                <a:cubicBezTo>
                  <a:pt x="15762" y="4471"/>
                  <a:pt x="15753" y="4395"/>
                  <a:pt x="15726" y="4341"/>
                </a:cubicBezTo>
                <a:cubicBezTo>
                  <a:pt x="15693" y="4276"/>
                  <a:pt x="15665" y="4210"/>
                  <a:pt x="15602" y="4167"/>
                </a:cubicBezTo>
                <a:cubicBezTo>
                  <a:pt x="15540" y="4125"/>
                  <a:pt x="15541" y="4129"/>
                  <a:pt x="15577" y="4068"/>
                </a:cubicBezTo>
              </a:path>
              <a:path w="6029" h="1564">
                <a:moveTo>
                  <a:pt x="16247" y="3870"/>
                </a:moveTo>
                <a:cubicBezTo>
                  <a:pt x="16256" y="3940"/>
                  <a:pt x="16272" y="3995"/>
                  <a:pt x="16272" y="4068"/>
                </a:cubicBezTo>
                <a:cubicBezTo>
                  <a:pt x="16272" y="4216"/>
                  <a:pt x="16277" y="4349"/>
                  <a:pt x="16297" y="4490"/>
                </a:cubicBezTo>
                <a:cubicBezTo>
                  <a:pt x="16307" y="4557"/>
                  <a:pt x="16311" y="4624"/>
                  <a:pt x="16321" y="4688"/>
                </a:cubicBezTo>
                <a:cubicBezTo>
                  <a:pt x="16321" y="4705"/>
                  <a:pt x="16321" y="4721"/>
                  <a:pt x="16321" y="4738"/>
                </a:cubicBezTo>
              </a:path>
              <a:path w="6029" h="1564">
                <a:moveTo>
                  <a:pt x="16049" y="4291"/>
                </a:moveTo>
                <a:cubicBezTo>
                  <a:pt x="16090" y="4249"/>
                  <a:pt x="16138" y="4225"/>
                  <a:pt x="16197" y="4217"/>
                </a:cubicBezTo>
                <a:cubicBezTo>
                  <a:pt x="16290" y="4205"/>
                  <a:pt x="16374" y="4200"/>
                  <a:pt x="16470" y="4192"/>
                </a:cubicBezTo>
                <a:cubicBezTo>
                  <a:pt x="16631" y="4174"/>
                  <a:pt x="16661" y="4120"/>
                  <a:pt x="16718" y="4192"/>
                </a:cubicBezTo>
                <a:cubicBezTo>
                  <a:pt x="16707" y="4274"/>
                  <a:pt x="16680" y="4287"/>
                  <a:pt x="16619" y="4341"/>
                </a:cubicBezTo>
                <a:cubicBezTo>
                  <a:pt x="16531" y="4418"/>
                  <a:pt x="16527" y="4462"/>
                  <a:pt x="16495" y="4564"/>
                </a:cubicBezTo>
                <a:cubicBezTo>
                  <a:pt x="16470" y="4644"/>
                  <a:pt x="16471" y="4766"/>
                  <a:pt x="16594" y="4738"/>
                </a:cubicBezTo>
                <a:cubicBezTo>
                  <a:pt x="16636" y="4729"/>
                  <a:pt x="16694" y="4675"/>
                  <a:pt x="16718" y="4638"/>
                </a:cubicBezTo>
                <a:cubicBezTo>
                  <a:pt x="16763" y="4569"/>
                  <a:pt x="16789" y="4518"/>
                  <a:pt x="16793" y="4440"/>
                </a:cubicBezTo>
                <a:cubicBezTo>
                  <a:pt x="16798" y="4351"/>
                  <a:pt x="16786" y="4315"/>
                  <a:pt x="16743" y="4242"/>
                </a:cubicBezTo>
                <a:cubicBezTo>
                  <a:pt x="16751" y="4327"/>
                  <a:pt x="16749" y="4431"/>
                  <a:pt x="16768" y="4514"/>
                </a:cubicBezTo>
                <a:cubicBezTo>
                  <a:pt x="16782" y="4577"/>
                  <a:pt x="16836" y="4635"/>
                  <a:pt x="16867" y="4688"/>
                </a:cubicBezTo>
                <a:cubicBezTo>
                  <a:pt x="16915" y="4768"/>
                  <a:pt x="16938" y="4739"/>
                  <a:pt x="17016" y="4713"/>
                </a:cubicBezTo>
              </a:path>
              <a:path w="6029" h="1564">
                <a:moveTo>
                  <a:pt x="17066" y="4316"/>
                </a:moveTo>
                <a:cubicBezTo>
                  <a:pt x="17066" y="4391"/>
                  <a:pt x="17053" y="4445"/>
                  <a:pt x="17041" y="4514"/>
                </a:cubicBezTo>
                <a:cubicBezTo>
                  <a:pt x="17036" y="4543"/>
                  <a:pt x="17041" y="4769"/>
                  <a:pt x="17041" y="4638"/>
                </a:cubicBezTo>
                <a:cubicBezTo>
                  <a:pt x="17041" y="4532"/>
                  <a:pt x="17050" y="4439"/>
                  <a:pt x="17066" y="4341"/>
                </a:cubicBezTo>
                <a:cubicBezTo>
                  <a:pt x="17076" y="4280"/>
                  <a:pt x="17091" y="4214"/>
                  <a:pt x="17165" y="4192"/>
                </a:cubicBezTo>
                <a:cubicBezTo>
                  <a:pt x="17239" y="4170"/>
                  <a:pt x="17296" y="4207"/>
                  <a:pt x="17338" y="4266"/>
                </a:cubicBezTo>
                <a:cubicBezTo>
                  <a:pt x="17366" y="4306"/>
                  <a:pt x="17399" y="4440"/>
                  <a:pt x="17388" y="4490"/>
                </a:cubicBezTo>
                <a:cubicBezTo>
                  <a:pt x="17373" y="4557"/>
                  <a:pt x="17348" y="4651"/>
                  <a:pt x="17314" y="4713"/>
                </a:cubicBezTo>
                <a:cubicBezTo>
                  <a:pt x="17290" y="4756"/>
                  <a:pt x="17288" y="4750"/>
                  <a:pt x="17338" y="4762"/>
                </a:cubicBezTo>
              </a:path>
              <a:path w="6029" h="1564">
                <a:moveTo>
                  <a:pt x="17636" y="4093"/>
                </a:moveTo>
                <a:cubicBezTo>
                  <a:pt x="17636" y="4174"/>
                  <a:pt x="17631" y="4239"/>
                  <a:pt x="17661" y="4316"/>
                </a:cubicBezTo>
                <a:cubicBezTo>
                  <a:pt x="17695" y="4405"/>
                  <a:pt x="17811" y="4411"/>
                  <a:pt x="17884" y="4366"/>
                </a:cubicBezTo>
                <a:cubicBezTo>
                  <a:pt x="17892" y="4358"/>
                  <a:pt x="17901" y="4349"/>
                  <a:pt x="17909" y="4341"/>
                </a:cubicBezTo>
              </a:path>
              <a:path w="6029" h="1564">
                <a:moveTo>
                  <a:pt x="17934" y="3944"/>
                </a:moveTo>
                <a:cubicBezTo>
                  <a:pt x="17864" y="4002"/>
                  <a:pt x="17887" y="4051"/>
                  <a:pt x="17859" y="4142"/>
                </a:cubicBezTo>
                <a:cubicBezTo>
                  <a:pt x="17828" y="4242"/>
                  <a:pt x="17815" y="4360"/>
                  <a:pt x="17810" y="4465"/>
                </a:cubicBezTo>
                <a:cubicBezTo>
                  <a:pt x="17806" y="4546"/>
                  <a:pt x="17799" y="4620"/>
                  <a:pt x="17785" y="4688"/>
                </a:cubicBezTo>
                <a:cubicBezTo>
                  <a:pt x="17762" y="4802"/>
                  <a:pt x="17831" y="4669"/>
                  <a:pt x="17835" y="4638"/>
                </a:cubicBezTo>
              </a:path>
              <a:path w="6029" h="1564">
                <a:moveTo>
                  <a:pt x="18207" y="3969"/>
                </a:moveTo>
                <a:cubicBezTo>
                  <a:pt x="18322" y="3951"/>
                  <a:pt x="18439" y="3925"/>
                  <a:pt x="18554" y="3919"/>
                </a:cubicBezTo>
                <a:cubicBezTo>
                  <a:pt x="18611" y="3916"/>
                  <a:pt x="18622" y="3902"/>
                  <a:pt x="18678" y="3894"/>
                </a:cubicBezTo>
              </a:path>
              <a:path w="6029" h="1564">
                <a:moveTo>
                  <a:pt x="18256" y="3994"/>
                </a:moveTo>
                <a:cubicBezTo>
                  <a:pt x="18224" y="4047"/>
                  <a:pt x="18096" y="4198"/>
                  <a:pt x="18132" y="4291"/>
                </a:cubicBezTo>
                <a:cubicBezTo>
                  <a:pt x="18140" y="4299"/>
                  <a:pt x="18149" y="4308"/>
                  <a:pt x="18157" y="4316"/>
                </a:cubicBezTo>
                <a:cubicBezTo>
                  <a:pt x="18219" y="4254"/>
                  <a:pt x="18258" y="4236"/>
                  <a:pt x="18331" y="4192"/>
                </a:cubicBezTo>
                <a:cubicBezTo>
                  <a:pt x="18405" y="4147"/>
                  <a:pt x="18418" y="4128"/>
                  <a:pt x="18504" y="4167"/>
                </a:cubicBezTo>
                <a:cubicBezTo>
                  <a:pt x="18574" y="4199"/>
                  <a:pt x="18575" y="4290"/>
                  <a:pt x="18579" y="4366"/>
                </a:cubicBezTo>
                <a:cubicBezTo>
                  <a:pt x="18584" y="4464"/>
                  <a:pt x="18564" y="4546"/>
                  <a:pt x="18529" y="4638"/>
                </a:cubicBezTo>
                <a:cubicBezTo>
                  <a:pt x="18493" y="4733"/>
                  <a:pt x="18456" y="4734"/>
                  <a:pt x="18380" y="4787"/>
                </a:cubicBezTo>
                <a:cubicBezTo>
                  <a:pt x="18333" y="4820"/>
                  <a:pt x="18268" y="4834"/>
                  <a:pt x="18207" y="4837"/>
                </a:cubicBezTo>
                <a:cubicBezTo>
                  <a:pt x="18139" y="4841"/>
                  <a:pt x="18083" y="4806"/>
                  <a:pt x="18033" y="4762"/>
                </a:cubicBezTo>
                <a:cubicBezTo>
                  <a:pt x="17998" y="4729"/>
                  <a:pt x="17990" y="4707"/>
                  <a:pt x="18008" y="4663"/>
                </a:cubicBezTo>
              </a:path>
              <a:path w="6029" h="1564">
                <a:moveTo>
                  <a:pt x="18876" y="3324"/>
                </a:moveTo>
                <a:cubicBezTo>
                  <a:pt x="18950" y="3317"/>
                  <a:pt x="19024" y="3315"/>
                  <a:pt x="19100" y="3299"/>
                </a:cubicBezTo>
                <a:cubicBezTo>
                  <a:pt x="19157" y="3280"/>
                  <a:pt x="19164" y="3271"/>
                  <a:pt x="19199" y="3274"/>
                </a:cubicBezTo>
              </a:path>
              <a:path w="6029" h="1564">
                <a:moveTo>
                  <a:pt x="18926" y="3547"/>
                </a:moveTo>
                <a:cubicBezTo>
                  <a:pt x="19011" y="3536"/>
                  <a:pt x="19083" y="3522"/>
                  <a:pt x="19174" y="3522"/>
                </a:cubicBezTo>
                <a:cubicBezTo>
                  <a:pt x="19250" y="3522"/>
                  <a:pt x="19276" y="3523"/>
                  <a:pt x="19323" y="35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7"/>
          <p:cNvSpPr/>
          <p:nvPr/>
        </p:nvSpPr>
        <p:spPr>
          <a:xfrm>
            <a:off x="938160" y="1214280"/>
            <a:ext cx="2419560" cy="660600"/>
          </a:xfrm>
          <a:custGeom>
            <a:avLst/>
            <a:gdLst/>
            <a:ahLst/>
            <a:rect l="l" t="t" r="r" b="b"/>
            <a:pathLst>
              <a:path w="6724" h="1837">
                <a:moveTo>
                  <a:pt x="2753" y="4837"/>
                </a:moveTo>
                <a:cubicBezTo>
                  <a:pt x="2779" y="4761"/>
                  <a:pt x="2782" y="4736"/>
                  <a:pt x="2828" y="4663"/>
                </a:cubicBezTo>
                <a:cubicBezTo>
                  <a:pt x="2854" y="4622"/>
                  <a:pt x="2895" y="4575"/>
                  <a:pt x="2927" y="4539"/>
                </a:cubicBezTo>
                <a:cubicBezTo>
                  <a:pt x="3013" y="4444"/>
                  <a:pt x="3122" y="4364"/>
                  <a:pt x="3225" y="4291"/>
                </a:cubicBezTo>
                <a:cubicBezTo>
                  <a:pt x="3319" y="4225"/>
                  <a:pt x="3420" y="4191"/>
                  <a:pt x="3522" y="4142"/>
                </a:cubicBezTo>
                <a:cubicBezTo>
                  <a:pt x="3686" y="4064"/>
                  <a:pt x="3856" y="4036"/>
                  <a:pt x="4018" y="3969"/>
                </a:cubicBezTo>
                <a:cubicBezTo>
                  <a:pt x="4152" y="3914"/>
                  <a:pt x="4289" y="3860"/>
                  <a:pt x="4440" y="3845"/>
                </a:cubicBezTo>
                <a:cubicBezTo>
                  <a:pt x="4589" y="3830"/>
                  <a:pt x="4736" y="3820"/>
                  <a:pt x="4887" y="3820"/>
                </a:cubicBezTo>
                <a:cubicBezTo>
                  <a:pt x="5175" y="3820"/>
                  <a:pt x="5447" y="3811"/>
                  <a:pt x="5730" y="3870"/>
                </a:cubicBezTo>
                <a:cubicBezTo>
                  <a:pt x="5940" y="3914"/>
                  <a:pt x="6153" y="3960"/>
                  <a:pt x="6350" y="4043"/>
                </a:cubicBezTo>
                <a:cubicBezTo>
                  <a:pt x="6476" y="4096"/>
                  <a:pt x="6597" y="4171"/>
                  <a:pt x="6722" y="4217"/>
                </a:cubicBezTo>
                <a:cubicBezTo>
                  <a:pt x="6829" y="4256"/>
                  <a:pt x="6930" y="4311"/>
                  <a:pt x="7020" y="4390"/>
                </a:cubicBezTo>
                <a:cubicBezTo>
                  <a:pt x="7146" y="4500"/>
                  <a:pt x="7269" y="4597"/>
                  <a:pt x="7392" y="4713"/>
                </a:cubicBezTo>
                <a:cubicBezTo>
                  <a:pt x="7441" y="4760"/>
                  <a:pt x="7468" y="4819"/>
                  <a:pt x="7516" y="4862"/>
                </a:cubicBezTo>
                <a:cubicBezTo>
                  <a:pt x="7539" y="4883"/>
                  <a:pt x="7540" y="4868"/>
                  <a:pt x="7565" y="4887"/>
                </a:cubicBezTo>
              </a:path>
              <a:path w="6724" h="1837">
                <a:moveTo>
                  <a:pt x="7516" y="4688"/>
                </a:moveTo>
                <a:cubicBezTo>
                  <a:pt x="7543" y="4736"/>
                  <a:pt x="7625" y="4792"/>
                  <a:pt x="7640" y="4837"/>
                </a:cubicBezTo>
                <a:cubicBezTo>
                  <a:pt x="7660" y="4897"/>
                  <a:pt x="7682" y="4947"/>
                  <a:pt x="7714" y="5011"/>
                </a:cubicBezTo>
                <a:cubicBezTo>
                  <a:pt x="7733" y="5048"/>
                  <a:pt x="7803" y="5099"/>
                  <a:pt x="7813" y="5135"/>
                </a:cubicBezTo>
                <a:cubicBezTo>
                  <a:pt x="7836" y="5217"/>
                  <a:pt x="7746" y="5225"/>
                  <a:pt x="7689" y="5209"/>
                </a:cubicBezTo>
                <a:cubicBezTo>
                  <a:pt x="7630" y="5193"/>
                  <a:pt x="7544" y="5179"/>
                  <a:pt x="7491" y="5159"/>
                </a:cubicBezTo>
                <a:cubicBezTo>
                  <a:pt x="7427" y="5135"/>
                  <a:pt x="7376" y="5080"/>
                  <a:pt x="7293" y="5110"/>
                </a:cubicBezTo>
                <a:cubicBezTo>
                  <a:pt x="7285" y="5118"/>
                  <a:pt x="7276" y="5127"/>
                  <a:pt x="7268" y="5135"/>
                </a:cubicBezTo>
              </a:path>
              <a:path w="6724" h="1837">
                <a:moveTo>
                  <a:pt x="2604" y="4738"/>
                </a:moveTo>
                <a:cubicBezTo>
                  <a:pt x="2639" y="4682"/>
                  <a:pt x="2673" y="4622"/>
                  <a:pt x="2704" y="4564"/>
                </a:cubicBezTo>
                <a:cubicBezTo>
                  <a:pt x="2739" y="4499"/>
                  <a:pt x="2786" y="4440"/>
                  <a:pt x="2828" y="4390"/>
                </a:cubicBezTo>
                <a:cubicBezTo>
                  <a:pt x="2872" y="4337"/>
                  <a:pt x="2943" y="4267"/>
                  <a:pt x="3001" y="4217"/>
                </a:cubicBezTo>
                <a:cubicBezTo>
                  <a:pt x="3112" y="4122"/>
                  <a:pt x="3222" y="4019"/>
                  <a:pt x="3349" y="3944"/>
                </a:cubicBezTo>
                <a:cubicBezTo>
                  <a:pt x="3477" y="3869"/>
                  <a:pt x="3615" y="3834"/>
                  <a:pt x="3746" y="3770"/>
                </a:cubicBezTo>
                <a:cubicBezTo>
                  <a:pt x="3897" y="3696"/>
                  <a:pt x="4053" y="3619"/>
                  <a:pt x="4217" y="3572"/>
                </a:cubicBezTo>
                <a:cubicBezTo>
                  <a:pt x="4444" y="3506"/>
                  <a:pt x="4678" y="3462"/>
                  <a:pt x="4911" y="3423"/>
                </a:cubicBezTo>
                <a:cubicBezTo>
                  <a:pt x="5123" y="3387"/>
                  <a:pt x="5341" y="3377"/>
                  <a:pt x="5556" y="3373"/>
                </a:cubicBezTo>
                <a:cubicBezTo>
                  <a:pt x="5879" y="3367"/>
                  <a:pt x="6180" y="3401"/>
                  <a:pt x="6499" y="3448"/>
                </a:cubicBezTo>
                <a:cubicBezTo>
                  <a:pt x="6712" y="3479"/>
                  <a:pt x="6914" y="3510"/>
                  <a:pt x="7119" y="3572"/>
                </a:cubicBezTo>
                <a:cubicBezTo>
                  <a:pt x="7431" y="3667"/>
                  <a:pt x="7762" y="3770"/>
                  <a:pt x="8062" y="3894"/>
                </a:cubicBezTo>
                <a:cubicBezTo>
                  <a:pt x="8217" y="3958"/>
                  <a:pt x="8393" y="4054"/>
                  <a:pt x="8533" y="4142"/>
                </a:cubicBezTo>
                <a:cubicBezTo>
                  <a:pt x="8685" y="4238"/>
                  <a:pt x="8844" y="4347"/>
                  <a:pt x="8979" y="4465"/>
                </a:cubicBezTo>
                <a:cubicBezTo>
                  <a:pt x="9047" y="4524"/>
                  <a:pt x="9082" y="4559"/>
                  <a:pt x="9153" y="4614"/>
                </a:cubicBezTo>
              </a:path>
              <a:path w="6724" h="1837">
                <a:moveTo>
                  <a:pt x="9103" y="4341"/>
                </a:moveTo>
                <a:cubicBezTo>
                  <a:pt x="9156" y="4394"/>
                  <a:pt x="9185" y="4454"/>
                  <a:pt x="9227" y="4514"/>
                </a:cubicBezTo>
                <a:cubicBezTo>
                  <a:pt x="9262" y="4563"/>
                  <a:pt x="9313" y="4627"/>
                  <a:pt x="9327" y="4688"/>
                </a:cubicBezTo>
                <a:cubicBezTo>
                  <a:pt x="9340" y="4745"/>
                  <a:pt x="9338" y="4858"/>
                  <a:pt x="9252" y="4837"/>
                </a:cubicBezTo>
                <a:cubicBezTo>
                  <a:pt x="9203" y="4825"/>
                  <a:pt x="9135" y="4796"/>
                  <a:pt x="9079" y="4787"/>
                </a:cubicBezTo>
                <a:cubicBezTo>
                  <a:pt x="9011" y="4776"/>
                  <a:pt x="8954" y="4746"/>
                  <a:pt x="8880" y="4738"/>
                </a:cubicBezTo>
                <a:cubicBezTo>
                  <a:pt x="8855" y="4738"/>
                  <a:pt x="8831" y="4738"/>
                  <a:pt x="8806" y="4738"/>
                </a:cubicBezTo>
              </a:path>
              <a:path w="6724" h="1837">
                <a:moveTo>
                  <a:pt x="5531" y="5135"/>
                </a:moveTo>
                <a:cubicBezTo>
                  <a:pt x="5565" y="5092"/>
                  <a:pt x="5592" y="5051"/>
                  <a:pt x="5631" y="5011"/>
                </a:cubicBezTo>
                <a:cubicBezTo>
                  <a:pt x="5679" y="4963"/>
                  <a:pt x="5719" y="4920"/>
                  <a:pt x="5779" y="4887"/>
                </a:cubicBezTo>
                <a:cubicBezTo>
                  <a:pt x="5866" y="4839"/>
                  <a:pt x="5958" y="4794"/>
                  <a:pt x="6052" y="4762"/>
                </a:cubicBezTo>
                <a:cubicBezTo>
                  <a:pt x="6155" y="4727"/>
                  <a:pt x="6218" y="4726"/>
                  <a:pt x="6325" y="4713"/>
                </a:cubicBezTo>
                <a:cubicBezTo>
                  <a:pt x="6481" y="4694"/>
                  <a:pt x="6547" y="4695"/>
                  <a:pt x="6697" y="4713"/>
                </a:cubicBezTo>
                <a:cubicBezTo>
                  <a:pt x="6811" y="4727"/>
                  <a:pt x="6881" y="4738"/>
                  <a:pt x="6995" y="4787"/>
                </a:cubicBezTo>
                <a:cubicBezTo>
                  <a:pt x="7039" y="4806"/>
                  <a:pt x="7079" y="4876"/>
                  <a:pt x="7119" y="4887"/>
                </a:cubicBezTo>
                <a:cubicBezTo>
                  <a:pt x="7161" y="4887"/>
                  <a:pt x="7177" y="4895"/>
                  <a:pt x="7169" y="4862"/>
                </a:cubicBezTo>
              </a:path>
              <a:path w="6724" h="1837">
                <a:moveTo>
                  <a:pt x="7069" y="4638"/>
                </a:moveTo>
                <a:cubicBezTo>
                  <a:pt x="7099" y="4690"/>
                  <a:pt x="7127" y="4720"/>
                  <a:pt x="7169" y="4762"/>
                </a:cubicBezTo>
                <a:cubicBezTo>
                  <a:pt x="7224" y="4817"/>
                  <a:pt x="7248" y="4845"/>
                  <a:pt x="7293" y="4911"/>
                </a:cubicBezTo>
                <a:cubicBezTo>
                  <a:pt x="7318" y="4948"/>
                  <a:pt x="7361" y="4980"/>
                  <a:pt x="7392" y="5011"/>
                </a:cubicBezTo>
                <a:cubicBezTo>
                  <a:pt x="7306" y="5078"/>
                  <a:pt x="7294" y="5047"/>
                  <a:pt x="7193" y="5035"/>
                </a:cubicBezTo>
                <a:cubicBezTo>
                  <a:pt x="7105" y="5025"/>
                  <a:pt x="7009" y="5035"/>
                  <a:pt x="6921" y="5035"/>
                </a:cubicBezTo>
              </a:path>
              <a:path w="6724" h="1837">
                <a:moveTo>
                  <a:pt x="5457" y="5035"/>
                </a:moveTo>
                <a:cubicBezTo>
                  <a:pt x="5501" y="4986"/>
                  <a:pt x="5539" y="4936"/>
                  <a:pt x="5581" y="4887"/>
                </a:cubicBezTo>
                <a:cubicBezTo>
                  <a:pt x="5630" y="4830"/>
                  <a:pt x="5690" y="4774"/>
                  <a:pt x="5755" y="4738"/>
                </a:cubicBezTo>
                <a:cubicBezTo>
                  <a:pt x="5915" y="4648"/>
                  <a:pt x="6090" y="4592"/>
                  <a:pt x="6251" y="4514"/>
                </a:cubicBezTo>
                <a:cubicBezTo>
                  <a:pt x="6397" y="4444"/>
                  <a:pt x="6537" y="4424"/>
                  <a:pt x="6697" y="4390"/>
                </a:cubicBezTo>
                <a:cubicBezTo>
                  <a:pt x="6853" y="4357"/>
                  <a:pt x="7011" y="4326"/>
                  <a:pt x="7169" y="4316"/>
                </a:cubicBezTo>
                <a:cubicBezTo>
                  <a:pt x="7394" y="4302"/>
                  <a:pt x="7615" y="4327"/>
                  <a:pt x="7838" y="4341"/>
                </a:cubicBezTo>
                <a:cubicBezTo>
                  <a:pt x="8042" y="4354"/>
                  <a:pt x="8219" y="4396"/>
                  <a:pt x="8409" y="4465"/>
                </a:cubicBezTo>
                <a:cubicBezTo>
                  <a:pt x="8530" y="4509"/>
                  <a:pt x="8668" y="4554"/>
                  <a:pt x="8781" y="4614"/>
                </a:cubicBezTo>
                <a:cubicBezTo>
                  <a:pt x="8849" y="4650"/>
                  <a:pt x="8976" y="4752"/>
                  <a:pt x="9054" y="4762"/>
                </a:cubicBezTo>
                <a:cubicBezTo>
                  <a:pt x="9101" y="4786"/>
                  <a:pt x="9118" y="4796"/>
                  <a:pt x="9103" y="4738"/>
                </a:cubicBezTo>
              </a:path>
              <a:path w="6724" h="1837">
                <a:moveTo>
                  <a:pt x="9054" y="4539"/>
                </a:moveTo>
                <a:cubicBezTo>
                  <a:pt x="9103" y="4588"/>
                  <a:pt x="9146" y="4627"/>
                  <a:pt x="9178" y="4688"/>
                </a:cubicBezTo>
                <a:cubicBezTo>
                  <a:pt x="9196" y="4722"/>
                  <a:pt x="9268" y="4779"/>
                  <a:pt x="9277" y="4812"/>
                </a:cubicBezTo>
                <a:cubicBezTo>
                  <a:pt x="9301" y="4897"/>
                  <a:pt x="9157" y="4904"/>
                  <a:pt x="9103" y="4911"/>
                </a:cubicBezTo>
                <a:cubicBezTo>
                  <a:pt x="9020" y="4921"/>
                  <a:pt x="8935" y="4931"/>
                  <a:pt x="8855" y="4936"/>
                </a:cubicBezTo>
                <a:cubicBezTo>
                  <a:pt x="8814" y="4936"/>
                  <a:pt x="8806" y="4936"/>
                  <a:pt x="8781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8"/>
          <p:cNvSpPr/>
          <p:nvPr/>
        </p:nvSpPr>
        <p:spPr>
          <a:xfrm>
            <a:off x="4375080" y="1911240"/>
            <a:ext cx="3340080" cy="919440"/>
          </a:xfrm>
          <a:custGeom>
            <a:avLst/>
            <a:gdLst/>
            <a:ahLst/>
            <a:rect l="l" t="t" r="r" b="b"/>
            <a:pathLst>
              <a:path w="9278" h="2556">
                <a:moveTo>
                  <a:pt x="12328" y="6028"/>
                </a:moveTo>
                <a:cubicBezTo>
                  <a:pt x="12328" y="5932"/>
                  <a:pt x="12275" y="5339"/>
                  <a:pt x="12353" y="5308"/>
                </a:cubicBezTo>
                <a:cubicBezTo>
                  <a:pt x="12389" y="5294"/>
                  <a:pt x="12478" y="5333"/>
                  <a:pt x="12526" y="5333"/>
                </a:cubicBezTo>
                <a:cubicBezTo>
                  <a:pt x="12600" y="5333"/>
                  <a:pt x="12654" y="5354"/>
                  <a:pt x="12725" y="5358"/>
                </a:cubicBezTo>
                <a:cubicBezTo>
                  <a:pt x="12768" y="5360"/>
                  <a:pt x="12856" y="5367"/>
                  <a:pt x="12898" y="5383"/>
                </a:cubicBezTo>
                <a:cubicBezTo>
                  <a:pt x="12921" y="5405"/>
                  <a:pt x="12926" y="5413"/>
                  <a:pt x="12948" y="5407"/>
                </a:cubicBezTo>
              </a:path>
              <a:path w="9278" h="2556">
                <a:moveTo>
                  <a:pt x="12576" y="5631"/>
                </a:moveTo>
                <a:cubicBezTo>
                  <a:pt x="12620" y="5587"/>
                  <a:pt x="12651" y="5582"/>
                  <a:pt x="12700" y="5556"/>
                </a:cubicBezTo>
                <a:cubicBezTo>
                  <a:pt x="12738" y="5536"/>
                  <a:pt x="12870" y="5517"/>
                  <a:pt x="12898" y="5556"/>
                </a:cubicBezTo>
                <a:cubicBezTo>
                  <a:pt x="12943" y="5619"/>
                  <a:pt x="12873" y="5685"/>
                  <a:pt x="12824" y="5705"/>
                </a:cubicBezTo>
                <a:cubicBezTo>
                  <a:pt x="12755" y="5734"/>
                  <a:pt x="12748" y="5733"/>
                  <a:pt x="12700" y="5779"/>
                </a:cubicBezTo>
                <a:cubicBezTo>
                  <a:pt x="12770" y="5779"/>
                  <a:pt x="12843" y="5764"/>
                  <a:pt x="12898" y="5804"/>
                </a:cubicBezTo>
                <a:cubicBezTo>
                  <a:pt x="12944" y="5838"/>
                  <a:pt x="13015" y="5858"/>
                  <a:pt x="12998" y="5928"/>
                </a:cubicBezTo>
                <a:cubicBezTo>
                  <a:pt x="12985" y="5983"/>
                  <a:pt x="12897" y="6031"/>
                  <a:pt x="12849" y="6052"/>
                </a:cubicBezTo>
                <a:cubicBezTo>
                  <a:pt x="12788" y="6079"/>
                  <a:pt x="12751" y="6086"/>
                  <a:pt x="12700" y="6127"/>
                </a:cubicBezTo>
              </a:path>
              <a:path w="9278" h="2556">
                <a:moveTo>
                  <a:pt x="12154" y="6201"/>
                </a:moveTo>
                <a:cubicBezTo>
                  <a:pt x="12211" y="6247"/>
                  <a:pt x="12279" y="6265"/>
                  <a:pt x="12353" y="6276"/>
                </a:cubicBezTo>
                <a:cubicBezTo>
                  <a:pt x="12471" y="6293"/>
                  <a:pt x="12607" y="6291"/>
                  <a:pt x="12725" y="6300"/>
                </a:cubicBezTo>
                <a:cubicBezTo>
                  <a:pt x="12851" y="6310"/>
                  <a:pt x="12986" y="6298"/>
                  <a:pt x="13097" y="6276"/>
                </a:cubicBezTo>
                <a:cubicBezTo>
                  <a:pt x="13138" y="6276"/>
                  <a:pt x="13146" y="6276"/>
                  <a:pt x="13171" y="6276"/>
                </a:cubicBezTo>
              </a:path>
              <a:path w="9278" h="2556">
                <a:moveTo>
                  <a:pt x="12725" y="6548"/>
                </a:moveTo>
                <a:cubicBezTo>
                  <a:pt x="12777" y="6541"/>
                  <a:pt x="12841" y="6503"/>
                  <a:pt x="12898" y="6524"/>
                </a:cubicBezTo>
                <a:cubicBezTo>
                  <a:pt x="12934" y="6537"/>
                  <a:pt x="12965" y="6553"/>
                  <a:pt x="12998" y="6573"/>
                </a:cubicBezTo>
                <a:cubicBezTo>
                  <a:pt x="12973" y="6610"/>
                  <a:pt x="12951" y="6707"/>
                  <a:pt x="12898" y="6722"/>
                </a:cubicBezTo>
                <a:cubicBezTo>
                  <a:pt x="12882" y="6722"/>
                  <a:pt x="12865" y="6722"/>
                  <a:pt x="12849" y="6722"/>
                </a:cubicBezTo>
                <a:cubicBezTo>
                  <a:pt x="12895" y="6694"/>
                  <a:pt x="12948" y="6696"/>
                  <a:pt x="12998" y="6722"/>
                </a:cubicBezTo>
                <a:cubicBezTo>
                  <a:pt x="13041" y="6744"/>
                  <a:pt x="13087" y="6828"/>
                  <a:pt x="13097" y="6871"/>
                </a:cubicBezTo>
                <a:cubicBezTo>
                  <a:pt x="13112" y="6940"/>
                  <a:pt x="13104" y="6989"/>
                  <a:pt x="13097" y="7045"/>
                </a:cubicBezTo>
                <a:cubicBezTo>
                  <a:pt x="13091" y="7099"/>
                  <a:pt x="13073" y="7136"/>
                  <a:pt x="13022" y="7169"/>
                </a:cubicBezTo>
                <a:cubicBezTo>
                  <a:pt x="12937" y="7223"/>
                  <a:pt x="12883" y="7252"/>
                  <a:pt x="12774" y="7268"/>
                </a:cubicBezTo>
                <a:cubicBezTo>
                  <a:pt x="12716" y="7277"/>
                  <a:pt x="12695" y="7259"/>
                  <a:pt x="12675" y="7218"/>
                </a:cubicBezTo>
              </a:path>
              <a:path w="9278" h="2556">
                <a:moveTo>
                  <a:pt x="13841" y="6003"/>
                </a:moveTo>
                <a:cubicBezTo>
                  <a:pt x="13841" y="6193"/>
                  <a:pt x="13841" y="6383"/>
                  <a:pt x="13841" y="6573"/>
                </a:cubicBezTo>
              </a:path>
              <a:path w="9278" h="2556">
                <a:moveTo>
                  <a:pt x="13593" y="6201"/>
                </a:moveTo>
                <a:cubicBezTo>
                  <a:pt x="13808" y="6201"/>
                  <a:pt x="14023" y="6201"/>
                  <a:pt x="14238" y="6201"/>
                </a:cubicBezTo>
              </a:path>
              <a:path w="9278" h="2556">
                <a:moveTo>
                  <a:pt x="14833" y="5482"/>
                </a:moveTo>
                <a:cubicBezTo>
                  <a:pt x="14833" y="5474"/>
                  <a:pt x="14833" y="5465"/>
                  <a:pt x="14833" y="5457"/>
                </a:cubicBezTo>
              </a:path>
              <a:path w="9278" h="2556">
                <a:moveTo>
                  <a:pt x="14833" y="5482"/>
                </a:moveTo>
                <a:cubicBezTo>
                  <a:pt x="14841" y="5507"/>
                  <a:pt x="14850" y="5531"/>
                  <a:pt x="14858" y="5556"/>
                </a:cubicBezTo>
              </a:path>
              <a:path w="9278" h="2556">
                <a:moveTo>
                  <a:pt x="14858" y="5556"/>
                </a:moveTo>
                <a:cubicBezTo>
                  <a:pt x="14910" y="5622"/>
                  <a:pt x="14928" y="5646"/>
                  <a:pt x="14932" y="5730"/>
                </a:cubicBezTo>
                <a:cubicBezTo>
                  <a:pt x="14935" y="5787"/>
                  <a:pt x="14936" y="5900"/>
                  <a:pt x="14957" y="5953"/>
                </a:cubicBezTo>
                <a:cubicBezTo>
                  <a:pt x="14985" y="5981"/>
                  <a:pt x="14994" y="5995"/>
                  <a:pt x="14982" y="6028"/>
                </a:cubicBezTo>
              </a:path>
              <a:path w="9278" h="2556">
                <a:moveTo>
                  <a:pt x="14709" y="6152"/>
                </a:moveTo>
                <a:lnTo>
                  <a:pt x="14709" y="6152"/>
                </a:lnTo>
              </a:path>
              <a:path w="9278" h="2556">
                <a:moveTo>
                  <a:pt x="14709" y="6152"/>
                </a:moveTo>
                <a:cubicBezTo>
                  <a:pt x="14734" y="6160"/>
                  <a:pt x="14759" y="6168"/>
                  <a:pt x="14784" y="6176"/>
                </a:cubicBezTo>
              </a:path>
              <a:path w="9278" h="2556">
                <a:moveTo>
                  <a:pt x="14784" y="6176"/>
                </a:moveTo>
                <a:cubicBezTo>
                  <a:pt x="14860" y="6148"/>
                  <a:pt x="14924" y="6152"/>
                  <a:pt x="15007" y="6152"/>
                </a:cubicBezTo>
                <a:cubicBezTo>
                  <a:pt x="15097" y="6152"/>
                  <a:pt x="15171" y="6141"/>
                  <a:pt x="15255" y="6127"/>
                </a:cubicBezTo>
                <a:cubicBezTo>
                  <a:pt x="15322" y="6116"/>
                  <a:pt x="15387" y="6110"/>
                  <a:pt x="15453" y="6102"/>
                </a:cubicBezTo>
              </a:path>
              <a:path w="9278" h="2556">
                <a:moveTo>
                  <a:pt x="14982" y="6400"/>
                </a:moveTo>
                <a:cubicBezTo>
                  <a:pt x="15018" y="6364"/>
                  <a:pt x="15062" y="6334"/>
                  <a:pt x="15106" y="6325"/>
                </a:cubicBezTo>
                <a:cubicBezTo>
                  <a:pt x="15177" y="6311"/>
                  <a:pt x="15209" y="6329"/>
                  <a:pt x="15255" y="6375"/>
                </a:cubicBezTo>
                <a:cubicBezTo>
                  <a:pt x="15263" y="6383"/>
                  <a:pt x="15272" y="6392"/>
                  <a:pt x="15280" y="6400"/>
                </a:cubicBezTo>
                <a:cubicBezTo>
                  <a:pt x="15239" y="6439"/>
                  <a:pt x="15217" y="6483"/>
                  <a:pt x="15180" y="6524"/>
                </a:cubicBezTo>
                <a:cubicBezTo>
                  <a:pt x="15156" y="6548"/>
                  <a:pt x="15147" y="6557"/>
                  <a:pt x="15131" y="6573"/>
                </a:cubicBezTo>
                <a:cubicBezTo>
                  <a:pt x="15196" y="6573"/>
                  <a:pt x="15279" y="6569"/>
                  <a:pt x="15329" y="6623"/>
                </a:cubicBezTo>
                <a:cubicBezTo>
                  <a:pt x="15381" y="6678"/>
                  <a:pt x="15379" y="6752"/>
                  <a:pt x="15379" y="6821"/>
                </a:cubicBezTo>
                <a:cubicBezTo>
                  <a:pt x="15379" y="6909"/>
                  <a:pt x="15355" y="6967"/>
                  <a:pt x="15280" y="7020"/>
                </a:cubicBezTo>
                <a:cubicBezTo>
                  <a:pt x="15231" y="7055"/>
                  <a:pt x="15113" y="7059"/>
                  <a:pt x="15056" y="7045"/>
                </a:cubicBezTo>
                <a:cubicBezTo>
                  <a:pt x="15006" y="7033"/>
                  <a:pt x="14925" y="7016"/>
                  <a:pt x="14883" y="6995"/>
                </a:cubicBezTo>
                <a:cubicBezTo>
                  <a:pt x="14875" y="6987"/>
                  <a:pt x="14866" y="6978"/>
                  <a:pt x="14858" y="6970"/>
                </a:cubicBezTo>
              </a:path>
              <a:path w="9278" h="2556">
                <a:moveTo>
                  <a:pt x="17165" y="7789"/>
                </a:moveTo>
                <a:cubicBezTo>
                  <a:pt x="17181" y="7789"/>
                  <a:pt x="17198" y="7789"/>
                  <a:pt x="17214" y="7789"/>
                </a:cubicBezTo>
              </a:path>
              <a:path w="9278" h="2556">
                <a:moveTo>
                  <a:pt x="17264" y="7789"/>
                </a:moveTo>
                <a:cubicBezTo>
                  <a:pt x="17331" y="7801"/>
                  <a:pt x="17394" y="7803"/>
                  <a:pt x="17462" y="7813"/>
                </a:cubicBezTo>
                <a:cubicBezTo>
                  <a:pt x="17545" y="7825"/>
                  <a:pt x="17621" y="7838"/>
                  <a:pt x="17711" y="7838"/>
                </a:cubicBezTo>
                <a:cubicBezTo>
                  <a:pt x="17880" y="7838"/>
                  <a:pt x="18041" y="7827"/>
                  <a:pt x="18207" y="7813"/>
                </a:cubicBezTo>
                <a:cubicBezTo>
                  <a:pt x="18328" y="7803"/>
                  <a:pt x="18471" y="7799"/>
                  <a:pt x="18579" y="7789"/>
                </a:cubicBezTo>
                <a:cubicBezTo>
                  <a:pt x="18710" y="7776"/>
                  <a:pt x="18851" y="7777"/>
                  <a:pt x="18976" y="7764"/>
                </a:cubicBezTo>
                <a:cubicBezTo>
                  <a:pt x="19172" y="7744"/>
                  <a:pt x="19381" y="7758"/>
                  <a:pt x="19571" y="7739"/>
                </a:cubicBezTo>
                <a:cubicBezTo>
                  <a:pt x="19699" y="7726"/>
                  <a:pt x="19824" y="7752"/>
                  <a:pt x="19943" y="7764"/>
                </a:cubicBezTo>
                <a:cubicBezTo>
                  <a:pt x="20072" y="7777"/>
                  <a:pt x="20218" y="7780"/>
                  <a:pt x="20340" y="7789"/>
                </a:cubicBezTo>
                <a:cubicBezTo>
                  <a:pt x="20433" y="7796"/>
                  <a:pt x="20521" y="7811"/>
                  <a:pt x="20613" y="7813"/>
                </a:cubicBezTo>
                <a:cubicBezTo>
                  <a:pt x="20694" y="7815"/>
                  <a:pt x="20759" y="7830"/>
                  <a:pt x="20836" y="7838"/>
                </a:cubicBezTo>
                <a:cubicBezTo>
                  <a:pt x="21000" y="7855"/>
                  <a:pt x="21171" y="7848"/>
                  <a:pt x="21332" y="7863"/>
                </a:cubicBezTo>
                <a:cubicBezTo>
                  <a:pt x="21382" y="7863"/>
                  <a:pt x="21398" y="7863"/>
                  <a:pt x="21431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9"/>
          <p:cNvSpPr/>
          <p:nvPr/>
        </p:nvSpPr>
        <p:spPr>
          <a:xfrm>
            <a:off x="965160" y="5062680"/>
            <a:ext cx="1017720" cy="438120"/>
          </a:xfrm>
          <a:custGeom>
            <a:avLst/>
            <a:gdLst/>
            <a:ahLst/>
            <a:rect l="l" t="t" r="r" b="b"/>
            <a:pathLst>
              <a:path w="2829" h="1217">
                <a:moveTo>
                  <a:pt x="2679" y="14238"/>
                </a:moveTo>
                <a:cubicBezTo>
                  <a:pt x="2710" y="14092"/>
                  <a:pt x="2672" y="14133"/>
                  <a:pt x="2803" y="14089"/>
                </a:cubicBezTo>
                <a:cubicBezTo>
                  <a:pt x="2884" y="14062"/>
                  <a:pt x="2988" y="14049"/>
                  <a:pt x="3076" y="14064"/>
                </a:cubicBezTo>
                <a:cubicBezTo>
                  <a:pt x="3180" y="14082"/>
                  <a:pt x="3264" y="14089"/>
                  <a:pt x="3373" y="14089"/>
                </a:cubicBezTo>
                <a:cubicBezTo>
                  <a:pt x="3583" y="14089"/>
                  <a:pt x="3789" y="14082"/>
                  <a:pt x="3994" y="14064"/>
                </a:cubicBezTo>
                <a:cubicBezTo>
                  <a:pt x="4367" y="14031"/>
                  <a:pt x="4797" y="14031"/>
                  <a:pt x="5159" y="14089"/>
                </a:cubicBezTo>
                <a:cubicBezTo>
                  <a:pt x="5268" y="14106"/>
                  <a:pt x="5437" y="14090"/>
                  <a:pt x="5507" y="14064"/>
                </a:cubicBezTo>
              </a:path>
              <a:path w="2829" h="1217">
                <a:moveTo>
                  <a:pt x="4242" y="14436"/>
                </a:moveTo>
                <a:cubicBezTo>
                  <a:pt x="4336" y="14436"/>
                  <a:pt x="4429" y="14423"/>
                  <a:pt x="4514" y="14461"/>
                </a:cubicBezTo>
                <a:cubicBezTo>
                  <a:pt x="4531" y="14469"/>
                  <a:pt x="4547" y="14478"/>
                  <a:pt x="4564" y="14486"/>
                </a:cubicBezTo>
                <a:cubicBezTo>
                  <a:pt x="4550" y="14584"/>
                  <a:pt x="4503" y="14614"/>
                  <a:pt x="4415" y="14660"/>
                </a:cubicBezTo>
                <a:cubicBezTo>
                  <a:pt x="4369" y="14684"/>
                  <a:pt x="4331" y="14702"/>
                  <a:pt x="4291" y="14734"/>
                </a:cubicBezTo>
                <a:cubicBezTo>
                  <a:pt x="4354" y="14734"/>
                  <a:pt x="4416" y="14720"/>
                  <a:pt x="4465" y="14759"/>
                </a:cubicBezTo>
                <a:cubicBezTo>
                  <a:pt x="4535" y="14815"/>
                  <a:pt x="4530" y="14846"/>
                  <a:pt x="4564" y="14932"/>
                </a:cubicBezTo>
                <a:cubicBezTo>
                  <a:pt x="4594" y="15008"/>
                  <a:pt x="4552" y="15042"/>
                  <a:pt x="4539" y="15131"/>
                </a:cubicBezTo>
                <a:cubicBezTo>
                  <a:pt x="4520" y="15260"/>
                  <a:pt x="4448" y="15176"/>
                  <a:pt x="4366" y="15230"/>
                </a:cubicBezTo>
                <a:cubicBezTo>
                  <a:pt x="4288" y="15281"/>
                  <a:pt x="4266" y="15312"/>
                  <a:pt x="4192" y="15230"/>
                </a:cubicBezTo>
                <a:cubicBezTo>
                  <a:pt x="4164" y="15199"/>
                  <a:pt x="4144" y="15164"/>
                  <a:pt x="4118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10"/>
          <p:cNvSpPr/>
          <p:nvPr/>
        </p:nvSpPr>
        <p:spPr>
          <a:xfrm>
            <a:off x="2884320" y="4491000"/>
            <a:ext cx="1071720" cy="430200"/>
          </a:xfrm>
          <a:custGeom>
            <a:avLst/>
            <a:gdLst/>
            <a:ahLst/>
            <a:rect l="l" t="t" r="r" b="b"/>
            <a:pathLst>
              <a:path w="2977" h="1191">
                <a:moveTo>
                  <a:pt x="8012" y="12502"/>
                </a:moveTo>
                <a:cubicBezTo>
                  <a:pt x="8148" y="12502"/>
                  <a:pt x="8275" y="12523"/>
                  <a:pt x="8409" y="12526"/>
                </a:cubicBezTo>
                <a:cubicBezTo>
                  <a:pt x="8561" y="12530"/>
                  <a:pt x="8729" y="12532"/>
                  <a:pt x="8880" y="12551"/>
                </a:cubicBezTo>
                <a:cubicBezTo>
                  <a:pt x="9078" y="12576"/>
                  <a:pt x="9273" y="12576"/>
                  <a:pt x="9475" y="12576"/>
                </a:cubicBezTo>
                <a:cubicBezTo>
                  <a:pt x="9612" y="12576"/>
                  <a:pt x="9738" y="12556"/>
                  <a:pt x="9872" y="12551"/>
                </a:cubicBezTo>
                <a:cubicBezTo>
                  <a:pt x="9970" y="12548"/>
                  <a:pt x="10055" y="12541"/>
                  <a:pt x="10145" y="12526"/>
                </a:cubicBezTo>
                <a:cubicBezTo>
                  <a:pt x="10230" y="12512"/>
                  <a:pt x="10223" y="12532"/>
                  <a:pt x="10269" y="12477"/>
                </a:cubicBezTo>
              </a:path>
              <a:path w="2977" h="1191">
                <a:moveTo>
                  <a:pt x="9203" y="12799"/>
                </a:moveTo>
                <a:cubicBezTo>
                  <a:pt x="9304" y="12799"/>
                  <a:pt x="9408" y="12783"/>
                  <a:pt x="9500" y="12824"/>
                </a:cubicBezTo>
                <a:cubicBezTo>
                  <a:pt x="9573" y="12856"/>
                  <a:pt x="9605" y="12876"/>
                  <a:pt x="9575" y="12948"/>
                </a:cubicBezTo>
                <a:cubicBezTo>
                  <a:pt x="9531" y="13055"/>
                  <a:pt x="9465" y="13073"/>
                  <a:pt x="9376" y="13122"/>
                </a:cubicBezTo>
                <a:cubicBezTo>
                  <a:pt x="9351" y="13146"/>
                  <a:pt x="9343" y="13154"/>
                  <a:pt x="9327" y="13171"/>
                </a:cubicBezTo>
                <a:cubicBezTo>
                  <a:pt x="9394" y="13171"/>
                  <a:pt x="9464" y="13176"/>
                  <a:pt x="9525" y="13196"/>
                </a:cubicBezTo>
                <a:cubicBezTo>
                  <a:pt x="9605" y="13223"/>
                  <a:pt x="9726" y="13304"/>
                  <a:pt x="9748" y="13395"/>
                </a:cubicBezTo>
                <a:cubicBezTo>
                  <a:pt x="9764" y="13463"/>
                  <a:pt x="9746" y="13555"/>
                  <a:pt x="9723" y="13618"/>
                </a:cubicBezTo>
                <a:cubicBezTo>
                  <a:pt x="9687" y="13713"/>
                  <a:pt x="9551" y="13667"/>
                  <a:pt x="9475" y="13643"/>
                </a:cubicBezTo>
                <a:cubicBezTo>
                  <a:pt x="9432" y="13629"/>
                  <a:pt x="9318" y="13600"/>
                  <a:pt x="9302" y="13543"/>
                </a:cubicBezTo>
                <a:cubicBezTo>
                  <a:pt x="9302" y="13502"/>
                  <a:pt x="9302" y="13494"/>
                  <a:pt x="9302" y="13469"/>
                </a:cubicBezTo>
              </a:path>
              <a:path w="2977" h="1191">
                <a:moveTo>
                  <a:pt x="10889" y="12650"/>
                </a:moveTo>
                <a:cubicBezTo>
                  <a:pt x="10847" y="12692"/>
                  <a:pt x="10842" y="12678"/>
                  <a:pt x="10864" y="12725"/>
                </a:cubicBezTo>
                <a:cubicBezTo>
                  <a:pt x="10914" y="12750"/>
                  <a:pt x="10920" y="12720"/>
                  <a:pt x="10964" y="12675"/>
                </a:cubicBezTo>
                <a:cubicBezTo>
                  <a:pt x="11030" y="12607"/>
                  <a:pt x="10897" y="12570"/>
                  <a:pt x="10864" y="12576"/>
                </a:cubicBezTo>
                <a:cubicBezTo>
                  <a:pt x="10801" y="12588"/>
                  <a:pt x="10852" y="12689"/>
                  <a:pt x="10889" y="12700"/>
                </a:cubicBezTo>
                <a:cubicBezTo>
                  <a:pt x="11041" y="12743"/>
                  <a:pt x="10866" y="12643"/>
                  <a:pt x="10815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11"/>
          <p:cNvSpPr/>
          <p:nvPr/>
        </p:nvSpPr>
        <p:spPr>
          <a:xfrm>
            <a:off x="2071800" y="1616040"/>
            <a:ext cx="2098440" cy="1866960"/>
          </a:xfrm>
          <a:custGeom>
            <a:avLst/>
            <a:gdLst/>
            <a:ahLst/>
            <a:rect l="l" t="t" r="r" b="b"/>
            <a:pathLst>
              <a:path w="5830" h="5185">
                <a:moveTo>
                  <a:pt x="5755" y="4490"/>
                </a:moveTo>
                <a:cubicBezTo>
                  <a:pt x="5853" y="4552"/>
                  <a:pt x="5898" y="4584"/>
                  <a:pt x="5953" y="4688"/>
                </a:cubicBezTo>
                <a:cubicBezTo>
                  <a:pt x="6009" y="4794"/>
                  <a:pt x="6075" y="4882"/>
                  <a:pt x="6127" y="4986"/>
                </a:cubicBezTo>
                <a:cubicBezTo>
                  <a:pt x="6237" y="5206"/>
                  <a:pt x="6320" y="5393"/>
                  <a:pt x="6375" y="5631"/>
                </a:cubicBezTo>
                <a:cubicBezTo>
                  <a:pt x="6411" y="5784"/>
                  <a:pt x="6408" y="5926"/>
                  <a:pt x="6400" y="6077"/>
                </a:cubicBezTo>
                <a:cubicBezTo>
                  <a:pt x="6393" y="6211"/>
                  <a:pt x="6331" y="6317"/>
                  <a:pt x="6300" y="6449"/>
                </a:cubicBezTo>
                <a:cubicBezTo>
                  <a:pt x="6279" y="6558"/>
                  <a:pt x="6276" y="6584"/>
                  <a:pt x="6251" y="6648"/>
                </a:cubicBezTo>
              </a:path>
              <a:path w="5830" h="5185">
                <a:moveTo>
                  <a:pt x="7640" y="7367"/>
                </a:moveTo>
                <a:cubicBezTo>
                  <a:pt x="7599" y="7418"/>
                  <a:pt x="7594" y="7432"/>
                  <a:pt x="7565" y="7491"/>
                </a:cubicBezTo>
                <a:cubicBezTo>
                  <a:pt x="7523" y="7577"/>
                  <a:pt x="7472" y="7647"/>
                  <a:pt x="7441" y="7739"/>
                </a:cubicBezTo>
                <a:cubicBezTo>
                  <a:pt x="7389" y="7894"/>
                  <a:pt x="7334" y="8065"/>
                  <a:pt x="7268" y="8210"/>
                </a:cubicBezTo>
                <a:cubicBezTo>
                  <a:pt x="7207" y="8344"/>
                  <a:pt x="7154" y="8485"/>
                  <a:pt x="7119" y="8632"/>
                </a:cubicBezTo>
                <a:cubicBezTo>
                  <a:pt x="7086" y="8770"/>
                  <a:pt x="7051" y="8911"/>
                  <a:pt x="7069" y="9054"/>
                </a:cubicBezTo>
                <a:cubicBezTo>
                  <a:pt x="7085" y="9186"/>
                  <a:pt x="7132" y="9288"/>
                  <a:pt x="7193" y="9401"/>
                </a:cubicBezTo>
                <a:cubicBezTo>
                  <a:pt x="7253" y="9512"/>
                  <a:pt x="7324" y="9511"/>
                  <a:pt x="7441" y="9525"/>
                </a:cubicBezTo>
              </a:path>
              <a:path w="5830" h="5185">
                <a:moveTo>
                  <a:pt x="8086" y="7938"/>
                </a:moveTo>
                <a:cubicBezTo>
                  <a:pt x="8086" y="8123"/>
                  <a:pt x="8072" y="8303"/>
                  <a:pt x="8062" y="8483"/>
                </a:cubicBezTo>
                <a:cubicBezTo>
                  <a:pt x="8049" y="8718"/>
                  <a:pt x="8064" y="8946"/>
                  <a:pt x="8037" y="9178"/>
                </a:cubicBezTo>
                <a:cubicBezTo>
                  <a:pt x="8030" y="9235"/>
                  <a:pt x="8012" y="9434"/>
                  <a:pt x="8062" y="9451"/>
                </a:cubicBezTo>
              </a:path>
              <a:path w="5830" h="5185">
                <a:moveTo>
                  <a:pt x="8756" y="8186"/>
                </a:moveTo>
                <a:cubicBezTo>
                  <a:pt x="8756" y="8401"/>
                  <a:pt x="8757" y="8631"/>
                  <a:pt x="8781" y="8830"/>
                </a:cubicBezTo>
                <a:cubicBezTo>
                  <a:pt x="8781" y="8915"/>
                  <a:pt x="8774" y="8935"/>
                  <a:pt x="8806" y="8979"/>
                </a:cubicBezTo>
              </a:path>
              <a:path w="5830" h="5185">
                <a:moveTo>
                  <a:pt x="8558" y="8582"/>
                </a:moveTo>
                <a:cubicBezTo>
                  <a:pt x="8662" y="8582"/>
                  <a:pt x="8756" y="8597"/>
                  <a:pt x="8855" y="8607"/>
                </a:cubicBezTo>
                <a:cubicBezTo>
                  <a:pt x="8952" y="8616"/>
                  <a:pt x="9056" y="8607"/>
                  <a:pt x="9153" y="8607"/>
                </a:cubicBezTo>
              </a:path>
              <a:path w="5830" h="5185">
                <a:moveTo>
                  <a:pt x="9351" y="7987"/>
                </a:moveTo>
                <a:cubicBezTo>
                  <a:pt x="9351" y="8097"/>
                  <a:pt x="9357" y="8191"/>
                  <a:pt x="9376" y="8285"/>
                </a:cubicBezTo>
                <a:cubicBezTo>
                  <a:pt x="9376" y="8334"/>
                  <a:pt x="9376" y="8351"/>
                  <a:pt x="9376" y="8384"/>
                </a:cubicBezTo>
                <a:cubicBezTo>
                  <a:pt x="9376" y="8262"/>
                  <a:pt x="9382" y="8151"/>
                  <a:pt x="9401" y="8037"/>
                </a:cubicBezTo>
                <a:cubicBezTo>
                  <a:pt x="9414" y="7960"/>
                  <a:pt x="9421" y="7899"/>
                  <a:pt x="9475" y="7838"/>
                </a:cubicBezTo>
                <a:cubicBezTo>
                  <a:pt x="9531" y="7775"/>
                  <a:pt x="9544" y="7736"/>
                  <a:pt x="9624" y="7689"/>
                </a:cubicBezTo>
                <a:cubicBezTo>
                  <a:pt x="9680" y="7662"/>
                  <a:pt x="9702" y="7654"/>
                  <a:pt x="9748" y="7665"/>
                </a:cubicBezTo>
              </a:path>
              <a:path w="5830" h="5185">
                <a:moveTo>
                  <a:pt x="9649" y="7888"/>
                </a:moveTo>
                <a:cubicBezTo>
                  <a:pt x="9598" y="7939"/>
                  <a:pt x="9710" y="7852"/>
                  <a:pt x="9773" y="7863"/>
                </a:cubicBezTo>
                <a:cubicBezTo>
                  <a:pt x="9883" y="7882"/>
                  <a:pt x="9904" y="7941"/>
                  <a:pt x="9872" y="8037"/>
                </a:cubicBezTo>
                <a:cubicBezTo>
                  <a:pt x="9846" y="8115"/>
                  <a:pt x="9772" y="8132"/>
                  <a:pt x="9723" y="8186"/>
                </a:cubicBezTo>
                <a:cubicBezTo>
                  <a:pt x="9683" y="8230"/>
                  <a:pt x="9763" y="8182"/>
                  <a:pt x="9823" y="8210"/>
                </a:cubicBezTo>
                <a:cubicBezTo>
                  <a:pt x="9877" y="8235"/>
                  <a:pt x="9919" y="8308"/>
                  <a:pt x="9922" y="8359"/>
                </a:cubicBezTo>
                <a:cubicBezTo>
                  <a:pt x="9928" y="8462"/>
                  <a:pt x="9852" y="8434"/>
                  <a:pt x="9773" y="8434"/>
                </a:cubicBezTo>
                <a:cubicBezTo>
                  <a:pt x="9718" y="8434"/>
                  <a:pt x="9678" y="8452"/>
                  <a:pt x="9624" y="8458"/>
                </a:cubicBezTo>
              </a:path>
              <a:path w="5830" h="5185">
                <a:moveTo>
                  <a:pt x="9401" y="8657"/>
                </a:moveTo>
                <a:cubicBezTo>
                  <a:pt x="9471" y="8631"/>
                  <a:pt x="9523" y="8632"/>
                  <a:pt x="9599" y="8632"/>
                </a:cubicBezTo>
                <a:cubicBezTo>
                  <a:pt x="9756" y="8632"/>
                  <a:pt x="9929" y="8618"/>
                  <a:pt x="10071" y="8657"/>
                </a:cubicBezTo>
                <a:cubicBezTo>
                  <a:pt x="10079" y="8657"/>
                  <a:pt x="10088" y="8657"/>
                  <a:pt x="10096" y="8657"/>
                </a:cubicBezTo>
              </a:path>
              <a:path w="5830" h="5185">
                <a:moveTo>
                  <a:pt x="9699" y="8830"/>
                </a:moveTo>
                <a:cubicBezTo>
                  <a:pt x="9677" y="8893"/>
                  <a:pt x="9740" y="8833"/>
                  <a:pt x="9798" y="8830"/>
                </a:cubicBezTo>
                <a:cubicBezTo>
                  <a:pt x="9848" y="8827"/>
                  <a:pt x="9952" y="8819"/>
                  <a:pt x="9947" y="8905"/>
                </a:cubicBezTo>
                <a:cubicBezTo>
                  <a:pt x="9942" y="8996"/>
                  <a:pt x="9875" y="9003"/>
                  <a:pt x="9823" y="9029"/>
                </a:cubicBezTo>
                <a:cubicBezTo>
                  <a:pt x="9806" y="9038"/>
                  <a:pt x="9671" y="9124"/>
                  <a:pt x="9748" y="9079"/>
                </a:cubicBezTo>
                <a:cubicBezTo>
                  <a:pt x="9787" y="9057"/>
                  <a:pt x="9882" y="9063"/>
                  <a:pt x="9922" y="9103"/>
                </a:cubicBezTo>
                <a:cubicBezTo>
                  <a:pt x="9982" y="9163"/>
                  <a:pt x="10032" y="9246"/>
                  <a:pt x="10046" y="9327"/>
                </a:cubicBezTo>
                <a:cubicBezTo>
                  <a:pt x="10059" y="9404"/>
                  <a:pt x="9997" y="9414"/>
                  <a:pt x="9947" y="9451"/>
                </a:cubicBezTo>
                <a:cubicBezTo>
                  <a:pt x="9857" y="9518"/>
                  <a:pt x="9892" y="9561"/>
                  <a:pt x="9748" y="9575"/>
                </a:cubicBezTo>
                <a:cubicBezTo>
                  <a:pt x="9613" y="9588"/>
                  <a:pt x="9479" y="9584"/>
                  <a:pt x="9401" y="9475"/>
                </a:cubicBezTo>
              </a:path>
              <a:path w="5830" h="5185">
                <a:moveTo>
                  <a:pt x="10195" y="7491"/>
                </a:moveTo>
                <a:cubicBezTo>
                  <a:pt x="10265" y="7618"/>
                  <a:pt x="10319" y="7729"/>
                  <a:pt x="10368" y="7863"/>
                </a:cubicBezTo>
                <a:cubicBezTo>
                  <a:pt x="10435" y="8047"/>
                  <a:pt x="10479" y="8214"/>
                  <a:pt x="10492" y="8409"/>
                </a:cubicBezTo>
                <a:cubicBezTo>
                  <a:pt x="10505" y="8604"/>
                  <a:pt x="10504" y="8814"/>
                  <a:pt x="10468" y="9004"/>
                </a:cubicBezTo>
                <a:cubicBezTo>
                  <a:pt x="10442" y="9139"/>
                  <a:pt x="10369" y="9301"/>
                  <a:pt x="10269" y="9401"/>
                </a:cubicBezTo>
                <a:cubicBezTo>
                  <a:pt x="10170" y="9500"/>
                  <a:pt x="10034" y="9606"/>
                  <a:pt x="9897" y="9649"/>
                </a:cubicBezTo>
                <a:cubicBezTo>
                  <a:pt x="9849" y="9664"/>
                  <a:pt x="9808" y="9674"/>
                  <a:pt x="9748" y="9674"/>
                </a:cubicBezTo>
              </a:path>
              <a:path w="5830" h="5185">
                <a:moveTo>
                  <a:pt x="7516" y="7094"/>
                </a:moveTo>
                <a:cubicBezTo>
                  <a:pt x="7630" y="7104"/>
                  <a:pt x="7746" y="7105"/>
                  <a:pt x="7863" y="7119"/>
                </a:cubicBezTo>
                <a:cubicBezTo>
                  <a:pt x="8006" y="7137"/>
                  <a:pt x="8139" y="7144"/>
                  <a:pt x="8285" y="7144"/>
                </a:cubicBezTo>
                <a:cubicBezTo>
                  <a:pt x="8484" y="7144"/>
                  <a:pt x="8683" y="7148"/>
                  <a:pt x="8880" y="7169"/>
                </a:cubicBezTo>
                <a:cubicBezTo>
                  <a:pt x="9135" y="7197"/>
                  <a:pt x="9395" y="7187"/>
                  <a:pt x="9649" y="7218"/>
                </a:cubicBezTo>
                <a:cubicBezTo>
                  <a:pt x="9799" y="7237"/>
                  <a:pt x="9947" y="7278"/>
                  <a:pt x="10096" y="7293"/>
                </a:cubicBezTo>
                <a:cubicBezTo>
                  <a:pt x="10163" y="7300"/>
                  <a:pt x="10201" y="7293"/>
                  <a:pt x="10269" y="7293"/>
                </a:cubicBezTo>
              </a:path>
              <a:path w="5830" h="5185">
                <a:moveTo>
                  <a:pt x="7541" y="4986"/>
                </a:moveTo>
                <a:cubicBezTo>
                  <a:pt x="7532" y="5050"/>
                  <a:pt x="7513" y="5095"/>
                  <a:pt x="7491" y="5159"/>
                </a:cubicBezTo>
                <a:cubicBezTo>
                  <a:pt x="7458" y="5254"/>
                  <a:pt x="7430" y="5381"/>
                  <a:pt x="7417" y="5482"/>
                </a:cubicBezTo>
                <a:cubicBezTo>
                  <a:pt x="7400" y="5611"/>
                  <a:pt x="7331" y="5719"/>
                  <a:pt x="7317" y="5854"/>
                </a:cubicBezTo>
                <a:cubicBezTo>
                  <a:pt x="7299" y="6026"/>
                  <a:pt x="7313" y="6190"/>
                  <a:pt x="7367" y="6350"/>
                </a:cubicBezTo>
                <a:cubicBezTo>
                  <a:pt x="7408" y="6471"/>
                  <a:pt x="7434" y="6595"/>
                  <a:pt x="7516" y="6697"/>
                </a:cubicBezTo>
                <a:cubicBezTo>
                  <a:pt x="7566" y="6759"/>
                  <a:pt x="7598" y="6770"/>
                  <a:pt x="7665" y="6796"/>
                </a:cubicBezTo>
              </a:path>
              <a:path w="5830" h="5185">
                <a:moveTo>
                  <a:pt x="7838" y="5259"/>
                </a:moveTo>
                <a:cubicBezTo>
                  <a:pt x="7816" y="5409"/>
                  <a:pt x="7822" y="5489"/>
                  <a:pt x="7838" y="5631"/>
                </a:cubicBezTo>
                <a:cubicBezTo>
                  <a:pt x="7846" y="5698"/>
                  <a:pt x="7780" y="6604"/>
                  <a:pt x="7863" y="6623"/>
                </a:cubicBezTo>
                <a:cubicBezTo>
                  <a:pt x="7880" y="6615"/>
                  <a:pt x="7896" y="6606"/>
                  <a:pt x="7913" y="6598"/>
                </a:cubicBezTo>
              </a:path>
              <a:path w="5830" h="5185">
                <a:moveTo>
                  <a:pt x="8409" y="5507"/>
                </a:moveTo>
                <a:cubicBezTo>
                  <a:pt x="8434" y="5630"/>
                  <a:pt x="8464" y="5760"/>
                  <a:pt x="8483" y="5879"/>
                </a:cubicBezTo>
                <a:cubicBezTo>
                  <a:pt x="8495" y="5953"/>
                  <a:pt x="8542" y="6006"/>
                  <a:pt x="8558" y="6077"/>
                </a:cubicBezTo>
                <a:cubicBezTo>
                  <a:pt x="8567" y="6119"/>
                  <a:pt x="8573" y="6138"/>
                  <a:pt x="8582" y="6176"/>
                </a:cubicBezTo>
              </a:path>
              <a:path w="5830" h="5185">
                <a:moveTo>
                  <a:pt x="8235" y="5854"/>
                </a:moveTo>
                <a:cubicBezTo>
                  <a:pt x="8357" y="5837"/>
                  <a:pt x="8489" y="5834"/>
                  <a:pt x="8607" y="5804"/>
                </a:cubicBezTo>
                <a:cubicBezTo>
                  <a:pt x="8632" y="5796"/>
                  <a:pt x="8657" y="5787"/>
                  <a:pt x="8682" y="5779"/>
                </a:cubicBezTo>
              </a:path>
              <a:path w="5830" h="5185">
                <a:moveTo>
                  <a:pt x="8954" y="5383"/>
                </a:moveTo>
                <a:cubicBezTo>
                  <a:pt x="8954" y="5480"/>
                  <a:pt x="8964" y="5573"/>
                  <a:pt x="8979" y="5655"/>
                </a:cubicBezTo>
                <a:cubicBezTo>
                  <a:pt x="8979" y="5672"/>
                  <a:pt x="8979" y="5688"/>
                  <a:pt x="8979" y="5705"/>
                </a:cubicBezTo>
                <a:cubicBezTo>
                  <a:pt x="8979" y="5636"/>
                  <a:pt x="8982" y="5544"/>
                  <a:pt x="8954" y="5482"/>
                </a:cubicBezTo>
                <a:cubicBezTo>
                  <a:pt x="8930" y="5428"/>
                  <a:pt x="8909" y="5373"/>
                  <a:pt x="8905" y="5308"/>
                </a:cubicBezTo>
                <a:cubicBezTo>
                  <a:pt x="8901" y="5244"/>
                  <a:pt x="8941" y="5185"/>
                  <a:pt x="8979" y="5135"/>
                </a:cubicBezTo>
                <a:cubicBezTo>
                  <a:pt x="9022" y="5077"/>
                  <a:pt x="9123" y="5081"/>
                  <a:pt x="9178" y="5060"/>
                </a:cubicBezTo>
                <a:cubicBezTo>
                  <a:pt x="9244" y="5035"/>
                  <a:pt x="9308" y="5029"/>
                  <a:pt x="9376" y="5011"/>
                </a:cubicBezTo>
              </a:path>
              <a:path w="5830" h="5185">
                <a:moveTo>
                  <a:pt x="9178" y="5358"/>
                </a:moveTo>
                <a:cubicBezTo>
                  <a:pt x="9239" y="5309"/>
                  <a:pt x="9296" y="5286"/>
                  <a:pt x="9376" y="5283"/>
                </a:cubicBezTo>
                <a:cubicBezTo>
                  <a:pt x="9473" y="5279"/>
                  <a:pt x="9537" y="5354"/>
                  <a:pt x="9500" y="5432"/>
                </a:cubicBezTo>
                <a:cubicBezTo>
                  <a:pt x="9463" y="5510"/>
                  <a:pt x="9414" y="5533"/>
                  <a:pt x="9351" y="5581"/>
                </a:cubicBezTo>
                <a:cubicBezTo>
                  <a:pt x="9312" y="5611"/>
                  <a:pt x="9411" y="5596"/>
                  <a:pt x="9475" y="5606"/>
                </a:cubicBezTo>
                <a:cubicBezTo>
                  <a:pt x="9519" y="5613"/>
                  <a:pt x="9602" y="5634"/>
                  <a:pt x="9599" y="5705"/>
                </a:cubicBezTo>
                <a:cubicBezTo>
                  <a:pt x="9595" y="5797"/>
                  <a:pt x="9524" y="5817"/>
                  <a:pt x="9451" y="5829"/>
                </a:cubicBezTo>
                <a:cubicBezTo>
                  <a:pt x="9412" y="5836"/>
                  <a:pt x="9367" y="5829"/>
                  <a:pt x="9327" y="5829"/>
                </a:cubicBezTo>
              </a:path>
              <a:path w="5830" h="5185">
                <a:moveTo>
                  <a:pt x="8880" y="5879"/>
                </a:moveTo>
                <a:cubicBezTo>
                  <a:pt x="8965" y="5870"/>
                  <a:pt x="9070" y="5873"/>
                  <a:pt x="9153" y="5854"/>
                </a:cubicBezTo>
                <a:cubicBezTo>
                  <a:pt x="9245" y="5833"/>
                  <a:pt x="9328" y="5829"/>
                  <a:pt x="9426" y="5829"/>
                </a:cubicBezTo>
                <a:cubicBezTo>
                  <a:pt x="9532" y="5829"/>
                  <a:pt x="9552" y="5847"/>
                  <a:pt x="9649" y="5829"/>
                </a:cubicBezTo>
              </a:path>
              <a:path w="5830" h="5185">
                <a:moveTo>
                  <a:pt x="9302" y="6152"/>
                </a:moveTo>
                <a:cubicBezTo>
                  <a:pt x="9294" y="6160"/>
                  <a:pt x="9285" y="6168"/>
                  <a:pt x="9277" y="6176"/>
                </a:cubicBezTo>
                <a:cubicBezTo>
                  <a:pt x="9336" y="6205"/>
                  <a:pt x="9352" y="6144"/>
                  <a:pt x="9426" y="6127"/>
                </a:cubicBezTo>
                <a:cubicBezTo>
                  <a:pt x="9453" y="6121"/>
                  <a:pt x="9579" y="6121"/>
                  <a:pt x="9575" y="6176"/>
                </a:cubicBezTo>
                <a:cubicBezTo>
                  <a:pt x="9570" y="6243"/>
                  <a:pt x="9500" y="6295"/>
                  <a:pt x="9451" y="6325"/>
                </a:cubicBezTo>
                <a:cubicBezTo>
                  <a:pt x="9393" y="6360"/>
                  <a:pt x="9377" y="6371"/>
                  <a:pt x="9327" y="6350"/>
                </a:cubicBezTo>
                <a:cubicBezTo>
                  <a:pt x="9410" y="6350"/>
                  <a:pt x="9461" y="6343"/>
                  <a:pt x="9525" y="6400"/>
                </a:cubicBezTo>
                <a:cubicBezTo>
                  <a:pt x="9544" y="6417"/>
                  <a:pt x="9594" y="6523"/>
                  <a:pt x="9599" y="6548"/>
                </a:cubicBezTo>
                <a:cubicBezTo>
                  <a:pt x="9615" y="6630"/>
                  <a:pt x="9575" y="6647"/>
                  <a:pt x="9525" y="6697"/>
                </a:cubicBezTo>
                <a:cubicBezTo>
                  <a:pt x="9490" y="6732"/>
                  <a:pt x="9375" y="6737"/>
                  <a:pt x="9327" y="6722"/>
                </a:cubicBezTo>
                <a:cubicBezTo>
                  <a:pt x="9319" y="6714"/>
                  <a:pt x="9310" y="6705"/>
                  <a:pt x="9302" y="6697"/>
                </a:cubicBezTo>
              </a:path>
              <a:path w="5830" h="5185">
                <a:moveTo>
                  <a:pt x="9699" y="4887"/>
                </a:moveTo>
                <a:cubicBezTo>
                  <a:pt x="9737" y="4947"/>
                  <a:pt x="9760" y="5028"/>
                  <a:pt x="9798" y="5085"/>
                </a:cubicBezTo>
                <a:cubicBezTo>
                  <a:pt x="9875" y="5201"/>
                  <a:pt x="9896" y="5326"/>
                  <a:pt x="9947" y="5457"/>
                </a:cubicBezTo>
                <a:cubicBezTo>
                  <a:pt x="10039" y="5690"/>
                  <a:pt x="10125" y="5842"/>
                  <a:pt x="10145" y="6102"/>
                </a:cubicBezTo>
                <a:cubicBezTo>
                  <a:pt x="10155" y="6228"/>
                  <a:pt x="10123" y="6376"/>
                  <a:pt x="10096" y="6499"/>
                </a:cubicBezTo>
                <a:cubicBezTo>
                  <a:pt x="10067" y="6630"/>
                  <a:pt x="9987" y="6712"/>
                  <a:pt x="9922" y="6821"/>
                </a:cubicBezTo>
                <a:cubicBezTo>
                  <a:pt x="9859" y="6927"/>
                  <a:pt x="9787" y="6981"/>
                  <a:pt x="9699" y="7069"/>
                </a:cubicBezTo>
              </a:path>
              <a:path w="5830" h="5185">
                <a:moveTo>
                  <a:pt x="10964" y="7417"/>
                </a:moveTo>
                <a:cubicBezTo>
                  <a:pt x="11050" y="7417"/>
                  <a:pt x="11127" y="7439"/>
                  <a:pt x="11212" y="7441"/>
                </a:cubicBezTo>
                <a:cubicBezTo>
                  <a:pt x="11325" y="7444"/>
                  <a:pt x="11403" y="7451"/>
                  <a:pt x="11509" y="7466"/>
                </a:cubicBezTo>
                <a:cubicBezTo>
                  <a:pt x="11526" y="7466"/>
                  <a:pt x="11542" y="7466"/>
                  <a:pt x="11559" y="7466"/>
                </a:cubicBezTo>
              </a:path>
              <a:path w="5830" h="5185">
                <a:moveTo>
                  <a:pt x="11038" y="7689"/>
                </a:moveTo>
                <a:cubicBezTo>
                  <a:pt x="11228" y="7689"/>
                  <a:pt x="11749" y="7689"/>
                  <a:pt x="11559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Ink 12"/>
          <p:cNvSpPr/>
          <p:nvPr/>
        </p:nvSpPr>
        <p:spPr>
          <a:xfrm>
            <a:off x="438120" y="1731960"/>
            <a:ext cx="776160" cy="884160"/>
          </a:xfrm>
          <a:custGeom>
            <a:avLst/>
            <a:gdLst/>
            <a:ahLst/>
            <a:rect l="l" t="t" r="r" b="b"/>
            <a:pathLst>
              <a:path w="2159" h="2457">
                <a:moveTo>
                  <a:pt x="1215" y="6648"/>
                </a:moveTo>
                <a:cubicBezTo>
                  <a:pt x="1294" y="6648"/>
                  <a:pt x="1361" y="6626"/>
                  <a:pt x="1439" y="6623"/>
                </a:cubicBezTo>
                <a:cubicBezTo>
                  <a:pt x="1513" y="6620"/>
                  <a:pt x="1588" y="6623"/>
                  <a:pt x="1662" y="6623"/>
                </a:cubicBezTo>
              </a:path>
              <a:path w="2159" h="2457">
                <a:moveTo>
                  <a:pt x="1265" y="6896"/>
                </a:moveTo>
                <a:cubicBezTo>
                  <a:pt x="1389" y="6896"/>
                  <a:pt x="1513" y="6896"/>
                  <a:pt x="1637" y="6896"/>
                </a:cubicBezTo>
              </a:path>
              <a:path w="2159" h="2457">
                <a:moveTo>
                  <a:pt x="2555" y="5358"/>
                </a:moveTo>
                <a:cubicBezTo>
                  <a:pt x="2555" y="5496"/>
                  <a:pt x="2528" y="5684"/>
                  <a:pt x="2580" y="5804"/>
                </a:cubicBezTo>
                <a:cubicBezTo>
                  <a:pt x="2580" y="5666"/>
                  <a:pt x="2504" y="5111"/>
                  <a:pt x="2604" y="5035"/>
                </a:cubicBezTo>
                <a:cubicBezTo>
                  <a:pt x="2670" y="4984"/>
                  <a:pt x="2754" y="5027"/>
                  <a:pt x="2828" y="5011"/>
                </a:cubicBezTo>
                <a:cubicBezTo>
                  <a:pt x="2909" y="4994"/>
                  <a:pt x="2967" y="4986"/>
                  <a:pt x="3051" y="4986"/>
                </a:cubicBezTo>
                <a:cubicBezTo>
                  <a:pt x="3126" y="4986"/>
                  <a:pt x="3202" y="4979"/>
                  <a:pt x="3274" y="4961"/>
                </a:cubicBezTo>
                <a:cubicBezTo>
                  <a:pt x="3266" y="4961"/>
                  <a:pt x="3257" y="4961"/>
                  <a:pt x="3249" y="4961"/>
                </a:cubicBezTo>
              </a:path>
              <a:path w="2159" h="2457">
                <a:moveTo>
                  <a:pt x="2803" y="5283"/>
                </a:moveTo>
                <a:cubicBezTo>
                  <a:pt x="2855" y="5258"/>
                  <a:pt x="2917" y="5237"/>
                  <a:pt x="2977" y="5234"/>
                </a:cubicBezTo>
                <a:cubicBezTo>
                  <a:pt x="3052" y="5231"/>
                  <a:pt x="3084" y="5234"/>
                  <a:pt x="3150" y="5259"/>
                </a:cubicBezTo>
                <a:cubicBezTo>
                  <a:pt x="3143" y="5312"/>
                  <a:pt x="3132" y="5401"/>
                  <a:pt x="3076" y="5432"/>
                </a:cubicBezTo>
                <a:cubicBezTo>
                  <a:pt x="3038" y="5453"/>
                  <a:pt x="2995" y="5482"/>
                  <a:pt x="2952" y="5507"/>
                </a:cubicBezTo>
                <a:cubicBezTo>
                  <a:pt x="3036" y="5469"/>
                  <a:pt x="3089" y="5453"/>
                  <a:pt x="3175" y="5482"/>
                </a:cubicBezTo>
                <a:cubicBezTo>
                  <a:pt x="3239" y="5503"/>
                  <a:pt x="3305" y="5502"/>
                  <a:pt x="3324" y="5581"/>
                </a:cubicBezTo>
                <a:cubicBezTo>
                  <a:pt x="3346" y="5676"/>
                  <a:pt x="3283" y="5685"/>
                  <a:pt x="3225" y="5705"/>
                </a:cubicBezTo>
                <a:cubicBezTo>
                  <a:pt x="3162" y="5727"/>
                  <a:pt x="3111" y="5768"/>
                  <a:pt x="3051" y="5779"/>
                </a:cubicBezTo>
                <a:cubicBezTo>
                  <a:pt x="3001" y="5779"/>
                  <a:pt x="2985" y="5779"/>
                  <a:pt x="2952" y="5779"/>
                </a:cubicBezTo>
              </a:path>
              <a:path w="2159" h="2457">
                <a:moveTo>
                  <a:pt x="2456" y="5953"/>
                </a:moveTo>
                <a:cubicBezTo>
                  <a:pt x="2518" y="5984"/>
                  <a:pt x="2628" y="5997"/>
                  <a:pt x="2704" y="5978"/>
                </a:cubicBezTo>
                <a:cubicBezTo>
                  <a:pt x="2788" y="5957"/>
                  <a:pt x="2861" y="5953"/>
                  <a:pt x="2952" y="5953"/>
                </a:cubicBezTo>
                <a:cubicBezTo>
                  <a:pt x="3000" y="5953"/>
                  <a:pt x="3372" y="5929"/>
                  <a:pt x="3373" y="5978"/>
                </a:cubicBezTo>
                <a:cubicBezTo>
                  <a:pt x="3365" y="5978"/>
                  <a:pt x="3357" y="5978"/>
                  <a:pt x="3349" y="5978"/>
                </a:cubicBezTo>
              </a:path>
              <a:path w="2159" h="2457">
                <a:moveTo>
                  <a:pt x="2753" y="6251"/>
                </a:moveTo>
                <a:cubicBezTo>
                  <a:pt x="2805" y="6244"/>
                  <a:pt x="2857" y="6206"/>
                  <a:pt x="2902" y="6201"/>
                </a:cubicBezTo>
                <a:cubicBezTo>
                  <a:pt x="3004" y="6189"/>
                  <a:pt x="3055" y="6189"/>
                  <a:pt x="3150" y="6201"/>
                </a:cubicBezTo>
                <a:cubicBezTo>
                  <a:pt x="3141" y="6263"/>
                  <a:pt x="3121" y="6300"/>
                  <a:pt x="3076" y="6350"/>
                </a:cubicBezTo>
                <a:cubicBezTo>
                  <a:pt x="3045" y="6385"/>
                  <a:pt x="2974" y="6398"/>
                  <a:pt x="2927" y="6424"/>
                </a:cubicBezTo>
                <a:cubicBezTo>
                  <a:pt x="2996" y="6399"/>
                  <a:pt x="3056" y="6382"/>
                  <a:pt x="3125" y="6424"/>
                </a:cubicBezTo>
                <a:cubicBezTo>
                  <a:pt x="3169" y="6451"/>
                  <a:pt x="3259" y="6523"/>
                  <a:pt x="3274" y="6573"/>
                </a:cubicBezTo>
                <a:cubicBezTo>
                  <a:pt x="3302" y="6669"/>
                  <a:pt x="3211" y="6716"/>
                  <a:pt x="3150" y="6747"/>
                </a:cubicBezTo>
                <a:cubicBezTo>
                  <a:pt x="3047" y="6799"/>
                  <a:pt x="2972" y="6777"/>
                  <a:pt x="2877" y="6772"/>
                </a:cubicBezTo>
                <a:cubicBezTo>
                  <a:pt x="2822" y="6769"/>
                  <a:pt x="2757" y="6787"/>
                  <a:pt x="2729" y="6722"/>
                </a:cubicBezTo>
                <a:cubicBezTo>
                  <a:pt x="2729" y="6714"/>
                  <a:pt x="2729" y="6705"/>
                  <a:pt x="2729" y="6697"/>
                </a:cubicBezTo>
              </a:path>
              <a:path w="2159" h="2457">
                <a:moveTo>
                  <a:pt x="2183" y="4812"/>
                </a:moveTo>
                <a:cubicBezTo>
                  <a:pt x="2148" y="4891"/>
                  <a:pt x="2120" y="4975"/>
                  <a:pt x="2108" y="5060"/>
                </a:cubicBezTo>
                <a:cubicBezTo>
                  <a:pt x="2089" y="5194"/>
                  <a:pt x="2029" y="5322"/>
                  <a:pt x="2009" y="5457"/>
                </a:cubicBezTo>
                <a:cubicBezTo>
                  <a:pt x="1990" y="5582"/>
                  <a:pt x="1984" y="5702"/>
                  <a:pt x="1984" y="5829"/>
                </a:cubicBezTo>
                <a:cubicBezTo>
                  <a:pt x="1984" y="5962"/>
                  <a:pt x="2024" y="6074"/>
                  <a:pt x="2059" y="6201"/>
                </a:cubicBezTo>
                <a:cubicBezTo>
                  <a:pt x="2114" y="6402"/>
                  <a:pt x="2170" y="6560"/>
                  <a:pt x="2257" y="6747"/>
                </a:cubicBezTo>
                <a:cubicBezTo>
                  <a:pt x="2329" y="6903"/>
                  <a:pt x="2387" y="7026"/>
                  <a:pt x="2480" y="7169"/>
                </a:cubicBezTo>
                <a:cubicBezTo>
                  <a:pt x="2505" y="7218"/>
                  <a:pt x="2514" y="7235"/>
                  <a:pt x="2530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Ink 13"/>
          <p:cNvSpPr/>
          <p:nvPr/>
        </p:nvSpPr>
        <p:spPr>
          <a:xfrm>
            <a:off x="1455840" y="2044800"/>
            <a:ext cx="196920" cy="18720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4242" y="5680"/>
                </a:moveTo>
                <a:cubicBezTo>
                  <a:pt x="4242" y="5749"/>
                  <a:pt x="4260" y="5824"/>
                  <a:pt x="4266" y="5879"/>
                </a:cubicBezTo>
                <a:cubicBezTo>
                  <a:pt x="4277" y="5974"/>
                  <a:pt x="4274" y="6069"/>
                  <a:pt x="4291" y="6152"/>
                </a:cubicBezTo>
                <a:cubicBezTo>
                  <a:pt x="4291" y="6168"/>
                  <a:pt x="4291" y="6185"/>
                  <a:pt x="4291" y="6201"/>
                </a:cubicBezTo>
              </a:path>
              <a:path w="547" h="522">
                <a:moveTo>
                  <a:pt x="4043" y="5928"/>
                </a:moveTo>
                <a:cubicBezTo>
                  <a:pt x="4163" y="5928"/>
                  <a:pt x="4276" y="5936"/>
                  <a:pt x="4390" y="5953"/>
                </a:cubicBezTo>
                <a:cubicBezTo>
                  <a:pt x="4459" y="5963"/>
                  <a:pt x="4534" y="5961"/>
                  <a:pt x="4589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14"/>
          <p:cNvSpPr/>
          <p:nvPr/>
        </p:nvSpPr>
        <p:spPr>
          <a:xfrm>
            <a:off x="2071800" y="1955880"/>
            <a:ext cx="27000" cy="465120"/>
          </a:xfrm>
          <a:custGeom>
            <a:avLst/>
            <a:gdLst/>
            <a:ahLst/>
            <a:rect l="l" t="t" r="r" b="b"/>
            <a:pathLst>
              <a:path w="75" h="1291">
                <a:moveTo>
                  <a:pt x="5755" y="5432"/>
                </a:moveTo>
                <a:cubicBezTo>
                  <a:pt x="5795" y="5502"/>
                  <a:pt x="5768" y="5573"/>
                  <a:pt x="5779" y="5655"/>
                </a:cubicBezTo>
                <a:cubicBezTo>
                  <a:pt x="5794" y="5763"/>
                  <a:pt x="5804" y="5845"/>
                  <a:pt x="5804" y="5953"/>
                </a:cubicBezTo>
                <a:cubicBezTo>
                  <a:pt x="5804" y="6196"/>
                  <a:pt x="5775" y="6465"/>
                  <a:pt x="5829" y="6697"/>
                </a:cubicBezTo>
                <a:cubicBezTo>
                  <a:pt x="5829" y="6705"/>
                  <a:pt x="5829" y="6714"/>
                  <a:pt x="5829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Ink 15"/>
          <p:cNvSpPr/>
          <p:nvPr/>
        </p:nvSpPr>
        <p:spPr>
          <a:xfrm>
            <a:off x="5715000" y="1938240"/>
            <a:ext cx="1420920" cy="677880"/>
          </a:xfrm>
          <a:custGeom>
            <a:avLst/>
            <a:gdLst/>
            <a:ahLst/>
            <a:rect l="l" t="t" r="r" b="b"/>
            <a:pathLst>
              <a:path w="3945" h="1886">
                <a:moveTo>
                  <a:pt x="16123" y="5705"/>
                </a:moveTo>
                <a:lnTo>
                  <a:pt x="16123" y="5705"/>
                </a:lnTo>
              </a:path>
              <a:path w="3945" h="1886">
                <a:moveTo>
                  <a:pt x="16148" y="5953"/>
                </a:moveTo>
                <a:cubicBezTo>
                  <a:pt x="16156" y="6030"/>
                  <a:pt x="16173" y="6072"/>
                  <a:pt x="16173" y="6152"/>
                </a:cubicBezTo>
                <a:cubicBezTo>
                  <a:pt x="16173" y="6243"/>
                  <a:pt x="16135" y="6531"/>
                  <a:pt x="16197" y="6573"/>
                </a:cubicBezTo>
              </a:path>
              <a:path w="3945" h="1886">
                <a:moveTo>
                  <a:pt x="15875" y="6325"/>
                </a:moveTo>
                <a:cubicBezTo>
                  <a:pt x="16107" y="6325"/>
                  <a:pt x="16338" y="6325"/>
                  <a:pt x="16570" y="6325"/>
                </a:cubicBezTo>
              </a:path>
              <a:path w="3945" h="1886">
                <a:moveTo>
                  <a:pt x="17289" y="5606"/>
                </a:moveTo>
                <a:lnTo>
                  <a:pt x="17289" y="5606"/>
                </a:lnTo>
              </a:path>
              <a:path w="3945" h="1886">
                <a:moveTo>
                  <a:pt x="17289" y="5606"/>
                </a:moveTo>
                <a:cubicBezTo>
                  <a:pt x="17322" y="5639"/>
                  <a:pt x="17355" y="5672"/>
                  <a:pt x="17388" y="5705"/>
                </a:cubicBezTo>
              </a:path>
              <a:path w="3945" h="1886">
                <a:moveTo>
                  <a:pt x="17388" y="5705"/>
                </a:moveTo>
                <a:cubicBezTo>
                  <a:pt x="17388" y="5827"/>
                  <a:pt x="17377" y="5935"/>
                  <a:pt x="17363" y="6052"/>
                </a:cubicBezTo>
                <a:cubicBezTo>
                  <a:pt x="17353" y="6142"/>
                  <a:pt x="17341" y="6235"/>
                  <a:pt x="17338" y="6325"/>
                </a:cubicBezTo>
                <a:cubicBezTo>
                  <a:pt x="17335" y="6396"/>
                  <a:pt x="17300" y="6683"/>
                  <a:pt x="17363" y="6722"/>
                </a:cubicBezTo>
                <a:cubicBezTo>
                  <a:pt x="17371" y="6722"/>
                  <a:pt x="17380" y="6722"/>
                  <a:pt x="17388" y="6722"/>
                </a:cubicBezTo>
              </a:path>
              <a:path w="3945" h="1886">
                <a:moveTo>
                  <a:pt x="18107" y="6003"/>
                </a:moveTo>
                <a:cubicBezTo>
                  <a:pt x="18036" y="5978"/>
                  <a:pt x="18100" y="6073"/>
                  <a:pt x="18107" y="6127"/>
                </a:cubicBezTo>
                <a:cubicBezTo>
                  <a:pt x="18127" y="6283"/>
                  <a:pt x="18076" y="6450"/>
                  <a:pt x="18132" y="6598"/>
                </a:cubicBezTo>
              </a:path>
              <a:path w="3945" h="1886">
                <a:moveTo>
                  <a:pt x="17810" y="6276"/>
                </a:moveTo>
                <a:cubicBezTo>
                  <a:pt x="17892" y="6316"/>
                  <a:pt x="17941" y="6325"/>
                  <a:pt x="18033" y="6325"/>
                </a:cubicBezTo>
                <a:cubicBezTo>
                  <a:pt x="18149" y="6325"/>
                  <a:pt x="18264" y="6325"/>
                  <a:pt x="18380" y="6325"/>
                </a:cubicBezTo>
              </a:path>
              <a:path w="3945" h="1886">
                <a:moveTo>
                  <a:pt x="18876" y="5854"/>
                </a:moveTo>
                <a:cubicBezTo>
                  <a:pt x="18876" y="5931"/>
                  <a:pt x="18883" y="6019"/>
                  <a:pt x="18876" y="6077"/>
                </a:cubicBezTo>
                <a:cubicBezTo>
                  <a:pt x="18873" y="6099"/>
                  <a:pt x="18876" y="6311"/>
                  <a:pt x="18876" y="6176"/>
                </a:cubicBezTo>
                <a:cubicBezTo>
                  <a:pt x="18876" y="6009"/>
                  <a:pt x="18872" y="5832"/>
                  <a:pt x="18901" y="5680"/>
                </a:cubicBezTo>
                <a:cubicBezTo>
                  <a:pt x="18914" y="5611"/>
                  <a:pt x="18901" y="5527"/>
                  <a:pt x="18901" y="5457"/>
                </a:cubicBezTo>
                <a:cubicBezTo>
                  <a:pt x="18998" y="5457"/>
                  <a:pt x="19081" y="5445"/>
                  <a:pt x="19174" y="5432"/>
                </a:cubicBezTo>
                <a:cubicBezTo>
                  <a:pt x="19280" y="5418"/>
                  <a:pt x="19391" y="5427"/>
                  <a:pt x="19496" y="5407"/>
                </a:cubicBezTo>
                <a:cubicBezTo>
                  <a:pt x="19592" y="5389"/>
                  <a:pt x="19628" y="5374"/>
                  <a:pt x="19720" y="5407"/>
                </a:cubicBezTo>
              </a:path>
              <a:path w="3945" h="1886">
                <a:moveTo>
                  <a:pt x="19199" y="5655"/>
                </a:moveTo>
                <a:cubicBezTo>
                  <a:pt x="19243" y="5681"/>
                  <a:pt x="19315" y="5696"/>
                  <a:pt x="19372" y="5680"/>
                </a:cubicBezTo>
                <a:cubicBezTo>
                  <a:pt x="19446" y="5659"/>
                  <a:pt x="19479" y="5639"/>
                  <a:pt x="19546" y="5680"/>
                </a:cubicBezTo>
                <a:cubicBezTo>
                  <a:pt x="19537" y="5740"/>
                  <a:pt x="19518" y="5808"/>
                  <a:pt x="19447" y="5829"/>
                </a:cubicBezTo>
                <a:cubicBezTo>
                  <a:pt x="19392" y="5845"/>
                  <a:pt x="19371" y="5840"/>
                  <a:pt x="19323" y="5879"/>
                </a:cubicBezTo>
                <a:cubicBezTo>
                  <a:pt x="19369" y="5925"/>
                  <a:pt x="19418" y="5947"/>
                  <a:pt x="19472" y="5978"/>
                </a:cubicBezTo>
                <a:cubicBezTo>
                  <a:pt x="19531" y="6012"/>
                  <a:pt x="19603" y="6026"/>
                  <a:pt x="19621" y="6102"/>
                </a:cubicBezTo>
                <a:cubicBezTo>
                  <a:pt x="19637" y="6172"/>
                  <a:pt x="19554" y="6213"/>
                  <a:pt x="19496" y="6226"/>
                </a:cubicBezTo>
                <a:cubicBezTo>
                  <a:pt x="19422" y="6243"/>
                  <a:pt x="19362" y="6212"/>
                  <a:pt x="19298" y="6251"/>
                </a:cubicBezTo>
              </a:path>
              <a:path w="3945" h="1886">
                <a:moveTo>
                  <a:pt x="18777" y="6276"/>
                </a:moveTo>
                <a:cubicBezTo>
                  <a:pt x="18819" y="6308"/>
                  <a:pt x="18881" y="6341"/>
                  <a:pt x="18926" y="6350"/>
                </a:cubicBezTo>
                <a:cubicBezTo>
                  <a:pt x="18995" y="6364"/>
                  <a:pt x="19079" y="6371"/>
                  <a:pt x="19149" y="6375"/>
                </a:cubicBezTo>
                <a:cubicBezTo>
                  <a:pt x="19214" y="6378"/>
                  <a:pt x="19270" y="6389"/>
                  <a:pt x="19323" y="6400"/>
                </a:cubicBezTo>
                <a:cubicBezTo>
                  <a:pt x="19475" y="6431"/>
                  <a:pt x="19663" y="6400"/>
                  <a:pt x="19819" y="6400"/>
                </a:cubicBezTo>
              </a:path>
              <a:path w="3945" h="1886">
                <a:moveTo>
                  <a:pt x="19224" y="6573"/>
                </a:moveTo>
                <a:cubicBezTo>
                  <a:pt x="19295" y="6573"/>
                  <a:pt x="19333" y="6551"/>
                  <a:pt x="19397" y="6548"/>
                </a:cubicBezTo>
                <a:cubicBezTo>
                  <a:pt x="19507" y="6543"/>
                  <a:pt x="19521" y="6548"/>
                  <a:pt x="19596" y="6623"/>
                </a:cubicBezTo>
                <a:cubicBezTo>
                  <a:pt x="19562" y="6666"/>
                  <a:pt x="19535" y="6707"/>
                  <a:pt x="19496" y="6747"/>
                </a:cubicBezTo>
                <a:cubicBezTo>
                  <a:pt x="19458" y="6786"/>
                  <a:pt x="19411" y="6806"/>
                  <a:pt x="19372" y="6846"/>
                </a:cubicBezTo>
                <a:cubicBezTo>
                  <a:pt x="19364" y="6854"/>
                  <a:pt x="19356" y="6863"/>
                  <a:pt x="19348" y="6871"/>
                </a:cubicBezTo>
                <a:cubicBezTo>
                  <a:pt x="19420" y="6860"/>
                  <a:pt x="19432" y="6858"/>
                  <a:pt x="19496" y="6871"/>
                </a:cubicBezTo>
                <a:cubicBezTo>
                  <a:pt x="19556" y="6883"/>
                  <a:pt x="19614" y="6906"/>
                  <a:pt x="19670" y="6945"/>
                </a:cubicBezTo>
                <a:cubicBezTo>
                  <a:pt x="19693" y="6968"/>
                  <a:pt x="19701" y="6972"/>
                  <a:pt x="19695" y="6995"/>
                </a:cubicBezTo>
              </a:path>
              <a:path w="3945" h="1886">
                <a:moveTo>
                  <a:pt x="19695" y="7144"/>
                </a:moveTo>
                <a:cubicBezTo>
                  <a:pt x="19626" y="7220"/>
                  <a:pt x="19580" y="7262"/>
                  <a:pt x="19472" y="7268"/>
                </a:cubicBezTo>
                <a:cubicBezTo>
                  <a:pt x="19353" y="7275"/>
                  <a:pt x="19227" y="7275"/>
                  <a:pt x="19124" y="7243"/>
                </a:cubicBezTo>
                <a:cubicBezTo>
                  <a:pt x="19116" y="7243"/>
                  <a:pt x="19108" y="7243"/>
                  <a:pt x="19100" y="7243"/>
                </a:cubicBezTo>
              </a:path>
              <a:path w="3945" h="1886">
                <a:moveTo>
                  <a:pt x="16892" y="5631"/>
                </a:moveTo>
                <a:cubicBezTo>
                  <a:pt x="16957" y="5577"/>
                  <a:pt x="17006" y="5535"/>
                  <a:pt x="17090" y="5531"/>
                </a:cubicBezTo>
                <a:cubicBezTo>
                  <a:pt x="17177" y="5527"/>
                  <a:pt x="17206" y="5523"/>
                  <a:pt x="17264" y="5581"/>
                </a:cubicBezTo>
                <a:cubicBezTo>
                  <a:pt x="17314" y="5631"/>
                  <a:pt x="17276" y="5681"/>
                  <a:pt x="17239" y="5730"/>
                </a:cubicBezTo>
                <a:cubicBezTo>
                  <a:pt x="17192" y="5792"/>
                  <a:pt x="17111" y="5804"/>
                  <a:pt x="17190" y="5804"/>
                </a:cubicBezTo>
                <a:cubicBezTo>
                  <a:pt x="17257" y="5804"/>
                  <a:pt x="17309" y="5818"/>
                  <a:pt x="17363" y="5829"/>
                </a:cubicBezTo>
                <a:cubicBezTo>
                  <a:pt x="17430" y="5842"/>
                  <a:pt x="17437" y="5854"/>
                  <a:pt x="17487" y="5904"/>
                </a:cubicBezTo>
                <a:cubicBezTo>
                  <a:pt x="17550" y="5965"/>
                  <a:pt x="17496" y="6018"/>
                  <a:pt x="17438" y="6052"/>
                </a:cubicBezTo>
                <a:cubicBezTo>
                  <a:pt x="17354" y="6101"/>
                  <a:pt x="17283" y="6102"/>
                  <a:pt x="17190" y="6102"/>
                </a:cubicBezTo>
                <a:cubicBezTo>
                  <a:pt x="17119" y="6102"/>
                  <a:pt x="17094" y="6109"/>
                  <a:pt x="17041" y="6077"/>
                </a:cubicBezTo>
              </a:path>
              <a:path w="3945" h="1886">
                <a:moveTo>
                  <a:pt x="16917" y="6226"/>
                </a:moveTo>
                <a:cubicBezTo>
                  <a:pt x="17008" y="6226"/>
                  <a:pt x="17088" y="6235"/>
                  <a:pt x="17165" y="6251"/>
                </a:cubicBezTo>
                <a:cubicBezTo>
                  <a:pt x="17234" y="6265"/>
                  <a:pt x="17319" y="6272"/>
                  <a:pt x="17388" y="6276"/>
                </a:cubicBezTo>
                <a:cubicBezTo>
                  <a:pt x="17460" y="6280"/>
                  <a:pt x="17527" y="6288"/>
                  <a:pt x="17587" y="6300"/>
                </a:cubicBezTo>
                <a:cubicBezTo>
                  <a:pt x="17603" y="6300"/>
                  <a:pt x="17620" y="6300"/>
                  <a:pt x="17636" y="6300"/>
                </a:cubicBezTo>
              </a:path>
              <a:path w="3945" h="1886">
                <a:moveTo>
                  <a:pt x="17041" y="6548"/>
                </a:moveTo>
                <a:cubicBezTo>
                  <a:pt x="17092" y="6518"/>
                  <a:pt x="17179" y="6503"/>
                  <a:pt x="17239" y="6499"/>
                </a:cubicBezTo>
                <a:cubicBezTo>
                  <a:pt x="17287" y="6496"/>
                  <a:pt x="17391" y="6487"/>
                  <a:pt x="17413" y="6548"/>
                </a:cubicBezTo>
                <a:cubicBezTo>
                  <a:pt x="17431" y="6597"/>
                  <a:pt x="17375" y="6648"/>
                  <a:pt x="17338" y="6672"/>
                </a:cubicBezTo>
                <a:cubicBezTo>
                  <a:pt x="17282" y="6708"/>
                  <a:pt x="17105" y="6803"/>
                  <a:pt x="17165" y="6772"/>
                </a:cubicBezTo>
                <a:cubicBezTo>
                  <a:pt x="17217" y="6745"/>
                  <a:pt x="17304" y="6730"/>
                  <a:pt x="17363" y="6747"/>
                </a:cubicBezTo>
                <a:cubicBezTo>
                  <a:pt x="17451" y="6772"/>
                  <a:pt x="17433" y="6812"/>
                  <a:pt x="17462" y="6871"/>
                </a:cubicBezTo>
                <a:cubicBezTo>
                  <a:pt x="17499" y="6945"/>
                  <a:pt x="17478" y="6931"/>
                  <a:pt x="17438" y="6995"/>
                </a:cubicBezTo>
                <a:cubicBezTo>
                  <a:pt x="17402" y="7052"/>
                  <a:pt x="17358" y="7065"/>
                  <a:pt x="17289" y="7069"/>
                </a:cubicBezTo>
                <a:cubicBezTo>
                  <a:pt x="17200" y="7074"/>
                  <a:pt x="17123" y="7058"/>
                  <a:pt x="17041" y="7045"/>
                </a:cubicBezTo>
                <a:cubicBezTo>
                  <a:pt x="17024" y="7045"/>
                  <a:pt x="17008" y="7045"/>
                  <a:pt x="16991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Ink 16"/>
          <p:cNvSpPr/>
          <p:nvPr/>
        </p:nvSpPr>
        <p:spPr>
          <a:xfrm>
            <a:off x="758880" y="2608200"/>
            <a:ext cx="1473120" cy="776520"/>
          </a:xfrm>
          <a:custGeom>
            <a:avLst/>
            <a:gdLst/>
            <a:ahLst/>
            <a:rect l="l" t="t" r="r" b="b"/>
            <a:pathLst>
              <a:path w="4094" h="2159">
                <a:moveTo>
                  <a:pt x="2704" y="7615"/>
                </a:moveTo>
                <a:cubicBezTo>
                  <a:pt x="2723" y="7703"/>
                  <a:pt x="2708" y="7804"/>
                  <a:pt x="2729" y="7888"/>
                </a:cubicBezTo>
                <a:cubicBezTo>
                  <a:pt x="2756" y="7993"/>
                  <a:pt x="2753" y="8099"/>
                  <a:pt x="2753" y="8210"/>
                </a:cubicBezTo>
                <a:cubicBezTo>
                  <a:pt x="2753" y="8345"/>
                  <a:pt x="2752" y="8487"/>
                  <a:pt x="2729" y="8607"/>
                </a:cubicBezTo>
                <a:cubicBezTo>
                  <a:pt x="2720" y="8652"/>
                  <a:pt x="2729" y="8710"/>
                  <a:pt x="2729" y="8756"/>
                </a:cubicBezTo>
              </a:path>
              <a:path w="4094" h="2159">
                <a:moveTo>
                  <a:pt x="3150" y="8210"/>
                </a:moveTo>
                <a:cubicBezTo>
                  <a:pt x="3243" y="8220"/>
                  <a:pt x="3326" y="8235"/>
                  <a:pt x="3423" y="8235"/>
                </a:cubicBezTo>
                <a:cubicBezTo>
                  <a:pt x="3536" y="8235"/>
                  <a:pt x="3787" y="8279"/>
                  <a:pt x="3770" y="8186"/>
                </a:cubicBezTo>
              </a:path>
              <a:path w="4094" h="2159">
                <a:moveTo>
                  <a:pt x="4589" y="7689"/>
                </a:moveTo>
                <a:cubicBezTo>
                  <a:pt x="4550" y="7754"/>
                  <a:pt x="4564" y="7833"/>
                  <a:pt x="4564" y="7913"/>
                </a:cubicBezTo>
                <a:cubicBezTo>
                  <a:pt x="4564" y="7958"/>
                  <a:pt x="4564" y="8228"/>
                  <a:pt x="4564" y="8111"/>
                </a:cubicBezTo>
                <a:cubicBezTo>
                  <a:pt x="4564" y="7974"/>
                  <a:pt x="4561" y="7844"/>
                  <a:pt x="4539" y="7714"/>
                </a:cubicBezTo>
                <a:cubicBezTo>
                  <a:pt x="4528" y="7647"/>
                  <a:pt x="4525" y="7515"/>
                  <a:pt x="4564" y="7466"/>
                </a:cubicBezTo>
                <a:cubicBezTo>
                  <a:pt x="4604" y="7416"/>
                  <a:pt x="4727" y="7419"/>
                  <a:pt x="4787" y="7417"/>
                </a:cubicBezTo>
                <a:cubicBezTo>
                  <a:pt x="4878" y="7414"/>
                  <a:pt x="4950" y="7436"/>
                  <a:pt x="5035" y="7441"/>
                </a:cubicBezTo>
                <a:cubicBezTo>
                  <a:pt x="5101" y="7445"/>
                  <a:pt x="5156" y="7448"/>
                  <a:pt x="5209" y="7417"/>
                </a:cubicBezTo>
              </a:path>
              <a:path w="4094" h="2159">
                <a:moveTo>
                  <a:pt x="4862" y="7565"/>
                </a:moveTo>
                <a:cubicBezTo>
                  <a:pt x="4918" y="7593"/>
                  <a:pt x="4942" y="7534"/>
                  <a:pt x="5011" y="7541"/>
                </a:cubicBezTo>
                <a:cubicBezTo>
                  <a:pt x="5034" y="7543"/>
                  <a:pt x="5161" y="7572"/>
                  <a:pt x="5159" y="7615"/>
                </a:cubicBezTo>
                <a:cubicBezTo>
                  <a:pt x="5156" y="7685"/>
                  <a:pt x="5104" y="7720"/>
                  <a:pt x="5060" y="7764"/>
                </a:cubicBezTo>
                <a:cubicBezTo>
                  <a:pt x="5018" y="7806"/>
                  <a:pt x="4962" y="7834"/>
                  <a:pt x="4911" y="7863"/>
                </a:cubicBezTo>
                <a:cubicBezTo>
                  <a:pt x="4992" y="7863"/>
                  <a:pt x="5058" y="7858"/>
                  <a:pt x="5135" y="7888"/>
                </a:cubicBezTo>
                <a:cubicBezTo>
                  <a:pt x="5203" y="7914"/>
                  <a:pt x="5246" y="8000"/>
                  <a:pt x="5184" y="8062"/>
                </a:cubicBezTo>
                <a:cubicBezTo>
                  <a:pt x="5145" y="8101"/>
                  <a:pt x="4988" y="8108"/>
                  <a:pt x="4936" y="8111"/>
                </a:cubicBezTo>
                <a:cubicBezTo>
                  <a:pt x="4895" y="8113"/>
                  <a:pt x="4853" y="8111"/>
                  <a:pt x="4812" y="8111"/>
                </a:cubicBezTo>
              </a:path>
              <a:path w="4094" h="2159">
                <a:moveTo>
                  <a:pt x="4390" y="8235"/>
                </a:moveTo>
                <a:cubicBezTo>
                  <a:pt x="4479" y="8235"/>
                  <a:pt x="4556" y="8247"/>
                  <a:pt x="4638" y="8260"/>
                </a:cubicBezTo>
                <a:cubicBezTo>
                  <a:pt x="4865" y="8296"/>
                  <a:pt x="5127" y="8260"/>
                  <a:pt x="5358" y="8260"/>
                </a:cubicBezTo>
              </a:path>
              <a:path w="4094" h="2159">
                <a:moveTo>
                  <a:pt x="4762" y="8458"/>
                </a:moveTo>
                <a:cubicBezTo>
                  <a:pt x="4827" y="8435"/>
                  <a:pt x="4915" y="8395"/>
                  <a:pt x="4986" y="8409"/>
                </a:cubicBezTo>
                <a:cubicBezTo>
                  <a:pt x="5035" y="8434"/>
                  <a:pt x="5052" y="8442"/>
                  <a:pt x="5085" y="8458"/>
                </a:cubicBezTo>
                <a:cubicBezTo>
                  <a:pt x="5076" y="8524"/>
                  <a:pt x="5059" y="8534"/>
                  <a:pt x="5011" y="8582"/>
                </a:cubicBezTo>
                <a:cubicBezTo>
                  <a:pt x="4967" y="8626"/>
                  <a:pt x="4911" y="8607"/>
                  <a:pt x="4862" y="8632"/>
                </a:cubicBezTo>
                <a:cubicBezTo>
                  <a:pt x="4854" y="8640"/>
                  <a:pt x="4845" y="8649"/>
                  <a:pt x="4837" y="8657"/>
                </a:cubicBezTo>
                <a:cubicBezTo>
                  <a:pt x="4919" y="8626"/>
                  <a:pt x="4939" y="8642"/>
                  <a:pt x="5011" y="8657"/>
                </a:cubicBezTo>
                <a:cubicBezTo>
                  <a:pt x="5078" y="8671"/>
                  <a:pt x="5140" y="8672"/>
                  <a:pt x="5159" y="8756"/>
                </a:cubicBezTo>
                <a:cubicBezTo>
                  <a:pt x="5172" y="8814"/>
                  <a:pt x="5165" y="8904"/>
                  <a:pt x="5135" y="8954"/>
                </a:cubicBezTo>
                <a:cubicBezTo>
                  <a:pt x="5093" y="9023"/>
                  <a:pt x="4977" y="9004"/>
                  <a:pt x="4911" y="9004"/>
                </a:cubicBezTo>
                <a:cubicBezTo>
                  <a:pt x="4844" y="9004"/>
                  <a:pt x="4791" y="8990"/>
                  <a:pt x="4738" y="8979"/>
                </a:cubicBezTo>
                <a:cubicBezTo>
                  <a:pt x="4676" y="8967"/>
                  <a:pt x="4659" y="8987"/>
                  <a:pt x="4688" y="8930"/>
                </a:cubicBezTo>
              </a:path>
              <a:path w="4094" h="2159">
                <a:moveTo>
                  <a:pt x="2505" y="7243"/>
                </a:moveTo>
                <a:cubicBezTo>
                  <a:pt x="2443" y="7306"/>
                  <a:pt x="2441" y="7360"/>
                  <a:pt x="2381" y="7441"/>
                </a:cubicBezTo>
                <a:cubicBezTo>
                  <a:pt x="2336" y="7502"/>
                  <a:pt x="2296" y="7573"/>
                  <a:pt x="2257" y="7640"/>
                </a:cubicBezTo>
                <a:cubicBezTo>
                  <a:pt x="2217" y="7709"/>
                  <a:pt x="2184" y="7768"/>
                  <a:pt x="2158" y="7838"/>
                </a:cubicBezTo>
                <a:cubicBezTo>
                  <a:pt x="2130" y="7915"/>
                  <a:pt x="2111" y="8003"/>
                  <a:pt x="2108" y="8086"/>
                </a:cubicBezTo>
                <a:cubicBezTo>
                  <a:pt x="2104" y="8178"/>
                  <a:pt x="2116" y="8251"/>
                  <a:pt x="2133" y="8334"/>
                </a:cubicBezTo>
                <a:cubicBezTo>
                  <a:pt x="2154" y="8438"/>
                  <a:pt x="2187" y="8506"/>
                  <a:pt x="2257" y="8582"/>
                </a:cubicBezTo>
                <a:cubicBezTo>
                  <a:pt x="2306" y="8635"/>
                  <a:pt x="2312" y="8702"/>
                  <a:pt x="2356" y="8756"/>
                </a:cubicBezTo>
                <a:cubicBezTo>
                  <a:pt x="2391" y="8799"/>
                  <a:pt x="2423" y="8836"/>
                  <a:pt x="2456" y="8880"/>
                </a:cubicBezTo>
                <a:cubicBezTo>
                  <a:pt x="2464" y="8888"/>
                  <a:pt x="2472" y="8897"/>
                  <a:pt x="2480" y="8905"/>
                </a:cubicBezTo>
              </a:path>
              <a:path w="4094" h="2159">
                <a:moveTo>
                  <a:pt x="5730" y="7466"/>
                </a:moveTo>
                <a:cubicBezTo>
                  <a:pt x="5781" y="7505"/>
                  <a:pt x="5838" y="7537"/>
                  <a:pt x="5879" y="7590"/>
                </a:cubicBezTo>
                <a:cubicBezTo>
                  <a:pt x="5929" y="7654"/>
                  <a:pt x="5941" y="7744"/>
                  <a:pt x="5978" y="7813"/>
                </a:cubicBezTo>
                <a:cubicBezTo>
                  <a:pt x="6065" y="7974"/>
                  <a:pt x="6089" y="8047"/>
                  <a:pt x="6127" y="8235"/>
                </a:cubicBezTo>
                <a:cubicBezTo>
                  <a:pt x="6156" y="8376"/>
                  <a:pt x="6189" y="8514"/>
                  <a:pt x="6201" y="8657"/>
                </a:cubicBezTo>
                <a:cubicBezTo>
                  <a:pt x="6213" y="8809"/>
                  <a:pt x="6170" y="8959"/>
                  <a:pt x="6127" y="9103"/>
                </a:cubicBezTo>
                <a:cubicBezTo>
                  <a:pt x="6105" y="9175"/>
                  <a:pt x="6061" y="9278"/>
                  <a:pt x="6003" y="9327"/>
                </a:cubicBezTo>
                <a:cubicBezTo>
                  <a:pt x="5940" y="9381"/>
                  <a:pt x="5922" y="9384"/>
                  <a:pt x="5854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k 17"/>
          <p:cNvSpPr/>
          <p:nvPr/>
        </p:nvSpPr>
        <p:spPr>
          <a:xfrm>
            <a:off x="4500720" y="2884320"/>
            <a:ext cx="2635200" cy="625680"/>
          </a:xfrm>
          <a:custGeom>
            <a:avLst/>
            <a:gdLst/>
            <a:ahLst/>
            <a:rect l="l" t="t" r="r" b="b"/>
            <a:pathLst>
              <a:path w="7318" h="1737">
                <a:moveTo>
                  <a:pt x="12502" y="8235"/>
                </a:moveTo>
                <a:cubicBezTo>
                  <a:pt x="12511" y="8328"/>
                  <a:pt x="12526" y="8413"/>
                  <a:pt x="12526" y="8508"/>
                </a:cubicBezTo>
                <a:cubicBezTo>
                  <a:pt x="12526" y="8602"/>
                  <a:pt x="12551" y="8685"/>
                  <a:pt x="12551" y="8781"/>
                </a:cubicBezTo>
                <a:cubicBezTo>
                  <a:pt x="12551" y="8991"/>
                  <a:pt x="12555" y="9197"/>
                  <a:pt x="12526" y="9401"/>
                </a:cubicBezTo>
                <a:cubicBezTo>
                  <a:pt x="12516" y="9472"/>
                  <a:pt x="12526" y="9552"/>
                  <a:pt x="12526" y="9624"/>
                </a:cubicBezTo>
              </a:path>
              <a:path w="7318" h="1737">
                <a:moveTo>
                  <a:pt x="13469" y="8458"/>
                </a:moveTo>
                <a:cubicBezTo>
                  <a:pt x="13469" y="8574"/>
                  <a:pt x="13523" y="9051"/>
                  <a:pt x="13444" y="9103"/>
                </a:cubicBezTo>
              </a:path>
              <a:path w="7318" h="1737">
                <a:moveTo>
                  <a:pt x="13246" y="8880"/>
                </a:moveTo>
                <a:cubicBezTo>
                  <a:pt x="13307" y="8917"/>
                  <a:pt x="13391" y="8926"/>
                  <a:pt x="13469" y="8930"/>
                </a:cubicBezTo>
                <a:cubicBezTo>
                  <a:pt x="13527" y="8930"/>
                  <a:pt x="13552" y="8930"/>
                  <a:pt x="13593" y="8930"/>
                </a:cubicBezTo>
              </a:path>
              <a:path w="7318" h="1737">
                <a:moveTo>
                  <a:pt x="14188" y="8434"/>
                </a:moveTo>
                <a:cubicBezTo>
                  <a:pt x="14188" y="8525"/>
                  <a:pt x="14167" y="8655"/>
                  <a:pt x="14213" y="8731"/>
                </a:cubicBezTo>
                <a:cubicBezTo>
                  <a:pt x="14213" y="8586"/>
                  <a:pt x="14151" y="8245"/>
                  <a:pt x="14238" y="8136"/>
                </a:cubicBezTo>
                <a:cubicBezTo>
                  <a:pt x="14277" y="8087"/>
                  <a:pt x="14302" y="8065"/>
                  <a:pt x="14362" y="8062"/>
                </a:cubicBezTo>
                <a:cubicBezTo>
                  <a:pt x="14412" y="8059"/>
                  <a:pt x="14485" y="8051"/>
                  <a:pt x="14536" y="8037"/>
                </a:cubicBezTo>
                <a:cubicBezTo>
                  <a:pt x="14614" y="8015"/>
                  <a:pt x="14674" y="8012"/>
                  <a:pt x="14759" y="8012"/>
                </a:cubicBezTo>
                <a:cubicBezTo>
                  <a:pt x="14800" y="8012"/>
                  <a:pt x="14808" y="8012"/>
                  <a:pt x="14833" y="8012"/>
                </a:cubicBezTo>
              </a:path>
              <a:path w="7318" h="1737">
                <a:moveTo>
                  <a:pt x="14412" y="8334"/>
                </a:moveTo>
                <a:cubicBezTo>
                  <a:pt x="14455" y="8291"/>
                  <a:pt x="14500" y="8270"/>
                  <a:pt x="14560" y="8260"/>
                </a:cubicBezTo>
                <a:cubicBezTo>
                  <a:pt x="14617" y="8250"/>
                  <a:pt x="14654" y="8232"/>
                  <a:pt x="14709" y="8260"/>
                </a:cubicBezTo>
                <a:cubicBezTo>
                  <a:pt x="14717" y="8268"/>
                  <a:pt x="14726" y="8277"/>
                  <a:pt x="14734" y="8285"/>
                </a:cubicBezTo>
                <a:cubicBezTo>
                  <a:pt x="14725" y="8350"/>
                  <a:pt x="14707" y="8361"/>
                  <a:pt x="14660" y="8409"/>
                </a:cubicBezTo>
                <a:cubicBezTo>
                  <a:pt x="14631" y="8438"/>
                  <a:pt x="14622" y="8449"/>
                  <a:pt x="14585" y="8458"/>
                </a:cubicBezTo>
                <a:cubicBezTo>
                  <a:pt x="14661" y="8458"/>
                  <a:pt x="14697" y="8462"/>
                  <a:pt x="14759" y="8508"/>
                </a:cubicBezTo>
                <a:cubicBezTo>
                  <a:pt x="14802" y="8540"/>
                  <a:pt x="14845" y="8628"/>
                  <a:pt x="14833" y="8682"/>
                </a:cubicBezTo>
                <a:cubicBezTo>
                  <a:pt x="14810" y="8783"/>
                  <a:pt x="14733" y="8760"/>
                  <a:pt x="14660" y="8781"/>
                </a:cubicBezTo>
                <a:cubicBezTo>
                  <a:pt x="14582" y="8803"/>
                  <a:pt x="14521" y="8806"/>
                  <a:pt x="14436" y="8806"/>
                </a:cubicBezTo>
                <a:cubicBezTo>
                  <a:pt x="14428" y="8806"/>
                  <a:pt x="14420" y="8806"/>
                  <a:pt x="14412" y="8806"/>
                </a:cubicBezTo>
              </a:path>
              <a:path w="7318" h="1737">
                <a:moveTo>
                  <a:pt x="14114" y="8855"/>
                </a:moveTo>
                <a:cubicBezTo>
                  <a:pt x="14168" y="8863"/>
                  <a:pt x="14216" y="8898"/>
                  <a:pt x="14263" y="8905"/>
                </a:cubicBezTo>
                <a:cubicBezTo>
                  <a:pt x="14335" y="8916"/>
                  <a:pt x="14415" y="8926"/>
                  <a:pt x="14486" y="8930"/>
                </a:cubicBezTo>
                <a:cubicBezTo>
                  <a:pt x="14554" y="8934"/>
                  <a:pt x="14597" y="8950"/>
                  <a:pt x="14660" y="8954"/>
                </a:cubicBezTo>
                <a:cubicBezTo>
                  <a:pt x="14771" y="8960"/>
                  <a:pt x="14885" y="8948"/>
                  <a:pt x="14982" y="8930"/>
                </a:cubicBezTo>
                <a:cubicBezTo>
                  <a:pt x="15023" y="8930"/>
                  <a:pt x="15031" y="8930"/>
                  <a:pt x="15056" y="8930"/>
                </a:cubicBezTo>
              </a:path>
              <a:path w="7318" h="1737">
                <a:moveTo>
                  <a:pt x="14585" y="9128"/>
                </a:moveTo>
                <a:cubicBezTo>
                  <a:pt x="14569" y="9128"/>
                  <a:pt x="14552" y="9128"/>
                  <a:pt x="14536" y="9128"/>
                </a:cubicBezTo>
                <a:cubicBezTo>
                  <a:pt x="14582" y="9091"/>
                  <a:pt x="14645" y="9055"/>
                  <a:pt x="14709" y="9079"/>
                </a:cubicBezTo>
                <a:cubicBezTo>
                  <a:pt x="14738" y="9107"/>
                  <a:pt x="14751" y="9115"/>
                  <a:pt x="14784" y="9103"/>
                </a:cubicBezTo>
                <a:cubicBezTo>
                  <a:pt x="14784" y="9179"/>
                  <a:pt x="14781" y="9215"/>
                  <a:pt x="14734" y="9277"/>
                </a:cubicBezTo>
                <a:cubicBezTo>
                  <a:pt x="14709" y="9310"/>
                  <a:pt x="14667" y="9326"/>
                  <a:pt x="14635" y="9351"/>
                </a:cubicBezTo>
                <a:cubicBezTo>
                  <a:pt x="14698" y="9351"/>
                  <a:pt x="14760" y="9337"/>
                  <a:pt x="14808" y="9376"/>
                </a:cubicBezTo>
                <a:cubicBezTo>
                  <a:pt x="14840" y="9402"/>
                  <a:pt x="14898" y="9484"/>
                  <a:pt x="14908" y="9525"/>
                </a:cubicBezTo>
                <a:cubicBezTo>
                  <a:pt x="14922" y="9585"/>
                  <a:pt x="14870" y="9612"/>
                  <a:pt x="14833" y="9649"/>
                </a:cubicBezTo>
                <a:cubicBezTo>
                  <a:pt x="14772" y="9710"/>
                  <a:pt x="14734" y="9684"/>
                  <a:pt x="14660" y="9699"/>
                </a:cubicBezTo>
                <a:cubicBezTo>
                  <a:pt x="14627" y="9706"/>
                  <a:pt x="14492" y="9766"/>
                  <a:pt x="14461" y="9748"/>
                </a:cubicBezTo>
                <a:cubicBezTo>
                  <a:pt x="14461" y="9740"/>
                  <a:pt x="14461" y="9731"/>
                  <a:pt x="14461" y="9723"/>
                </a:cubicBezTo>
              </a:path>
              <a:path w="7318" h="1737">
                <a:moveTo>
                  <a:pt x="15478" y="8806"/>
                </a:moveTo>
                <a:cubicBezTo>
                  <a:pt x="15591" y="8806"/>
                  <a:pt x="15695" y="8799"/>
                  <a:pt x="15801" y="8781"/>
                </a:cubicBezTo>
                <a:cubicBezTo>
                  <a:pt x="15886" y="8767"/>
                  <a:pt x="15966" y="8776"/>
                  <a:pt x="16049" y="8756"/>
                </a:cubicBezTo>
                <a:cubicBezTo>
                  <a:pt x="16057" y="8756"/>
                  <a:pt x="16065" y="8756"/>
                  <a:pt x="16073" y="8756"/>
                </a:cubicBezTo>
              </a:path>
              <a:path w="7318" h="1737">
                <a:moveTo>
                  <a:pt x="16470" y="8384"/>
                </a:moveTo>
                <a:cubicBezTo>
                  <a:pt x="16470" y="8425"/>
                  <a:pt x="16470" y="8433"/>
                  <a:pt x="16470" y="8458"/>
                </a:cubicBezTo>
              </a:path>
              <a:path w="7318" h="1737">
                <a:moveTo>
                  <a:pt x="16495" y="8682"/>
                </a:moveTo>
                <a:cubicBezTo>
                  <a:pt x="16504" y="8745"/>
                  <a:pt x="16517" y="8736"/>
                  <a:pt x="16495" y="8781"/>
                </a:cubicBezTo>
                <a:cubicBezTo>
                  <a:pt x="16495" y="8635"/>
                  <a:pt x="16504" y="8500"/>
                  <a:pt x="16520" y="8359"/>
                </a:cubicBezTo>
                <a:cubicBezTo>
                  <a:pt x="16530" y="8269"/>
                  <a:pt x="16488" y="8133"/>
                  <a:pt x="16545" y="8062"/>
                </a:cubicBezTo>
                <a:cubicBezTo>
                  <a:pt x="16591" y="8005"/>
                  <a:pt x="16623" y="8012"/>
                  <a:pt x="16694" y="8012"/>
                </a:cubicBezTo>
                <a:cubicBezTo>
                  <a:pt x="16843" y="8012"/>
                  <a:pt x="16991" y="8012"/>
                  <a:pt x="17140" y="8012"/>
                </a:cubicBezTo>
              </a:path>
              <a:path w="7318" h="1737">
                <a:moveTo>
                  <a:pt x="16842" y="8186"/>
                </a:moveTo>
                <a:cubicBezTo>
                  <a:pt x="16823" y="8247"/>
                  <a:pt x="16884" y="8188"/>
                  <a:pt x="16942" y="8186"/>
                </a:cubicBezTo>
                <a:cubicBezTo>
                  <a:pt x="17038" y="8183"/>
                  <a:pt x="17061" y="8196"/>
                  <a:pt x="17140" y="8235"/>
                </a:cubicBezTo>
                <a:cubicBezTo>
                  <a:pt x="17106" y="8278"/>
                  <a:pt x="17080" y="8320"/>
                  <a:pt x="17041" y="8359"/>
                </a:cubicBezTo>
                <a:cubicBezTo>
                  <a:pt x="16992" y="8408"/>
                  <a:pt x="16939" y="8397"/>
                  <a:pt x="16892" y="8434"/>
                </a:cubicBezTo>
                <a:cubicBezTo>
                  <a:pt x="16808" y="8500"/>
                  <a:pt x="16851" y="8442"/>
                  <a:pt x="16892" y="8434"/>
                </a:cubicBezTo>
                <a:cubicBezTo>
                  <a:pt x="16984" y="8415"/>
                  <a:pt x="17002" y="8442"/>
                  <a:pt x="17066" y="8483"/>
                </a:cubicBezTo>
                <a:cubicBezTo>
                  <a:pt x="17139" y="8531"/>
                  <a:pt x="17155" y="8557"/>
                  <a:pt x="17115" y="8632"/>
                </a:cubicBezTo>
                <a:cubicBezTo>
                  <a:pt x="17079" y="8700"/>
                  <a:pt x="17049" y="8743"/>
                  <a:pt x="16966" y="8756"/>
                </a:cubicBezTo>
                <a:cubicBezTo>
                  <a:pt x="16908" y="8756"/>
                  <a:pt x="16900" y="8756"/>
                  <a:pt x="16867" y="8756"/>
                </a:cubicBezTo>
              </a:path>
              <a:path w="7318" h="1737">
                <a:moveTo>
                  <a:pt x="16446" y="8806"/>
                </a:moveTo>
                <a:cubicBezTo>
                  <a:pt x="16562" y="8806"/>
                  <a:pt x="16740" y="8845"/>
                  <a:pt x="16842" y="8830"/>
                </a:cubicBezTo>
                <a:cubicBezTo>
                  <a:pt x="16908" y="8820"/>
                  <a:pt x="16986" y="8806"/>
                  <a:pt x="17066" y="8806"/>
                </a:cubicBezTo>
                <a:cubicBezTo>
                  <a:pt x="17173" y="8806"/>
                  <a:pt x="17281" y="8806"/>
                  <a:pt x="17388" y="8806"/>
                </a:cubicBezTo>
              </a:path>
              <a:path w="7318" h="1737">
                <a:moveTo>
                  <a:pt x="16917" y="8979"/>
                </a:moveTo>
                <a:cubicBezTo>
                  <a:pt x="16994" y="8969"/>
                  <a:pt x="17026" y="8966"/>
                  <a:pt x="17090" y="8979"/>
                </a:cubicBezTo>
                <a:cubicBezTo>
                  <a:pt x="17114" y="8984"/>
                  <a:pt x="17246" y="8965"/>
                  <a:pt x="17239" y="9029"/>
                </a:cubicBezTo>
                <a:cubicBezTo>
                  <a:pt x="17234" y="9076"/>
                  <a:pt x="17152" y="9131"/>
                  <a:pt x="17115" y="9153"/>
                </a:cubicBezTo>
                <a:cubicBezTo>
                  <a:pt x="17072" y="9175"/>
                  <a:pt x="17060" y="9179"/>
                  <a:pt x="17041" y="9203"/>
                </a:cubicBezTo>
                <a:cubicBezTo>
                  <a:pt x="17112" y="9212"/>
                  <a:pt x="17140" y="9226"/>
                  <a:pt x="17190" y="9277"/>
                </a:cubicBezTo>
                <a:cubicBezTo>
                  <a:pt x="17239" y="9327"/>
                  <a:pt x="17260" y="9354"/>
                  <a:pt x="17264" y="9426"/>
                </a:cubicBezTo>
                <a:cubicBezTo>
                  <a:pt x="17269" y="9507"/>
                  <a:pt x="17241" y="9546"/>
                  <a:pt x="17165" y="9550"/>
                </a:cubicBezTo>
                <a:cubicBezTo>
                  <a:pt x="17094" y="9554"/>
                  <a:pt x="17040" y="9575"/>
                  <a:pt x="16966" y="9575"/>
                </a:cubicBezTo>
                <a:cubicBezTo>
                  <a:pt x="16910" y="9575"/>
                  <a:pt x="16905" y="9590"/>
                  <a:pt x="16892" y="9550"/>
                </a:cubicBezTo>
              </a:path>
              <a:path w="7318" h="1737">
                <a:moveTo>
                  <a:pt x="13767" y="9550"/>
                </a:moveTo>
                <a:cubicBezTo>
                  <a:pt x="13791" y="9507"/>
                  <a:pt x="13811" y="9439"/>
                  <a:pt x="13841" y="9401"/>
                </a:cubicBezTo>
                <a:cubicBezTo>
                  <a:pt x="13912" y="9312"/>
                  <a:pt x="13974" y="9221"/>
                  <a:pt x="14039" y="9128"/>
                </a:cubicBezTo>
                <a:cubicBezTo>
                  <a:pt x="14112" y="9023"/>
                  <a:pt x="14183" y="8906"/>
                  <a:pt x="14263" y="8806"/>
                </a:cubicBezTo>
                <a:cubicBezTo>
                  <a:pt x="14333" y="8719"/>
                  <a:pt x="14406" y="8638"/>
                  <a:pt x="14486" y="8558"/>
                </a:cubicBezTo>
                <a:cubicBezTo>
                  <a:pt x="14576" y="8467"/>
                  <a:pt x="14668" y="8341"/>
                  <a:pt x="14759" y="8260"/>
                </a:cubicBezTo>
                <a:cubicBezTo>
                  <a:pt x="14825" y="8202"/>
                  <a:pt x="14876" y="8187"/>
                  <a:pt x="14932" y="8111"/>
                </a:cubicBezTo>
                <a:cubicBezTo>
                  <a:pt x="14966" y="8064"/>
                  <a:pt x="14993" y="8039"/>
                  <a:pt x="15032" y="8012"/>
                </a:cubicBezTo>
              </a:path>
              <a:path w="7318" h="1737">
                <a:moveTo>
                  <a:pt x="15701" y="9649"/>
                </a:moveTo>
                <a:cubicBezTo>
                  <a:pt x="15727" y="9607"/>
                  <a:pt x="15772" y="9507"/>
                  <a:pt x="15801" y="9475"/>
                </a:cubicBezTo>
                <a:cubicBezTo>
                  <a:pt x="15838" y="9433"/>
                  <a:pt x="15885" y="9404"/>
                  <a:pt x="15925" y="9351"/>
                </a:cubicBezTo>
                <a:cubicBezTo>
                  <a:pt x="15973" y="9287"/>
                  <a:pt x="16028" y="9220"/>
                  <a:pt x="16073" y="9153"/>
                </a:cubicBezTo>
                <a:cubicBezTo>
                  <a:pt x="16135" y="9060"/>
                  <a:pt x="16166" y="9003"/>
                  <a:pt x="16247" y="8930"/>
                </a:cubicBezTo>
                <a:cubicBezTo>
                  <a:pt x="16304" y="8879"/>
                  <a:pt x="16377" y="8794"/>
                  <a:pt x="16421" y="8731"/>
                </a:cubicBezTo>
                <a:cubicBezTo>
                  <a:pt x="16490" y="8632"/>
                  <a:pt x="16585" y="8554"/>
                  <a:pt x="16644" y="8458"/>
                </a:cubicBezTo>
                <a:cubicBezTo>
                  <a:pt x="16686" y="8389"/>
                  <a:pt x="16758" y="8345"/>
                  <a:pt x="16818" y="8285"/>
                </a:cubicBezTo>
                <a:cubicBezTo>
                  <a:pt x="16865" y="8237"/>
                  <a:pt x="16896" y="8185"/>
                  <a:pt x="16942" y="8136"/>
                </a:cubicBezTo>
                <a:cubicBezTo>
                  <a:pt x="16966" y="8111"/>
                  <a:pt x="16974" y="8102"/>
                  <a:pt x="16991" y="8086"/>
                </a:cubicBezTo>
              </a:path>
              <a:path w="7318" h="1737">
                <a:moveTo>
                  <a:pt x="18008" y="8756"/>
                </a:moveTo>
                <a:cubicBezTo>
                  <a:pt x="18025" y="8756"/>
                  <a:pt x="18041" y="8756"/>
                  <a:pt x="18058" y="8756"/>
                </a:cubicBezTo>
              </a:path>
              <a:path w="7318" h="1737">
                <a:moveTo>
                  <a:pt x="18182" y="8781"/>
                </a:moveTo>
                <a:cubicBezTo>
                  <a:pt x="18256" y="8781"/>
                  <a:pt x="18320" y="8794"/>
                  <a:pt x="18380" y="8806"/>
                </a:cubicBezTo>
                <a:cubicBezTo>
                  <a:pt x="18447" y="8819"/>
                  <a:pt x="18502" y="8791"/>
                  <a:pt x="18554" y="8781"/>
                </a:cubicBezTo>
                <a:cubicBezTo>
                  <a:pt x="18630" y="8766"/>
                  <a:pt x="18725" y="8760"/>
                  <a:pt x="18802" y="8756"/>
                </a:cubicBezTo>
                <a:cubicBezTo>
                  <a:pt x="18850" y="8753"/>
                  <a:pt x="18895" y="8712"/>
                  <a:pt x="18852" y="8756"/>
                </a:cubicBezTo>
              </a:path>
              <a:path w="7318" h="1737">
                <a:moveTo>
                  <a:pt x="19323" y="8037"/>
                </a:moveTo>
                <a:cubicBezTo>
                  <a:pt x="19323" y="8111"/>
                  <a:pt x="19344" y="8165"/>
                  <a:pt x="19348" y="8235"/>
                </a:cubicBezTo>
                <a:cubicBezTo>
                  <a:pt x="19352" y="8302"/>
                  <a:pt x="19351" y="8371"/>
                  <a:pt x="19372" y="8434"/>
                </a:cubicBezTo>
                <a:cubicBezTo>
                  <a:pt x="19388" y="8482"/>
                  <a:pt x="19398" y="8518"/>
                  <a:pt x="19422" y="8558"/>
                </a:cubicBezTo>
              </a:path>
              <a:path w="7318" h="1737">
                <a:moveTo>
                  <a:pt x="19075" y="8682"/>
                </a:moveTo>
                <a:cubicBezTo>
                  <a:pt x="19171" y="8682"/>
                  <a:pt x="19260" y="8667"/>
                  <a:pt x="19348" y="8657"/>
                </a:cubicBezTo>
                <a:cubicBezTo>
                  <a:pt x="19476" y="8643"/>
                  <a:pt x="19616" y="8657"/>
                  <a:pt x="19745" y="8657"/>
                </a:cubicBezTo>
              </a:path>
              <a:path w="7318" h="1737">
                <a:moveTo>
                  <a:pt x="19372" y="8806"/>
                </a:moveTo>
                <a:cubicBezTo>
                  <a:pt x="19444" y="8806"/>
                  <a:pt x="19481" y="8785"/>
                  <a:pt x="19546" y="8781"/>
                </a:cubicBezTo>
                <a:cubicBezTo>
                  <a:pt x="19590" y="8778"/>
                  <a:pt x="19717" y="8761"/>
                  <a:pt x="19745" y="8806"/>
                </a:cubicBezTo>
                <a:cubicBezTo>
                  <a:pt x="19779" y="8861"/>
                  <a:pt x="19729" y="8920"/>
                  <a:pt x="19695" y="8954"/>
                </a:cubicBezTo>
                <a:cubicBezTo>
                  <a:pt x="19653" y="8995"/>
                  <a:pt x="19616" y="9020"/>
                  <a:pt x="19571" y="9054"/>
                </a:cubicBezTo>
                <a:cubicBezTo>
                  <a:pt x="19509" y="9100"/>
                  <a:pt x="19623" y="9018"/>
                  <a:pt x="19670" y="9029"/>
                </a:cubicBezTo>
                <a:cubicBezTo>
                  <a:pt x="19730" y="9042"/>
                  <a:pt x="19766" y="9106"/>
                  <a:pt x="19794" y="9153"/>
                </a:cubicBezTo>
                <a:cubicBezTo>
                  <a:pt x="19853" y="9252"/>
                  <a:pt x="19787" y="9320"/>
                  <a:pt x="19720" y="9376"/>
                </a:cubicBezTo>
                <a:cubicBezTo>
                  <a:pt x="19664" y="9423"/>
                  <a:pt x="19626" y="9440"/>
                  <a:pt x="19546" y="9451"/>
                </a:cubicBezTo>
                <a:cubicBezTo>
                  <a:pt x="19427" y="9468"/>
                  <a:pt x="19295" y="9451"/>
                  <a:pt x="19174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Ink 18"/>
          <p:cNvSpPr/>
          <p:nvPr/>
        </p:nvSpPr>
        <p:spPr>
          <a:xfrm>
            <a:off x="4313160" y="2911320"/>
            <a:ext cx="303120" cy="544680"/>
          </a:xfrm>
          <a:custGeom>
            <a:avLst/>
            <a:gdLst/>
            <a:ahLst/>
            <a:rect l="l" t="t" r="r" b="b"/>
            <a:pathLst>
              <a:path w="844" h="1514">
                <a:moveTo>
                  <a:pt x="12154" y="8136"/>
                </a:moveTo>
                <a:cubicBezTo>
                  <a:pt x="12226" y="8100"/>
                  <a:pt x="12337" y="8064"/>
                  <a:pt x="12427" y="8086"/>
                </a:cubicBezTo>
                <a:cubicBezTo>
                  <a:pt x="12478" y="8098"/>
                  <a:pt x="12574" y="8142"/>
                  <a:pt x="12551" y="8210"/>
                </a:cubicBezTo>
                <a:cubicBezTo>
                  <a:pt x="12535" y="8258"/>
                  <a:pt x="12442" y="8295"/>
                  <a:pt x="12402" y="8310"/>
                </a:cubicBezTo>
                <a:cubicBezTo>
                  <a:pt x="12270" y="8361"/>
                  <a:pt x="12266" y="8303"/>
                  <a:pt x="12378" y="8334"/>
                </a:cubicBezTo>
                <a:cubicBezTo>
                  <a:pt x="12420" y="8346"/>
                  <a:pt x="12529" y="8393"/>
                  <a:pt x="12551" y="8434"/>
                </a:cubicBezTo>
                <a:cubicBezTo>
                  <a:pt x="12577" y="8483"/>
                  <a:pt x="12573" y="8607"/>
                  <a:pt x="12502" y="8632"/>
                </a:cubicBezTo>
                <a:cubicBezTo>
                  <a:pt x="12458" y="8648"/>
                  <a:pt x="12373" y="8654"/>
                  <a:pt x="12328" y="8657"/>
                </a:cubicBezTo>
                <a:cubicBezTo>
                  <a:pt x="12311" y="8657"/>
                  <a:pt x="12295" y="8657"/>
                  <a:pt x="12278" y="8657"/>
                </a:cubicBezTo>
              </a:path>
              <a:path w="844" h="1514">
                <a:moveTo>
                  <a:pt x="11981" y="8806"/>
                </a:moveTo>
                <a:cubicBezTo>
                  <a:pt x="12110" y="8792"/>
                  <a:pt x="12250" y="8760"/>
                  <a:pt x="12378" y="8756"/>
                </a:cubicBezTo>
                <a:cubicBezTo>
                  <a:pt x="12487" y="8752"/>
                  <a:pt x="12595" y="8755"/>
                  <a:pt x="12700" y="8731"/>
                </a:cubicBezTo>
                <a:cubicBezTo>
                  <a:pt x="12765" y="8709"/>
                  <a:pt x="12780" y="8701"/>
                  <a:pt x="12824" y="8706"/>
                </a:cubicBezTo>
              </a:path>
              <a:path w="844" h="1514">
                <a:moveTo>
                  <a:pt x="12353" y="8954"/>
                </a:moveTo>
                <a:cubicBezTo>
                  <a:pt x="12345" y="8971"/>
                  <a:pt x="12336" y="8987"/>
                  <a:pt x="12328" y="9004"/>
                </a:cubicBezTo>
                <a:cubicBezTo>
                  <a:pt x="12392" y="8995"/>
                  <a:pt x="12454" y="8939"/>
                  <a:pt x="12526" y="8954"/>
                </a:cubicBezTo>
                <a:cubicBezTo>
                  <a:pt x="12615" y="8973"/>
                  <a:pt x="12613" y="9038"/>
                  <a:pt x="12576" y="9103"/>
                </a:cubicBezTo>
                <a:cubicBezTo>
                  <a:pt x="12520" y="9201"/>
                  <a:pt x="12486" y="9193"/>
                  <a:pt x="12402" y="9252"/>
                </a:cubicBezTo>
                <a:cubicBezTo>
                  <a:pt x="12394" y="9260"/>
                  <a:pt x="12386" y="9269"/>
                  <a:pt x="12378" y="9277"/>
                </a:cubicBezTo>
                <a:cubicBezTo>
                  <a:pt x="12398" y="9237"/>
                  <a:pt x="12472" y="9203"/>
                  <a:pt x="12551" y="9277"/>
                </a:cubicBezTo>
                <a:cubicBezTo>
                  <a:pt x="12611" y="9333"/>
                  <a:pt x="12663" y="9372"/>
                  <a:pt x="12675" y="9451"/>
                </a:cubicBezTo>
                <a:cubicBezTo>
                  <a:pt x="12686" y="9523"/>
                  <a:pt x="12681" y="9581"/>
                  <a:pt x="12601" y="9599"/>
                </a:cubicBezTo>
                <a:cubicBezTo>
                  <a:pt x="12534" y="9614"/>
                  <a:pt x="12462" y="9596"/>
                  <a:pt x="12402" y="9575"/>
                </a:cubicBezTo>
                <a:cubicBezTo>
                  <a:pt x="12306" y="9542"/>
                  <a:pt x="12288" y="9524"/>
                  <a:pt x="12229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Ink 19"/>
          <p:cNvSpPr/>
          <p:nvPr/>
        </p:nvSpPr>
        <p:spPr>
          <a:xfrm>
            <a:off x="625320" y="3517920"/>
            <a:ext cx="866880" cy="366840"/>
          </a:xfrm>
          <a:custGeom>
            <a:avLst/>
            <a:gdLst/>
            <a:ahLst/>
            <a:rect l="l" t="t" r="r" b="b"/>
            <a:pathLst>
              <a:path w="2407" h="1018">
                <a:moveTo>
                  <a:pt x="1736" y="9922"/>
                </a:moveTo>
                <a:cubicBezTo>
                  <a:pt x="1782" y="9876"/>
                  <a:pt x="1794" y="9851"/>
                  <a:pt x="1860" y="9847"/>
                </a:cubicBezTo>
                <a:cubicBezTo>
                  <a:pt x="1916" y="9844"/>
                  <a:pt x="1987" y="9889"/>
                  <a:pt x="2034" y="9922"/>
                </a:cubicBezTo>
                <a:cubicBezTo>
                  <a:pt x="2077" y="9952"/>
                  <a:pt x="2104" y="10049"/>
                  <a:pt x="2108" y="10096"/>
                </a:cubicBezTo>
                <a:cubicBezTo>
                  <a:pt x="2118" y="10230"/>
                  <a:pt x="2077" y="10296"/>
                  <a:pt x="2059" y="10418"/>
                </a:cubicBezTo>
                <a:cubicBezTo>
                  <a:pt x="2049" y="10485"/>
                  <a:pt x="2032" y="10493"/>
                  <a:pt x="1984" y="10542"/>
                </a:cubicBezTo>
                <a:cubicBezTo>
                  <a:pt x="1941" y="10586"/>
                  <a:pt x="1935" y="10617"/>
                  <a:pt x="1885" y="10592"/>
                </a:cubicBezTo>
                <a:cubicBezTo>
                  <a:pt x="1808" y="10553"/>
                  <a:pt x="1799" y="10539"/>
                  <a:pt x="1836" y="10468"/>
                </a:cubicBezTo>
                <a:cubicBezTo>
                  <a:pt x="1870" y="10404"/>
                  <a:pt x="1893" y="10363"/>
                  <a:pt x="1960" y="10418"/>
                </a:cubicBezTo>
                <a:cubicBezTo>
                  <a:pt x="2002" y="10453"/>
                  <a:pt x="2070" y="10510"/>
                  <a:pt x="2084" y="10567"/>
                </a:cubicBezTo>
                <a:cubicBezTo>
                  <a:pt x="2097" y="10622"/>
                  <a:pt x="2096" y="10671"/>
                  <a:pt x="2133" y="10716"/>
                </a:cubicBezTo>
                <a:cubicBezTo>
                  <a:pt x="2141" y="10724"/>
                  <a:pt x="2150" y="10732"/>
                  <a:pt x="2158" y="10740"/>
                </a:cubicBezTo>
              </a:path>
              <a:path w="2407" h="1018">
                <a:moveTo>
                  <a:pt x="2307" y="10170"/>
                </a:moveTo>
                <a:cubicBezTo>
                  <a:pt x="2314" y="10273"/>
                  <a:pt x="2332" y="10364"/>
                  <a:pt x="2332" y="10468"/>
                </a:cubicBezTo>
                <a:cubicBezTo>
                  <a:pt x="2332" y="10526"/>
                  <a:pt x="2332" y="10583"/>
                  <a:pt x="2332" y="10641"/>
                </a:cubicBezTo>
                <a:cubicBezTo>
                  <a:pt x="2332" y="10779"/>
                  <a:pt x="2332" y="10521"/>
                  <a:pt x="2332" y="10492"/>
                </a:cubicBezTo>
                <a:cubicBezTo>
                  <a:pt x="2332" y="10378"/>
                  <a:pt x="2325" y="10277"/>
                  <a:pt x="2307" y="10170"/>
                </a:cubicBezTo>
                <a:cubicBezTo>
                  <a:pt x="2292" y="10080"/>
                  <a:pt x="2298" y="9977"/>
                  <a:pt x="2282" y="9897"/>
                </a:cubicBezTo>
                <a:cubicBezTo>
                  <a:pt x="2274" y="9859"/>
                  <a:pt x="2314" y="9785"/>
                  <a:pt x="2356" y="9773"/>
                </a:cubicBezTo>
                <a:cubicBezTo>
                  <a:pt x="2477" y="9738"/>
                  <a:pt x="2635" y="9784"/>
                  <a:pt x="2753" y="9798"/>
                </a:cubicBezTo>
                <a:cubicBezTo>
                  <a:pt x="2841" y="9808"/>
                  <a:pt x="2937" y="9798"/>
                  <a:pt x="3026" y="9798"/>
                </a:cubicBezTo>
              </a:path>
              <a:path w="2407" h="1018">
                <a:moveTo>
                  <a:pt x="2530" y="10096"/>
                </a:moveTo>
                <a:cubicBezTo>
                  <a:pt x="2576" y="10059"/>
                  <a:pt x="2639" y="10006"/>
                  <a:pt x="2704" y="10021"/>
                </a:cubicBezTo>
                <a:cubicBezTo>
                  <a:pt x="2782" y="10039"/>
                  <a:pt x="2802" y="10086"/>
                  <a:pt x="2778" y="10145"/>
                </a:cubicBezTo>
                <a:cubicBezTo>
                  <a:pt x="2754" y="10202"/>
                  <a:pt x="2709" y="10241"/>
                  <a:pt x="2679" y="10294"/>
                </a:cubicBezTo>
                <a:cubicBezTo>
                  <a:pt x="2779" y="10307"/>
                  <a:pt x="2815" y="10322"/>
                  <a:pt x="2853" y="10418"/>
                </a:cubicBezTo>
                <a:cubicBezTo>
                  <a:pt x="2878" y="10480"/>
                  <a:pt x="2909" y="10626"/>
                  <a:pt x="2828" y="10666"/>
                </a:cubicBezTo>
                <a:cubicBezTo>
                  <a:pt x="2778" y="10691"/>
                  <a:pt x="2674" y="10661"/>
                  <a:pt x="2629" y="10641"/>
                </a:cubicBezTo>
                <a:cubicBezTo>
                  <a:pt x="2586" y="10619"/>
                  <a:pt x="2575" y="10615"/>
                  <a:pt x="2555" y="10592"/>
                </a:cubicBezTo>
              </a:path>
              <a:path w="2407" h="1018">
                <a:moveTo>
                  <a:pt x="3373" y="10145"/>
                </a:moveTo>
                <a:cubicBezTo>
                  <a:pt x="3373" y="10289"/>
                  <a:pt x="3372" y="10438"/>
                  <a:pt x="3398" y="10567"/>
                </a:cubicBezTo>
                <a:cubicBezTo>
                  <a:pt x="3398" y="10608"/>
                  <a:pt x="3398" y="10616"/>
                  <a:pt x="3398" y="10641"/>
                </a:cubicBezTo>
              </a:path>
              <a:path w="2407" h="1018">
                <a:moveTo>
                  <a:pt x="3150" y="10294"/>
                </a:moveTo>
                <a:cubicBezTo>
                  <a:pt x="3263" y="10294"/>
                  <a:pt x="3363" y="10307"/>
                  <a:pt x="3473" y="10319"/>
                </a:cubicBezTo>
                <a:cubicBezTo>
                  <a:pt x="3498" y="10319"/>
                  <a:pt x="3522" y="10319"/>
                  <a:pt x="3547" y="10319"/>
                </a:cubicBezTo>
              </a:path>
              <a:path w="2407" h="1018">
                <a:moveTo>
                  <a:pt x="3870" y="10021"/>
                </a:moveTo>
                <a:cubicBezTo>
                  <a:pt x="3863" y="10068"/>
                  <a:pt x="3840" y="10129"/>
                  <a:pt x="3820" y="10170"/>
                </a:cubicBezTo>
                <a:cubicBezTo>
                  <a:pt x="3800" y="10209"/>
                  <a:pt x="3782" y="10287"/>
                  <a:pt x="3845" y="10319"/>
                </a:cubicBezTo>
                <a:cubicBezTo>
                  <a:pt x="3871" y="10332"/>
                  <a:pt x="4017" y="10348"/>
                  <a:pt x="4043" y="10344"/>
                </a:cubicBezTo>
                <a:cubicBezTo>
                  <a:pt x="4068" y="10336"/>
                  <a:pt x="4093" y="10327"/>
                  <a:pt x="4118" y="10319"/>
                </a:cubicBezTo>
              </a:path>
              <a:path w="2407" h="1018">
                <a:moveTo>
                  <a:pt x="4118" y="9823"/>
                </a:moveTo>
                <a:cubicBezTo>
                  <a:pt x="4118" y="10056"/>
                  <a:pt x="4114" y="10293"/>
                  <a:pt x="4142" y="10517"/>
                </a:cubicBezTo>
                <a:cubicBezTo>
                  <a:pt x="4153" y="10604"/>
                  <a:pt x="4142" y="10702"/>
                  <a:pt x="4142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Ink 20"/>
          <p:cNvSpPr/>
          <p:nvPr/>
        </p:nvSpPr>
        <p:spPr>
          <a:xfrm>
            <a:off x="303120" y="3929040"/>
            <a:ext cx="5411880" cy="928800"/>
          </a:xfrm>
          <a:custGeom>
            <a:avLst/>
            <a:gdLst/>
            <a:ahLst/>
            <a:rect l="l" t="t" r="r" b="b"/>
            <a:pathLst>
              <a:path w="15033" h="2581">
                <a:moveTo>
                  <a:pt x="868" y="11112"/>
                </a:moveTo>
                <a:cubicBezTo>
                  <a:pt x="947" y="11134"/>
                  <a:pt x="1042" y="11114"/>
                  <a:pt x="1116" y="11137"/>
                </a:cubicBezTo>
                <a:cubicBezTo>
                  <a:pt x="1139" y="11160"/>
                  <a:pt x="1143" y="11168"/>
                  <a:pt x="1166" y="11162"/>
                </a:cubicBezTo>
              </a:path>
              <a:path w="15033" h="2581">
                <a:moveTo>
                  <a:pt x="843" y="11435"/>
                </a:moveTo>
                <a:cubicBezTo>
                  <a:pt x="925" y="11457"/>
                  <a:pt x="981" y="11460"/>
                  <a:pt x="1067" y="11460"/>
                </a:cubicBezTo>
              </a:path>
              <a:path w="15033" h="2581">
                <a:moveTo>
                  <a:pt x="1290" y="12229"/>
                </a:moveTo>
                <a:cubicBezTo>
                  <a:pt x="1352" y="12256"/>
                  <a:pt x="1365" y="12263"/>
                  <a:pt x="1439" y="12278"/>
                </a:cubicBezTo>
                <a:cubicBezTo>
                  <a:pt x="1506" y="12292"/>
                  <a:pt x="1568" y="12293"/>
                  <a:pt x="1637" y="12303"/>
                </a:cubicBezTo>
                <a:cubicBezTo>
                  <a:pt x="1721" y="12315"/>
                  <a:pt x="1798" y="12326"/>
                  <a:pt x="1885" y="12328"/>
                </a:cubicBezTo>
                <a:cubicBezTo>
                  <a:pt x="1988" y="12330"/>
                  <a:pt x="2083" y="12347"/>
                  <a:pt x="2183" y="12353"/>
                </a:cubicBezTo>
                <a:cubicBezTo>
                  <a:pt x="2285" y="12359"/>
                  <a:pt x="2381" y="12370"/>
                  <a:pt x="2480" y="12378"/>
                </a:cubicBezTo>
                <a:cubicBezTo>
                  <a:pt x="2604" y="12388"/>
                  <a:pt x="2729" y="12386"/>
                  <a:pt x="2853" y="12402"/>
                </a:cubicBezTo>
                <a:cubicBezTo>
                  <a:pt x="2954" y="12415"/>
                  <a:pt x="3050" y="12435"/>
                  <a:pt x="3150" y="12452"/>
                </a:cubicBezTo>
                <a:cubicBezTo>
                  <a:pt x="3254" y="12469"/>
                  <a:pt x="3369" y="12493"/>
                  <a:pt x="3473" y="12502"/>
                </a:cubicBezTo>
                <a:cubicBezTo>
                  <a:pt x="3596" y="12513"/>
                  <a:pt x="3721" y="12511"/>
                  <a:pt x="3845" y="12526"/>
                </a:cubicBezTo>
                <a:cubicBezTo>
                  <a:pt x="3986" y="12543"/>
                  <a:pt x="4125" y="12568"/>
                  <a:pt x="4266" y="12576"/>
                </a:cubicBezTo>
                <a:cubicBezTo>
                  <a:pt x="4411" y="12584"/>
                  <a:pt x="4546" y="12585"/>
                  <a:pt x="4688" y="12601"/>
                </a:cubicBezTo>
                <a:cubicBezTo>
                  <a:pt x="4794" y="12613"/>
                  <a:pt x="4905" y="12611"/>
                  <a:pt x="5011" y="12626"/>
                </a:cubicBezTo>
                <a:cubicBezTo>
                  <a:pt x="5134" y="12643"/>
                  <a:pt x="5262" y="12655"/>
                  <a:pt x="5383" y="12675"/>
                </a:cubicBezTo>
                <a:cubicBezTo>
                  <a:pt x="5507" y="12696"/>
                  <a:pt x="5631" y="12707"/>
                  <a:pt x="5755" y="12725"/>
                </a:cubicBezTo>
                <a:cubicBezTo>
                  <a:pt x="5928" y="12751"/>
                  <a:pt x="6102" y="12756"/>
                  <a:pt x="6276" y="12774"/>
                </a:cubicBezTo>
                <a:cubicBezTo>
                  <a:pt x="6401" y="12787"/>
                  <a:pt x="6520" y="12799"/>
                  <a:pt x="6648" y="12799"/>
                </a:cubicBezTo>
                <a:cubicBezTo>
                  <a:pt x="6778" y="12799"/>
                  <a:pt x="6921" y="12817"/>
                  <a:pt x="7045" y="12774"/>
                </a:cubicBezTo>
                <a:cubicBezTo>
                  <a:pt x="7070" y="12758"/>
                  <a:pt x="7094" y="12741"/>
                  <a:pt x="7119" y="12725"/>
                </a:cubicBezTo>
              </a:path>
              <a:path w="15033" h="2581">
                <a:moveTo>
                  <a:pt x="1885" y="10988"/>
                </a:moveTo>
                <a:cubicBezTo>
                  <a:pt x="2292" y="10988"/>
                  <a:pt x="2696" y="10991"/>
                  <a:pt x="3101" y="10964"/>
                </a:cubicBezTo>
                <a:cubicBezTo>
                  <a:pt x="3218" y="10956"/>
                  <a:pt x="3334" y="10949"/>
                  <a:pt x="3448" y="10939"/>
                </a:cubicBezTo>
                <a:cubicBezTo>
                  <a:pt x="3571" y="10928"/>
                  <a:pt x="3697" y="10918"/>
                  <a:pt x="3820" y="10914"/>
                </a:cubicBezTo>
                <a:cubicBezTo>
                  <a:pt x="4066" y="10906"/>
                  <a:pt x="4328" y="10900"/>
                  <a:pt x="4564" y="10939"/>
                </a:cubicBezTo>
                <a:cubicBezTo>
                  <a:pt x="4623" y="10949"/>
                  <a:pt x="4666" y="10932"/>
                  <a:pt x="4713" y="10914"/>
                </a:cubicBezTo>
              </a:path>
              <a:path w="15033" h="2581">
                <a:moveTo>
                  <a:pt x="3051" y="11261"/>
                </a:moveTo>
                <a:cubicBezTo>
                  <a:pt x="3098" y="11233"/>
                  <a:pt x="3143" y="11215"/>
                  <a:pt x="3200" y="11212"/>
                </a:cubicBezTo>
                <a:cubicBezTo>
                  <a:pt x="3274" y="11208"/>
                  <a:pt x="3355" y="11204"/>
                  <a:pt x="3423" y="11237"/>
                </a:cubicBezTo>
                <a:cubicBezTo>
                  <a:pt x="3476" y="11263"/>
                  <a:pt x="3544" y="11315"/>
                  <a:pt x="3522" y="11385"/>
                </a:cubicBezTo>
                <a:cubicBezTo>
                  <a:pt x="3509" y="11427"/>
                  <a:pt x="3456" y="11477"/>
                  <a:pt x="3423" y="11509"/>
                </a:cubicBezTo>
                <a:cubicBezTo>
                  <a:pt x="3388" y="11543"/>
                  <a:pt x="3367" y="11559"/>
                  <a:pt x="3324" y="11584"/>
                </a:cubicBezTo>
                <a:cubicBezTo>
                  <a:pt x="3392" y="11593"/>
                  <a:pt x="3483" y="11601"/>
                  <a:pt x="3547" y="11633"/>
                </a:cubicBezTo>
                <a:cubicBezTo>
                  <a:pt x="3636" y="11677"/>
                  <a:pt x="3644" y="11750"/>
                  <a:pt x="3696" y="11832"/>
                </a:cubicBezTo>
                <a:cubicBezTo>
                  <a:pt x="3731" y="11887"/>
                  <a:pt x="3737" y="11949"/>
                  <a:pt x="3696" y="12005"/>
                </a:cubicBezTo>
                <a:cubicBezTo>
                  <a:pt x="3652" y="12065"/>
                  <a:pt x="3570" y="12034"/>
                  <a:pt x="3522" y="12030"/>
                </a:cubicBezTo>
                <a:cubicBezTo>
                  <a:pt x="3436" y="12022"/>
                  <a:pt x="3353" y="12016"/>
                  <a:pt x="3274" y="11981"/>
                </a:cubicBezTo>
                <a:cubicBezTo>
                  <a:pt x="3231" y="11959"/>
                  <a:pt x="3219" y="11955"/>
                  <a:pt x="3200" y="11931"/>
                </a:cubicBezTo>
              </a:path>
              <a:path w="15033" h="2581">
                <a:moveTo>
                  <a:pt x="6871" y="12080"/>
                </a:moveTo>
                <a:cubicBezTo>
                  <a:pt x="6926" y="12066"/>
                  <a:pt x="7005" y="12062"/>
                  <a:pt x="7069" y="12080"/>
                </a:cubicBezTo>
                <a:cubicBezTo>
                  <a:pt x="7132" y="12111"/>
                  <a:pt x="7163" y="12120"/>
                  <a:pt x="7218" y="12105"/>
                </a:cubicBezTo>
              </a:path>
              <a:path w="15033" h="2581">
                <a:moveTo>
                  <a:pt x="6995" y="12353"/>
                </a:moveTo>
                <a:cubicBezTo>
                  <a:pt x="7099" y="12387"/>
                  <a:pt x="7210" y="12438"/>
                  <a:pt x="7317" y="12452"/>
                </a:cubicBezTo>
              </a:path>
              <a:path w="15033" h="2581">
                <a:moveTo>
                  <a:pt x="7714" y="11584"/>
                </a:moveTo>
                <a:cubicBezTo>
                  <a:pt x="7736" y="11546"/>
                  <a:pt x="7781" y="11463"/>
                  <a:pt x="7813" y="11435"/>
                </a:cubicBezTo>
                <a:cubicBezTo>
                  <a:pt x="7868" y="11387"/>
                  <a:pt x="7937" y="11408"/>
                  <a:pt x="7987" y="11435"/>
                </a:cubicBezTo>
                <a:cubicBezTo>
                  <a:pt x="8064" y="11476"/>
                  <a:pt x="8063" y="11503"/>
                  <a:pt x="8086" y="11584"/>
                </a:cubicBezTo>
                <a:cubicBezTo>
                  <a:pt x="8123" y="11713"/>
                  <a:pt x="8111" y="11882"/>
                  <a:pt x="8062" y="12005"/>
                </a:cubicBezTo>
                <a:cubicBezTo>
                  <a:pt x="8041" y="12057"/>
                  <a:pt x="8008" y="12146"/>
                  <a:pt x="7962" y="12179"/>
                </a:cubicBezTo>
                <a:cubicBezTo>
                  <a:pt x="7912" y="12215"/>
                  <a:pt x="7894" y="12221"/>
                  <a:pt x="7838" y="12229"/>
                </a:cubicBezTo>
                <a:cubicBezTo>
                  <a:pt x="7814" y="12188"/>
                  <a:pt x="7801" y="12134"/>
                  <a:pt x="7813" y="12080"/>
                </a:cubicBezTo>
                <a:cubicBezTo>
                  <a:pt x="7832" y="11997"/>
                  <a:pt x="7874" y="11952"/>
                  <a:pt x="7938" y="11906"/>
                </a:cubicBezTo>
                <a:cubicBezTo>
                  <a:pt x="7978" y="11947"/>
                  <a:pt x="8003" y="11985"/>
                  <a:pt x="8037" y="12030"/>
                </a:cubicBezTo>
                <a:cubicBezTo>
                  <a:pt x="8077" y="12083"/>
                  <a:pt x="8113" y="12131"/>
                  <a:pt x="8161" y="12179"/>
                </a:cubicBezTo>
                <a:cubicBezTo>
                  <a:pt x="8203" y="12220"/>
                  <a:pt x="8202" y="12264"/>
                  <a:pt x="8260" y="12278"/>
                </a:cubicBezTo>
              </a:path>
              <a:path w="15033" h="2581">
                <a:moveTo>
                  <a:pt x="8409" y="11633"/>
                </a:moveTo>
                <a:cubicBezTo>
                  <a:pt x="8399" y="11715"/>
                  <a:pt x="8404" y="11751"/>
                  <a:pt x="8409" y="11832"/>
                </a:cubicBezTo>
                <a:cubicBezTo>
                  <a:pt x="8414" y="11913"/>
                  <a:pt x="8413" y="12003"/>
                  <a:pt x="8434" y="12080"/>
                </a:cubicBezTo>
                <a:cubicBezTo>
                  <a:pt x="8458" y="12168"/>
                  <a:pt x="8458" y="12159"/>
                  <a:pt x="8458" y="12080"/>
                </a:cubicBezTo>
                <a:cubicBezTo>
                  <a:pt x="8458" y="11976"/>
                  <a:pt x="8446" y="11879"/>
                  <a:pt x="8434" y="11782"/>
                </a:cubicBezTo>
                <a:cubicBezTo>
                  <a:pt x="8423" y="11691"/>
                  <a:pt x="8456" y="11619"/>
                  <a:pt x="8458" y="11534"/>
                </a:cubicBezTo>
                <a:cubicBezTo>
                  <a:pt x="8461" y="11418"/>
                  <a:pt x="8460" y="11392"/>
                  <a:pt x="8533" y="11311"/>
                </a:cubicBezTo>
                <a:cubicBezTo>
                  <a:pt x="8567" y="11273"/>
                  <a:pt x="8613" y="11246"/>
                  <a:pt x="8657" y="11237"/>
                </a:cubicBezTo>
                <a:cubicBezTo>
                  <a:pt x="8718" y="11225"/>
                  <a:pt x="8756" y="11249"/>
                  <a:pt x="8806" y="11261"/>
                </a:cubicBezTo>
              </a:path>
              <a:path w="15033" h="2581">
                <a:moveTo>
                  <a:pt x="8682" y="11534"/>
                </a:moveTo>
                <a:cubicBezTo>
                  <a:pt x="8766" y="11585"/>
                  <a:pt x="8748" y="11524"/>
                  <a:pt x="8830" y="11509"/>
                </a:cubicBezTo>
                <a:cubicBezTo>
                  <a:pt x="8896" y="11497"/>
                  <a:pt x="9000" y="11522"/>
                  <a:pt x="8979" y="11609"/>
                </a:cubicBezTo>
                <a:cubicBezTo>
                  <a:pt x="8964" y="11671"/>
                  <a:pt x="8906" y="11706"/>
                  <a:pt x="8855" y="11733"/>
                </a:cubicBezTo>
                <a:cubicBezTo>
                  <a:pt x="8809" y="11757"/>
                  <a:pt x="8771" y="11775"/>
                  <a:pt x="8731" y="11807"/>
                </a:cubicBezTo>
                <a:cubicBezTo>
                  <a:pt x="8813" y="11807"/>
                  <a:pt x="8882" y="11811"/>
                  <a:pt x="8954" y="11857"/>
                </a:cubicBezTo>
                <a:cubicBezTo>
                  <a:pt x="8990" y="11880"/>
                  <a:pt x="9056" y="11963"/>
                  <a:pt x="9054" y="12005"/>
                </a:cubicBezTo>
                <a:cubicBezTo>
                  <a:pt x="9051" y="12096"/>
                  <a:pt x="9034" y="12201"/>
                  <a:pt x="8954" y="12254"/>
                </a:cubicBezTo>
                <a:cubicBezTo>
                  <a:pt x="8884" y="12301"/>
                  <a:pt x="8842" y="12266"/>
                  <a:pt x="8781" y="12254"/>
                </a:cubicBezTo>
                <a:cubicBezTo>
                  <a:pt x="8708" y="12240"/>
                  <a:pt x="8698" y="12235"/>
                  <a:pt x="8682" y="12154"/>
                </a:cubicBezTo>
              </a:path>
              <a:path w="15033" h="2581">
                <a:moveTo>
                  <a:pt x="9500" y="11534"/>
                </a:moveTo>
                <a:cubicBezTo>
                  <a:pt x="9514" y="11650"/>
                  <a:pt x="9500" y="11717"/>
                  <a:pt x="9500" y="11832"/>
                </a:cubicBezTo>
                <a:cubicBezTo>
                  <a:pt x="9500" y="11954"/>
                  <a:pt x="9507" y="12064"/>
                  <a:pt x="9525" y="12179"/>
                </a:cubicBezTo>
                <a:cubicBezTo>
                  <a:pt x="9525" y="12196"/>
                  <a:pt x="9525" y="12212"/>
                  <a:pt x="9525" y="12229"/>
                </a:cubicBezTo>
              </a:path>
              <a:path w="15033" h="2581">
                <a:moveTo>
                  <a:pt x="9351" y="11931"/>
                </a:moveTo>
                <a:cubicBezTo>
                  <a:pt x="9343" y="11914"/>
                  <a:pt x="9335" y="11898"/>
                  <a:pt x="9327" y="11881"/>
                </a:cubicBezTo>
                <a:cubicBezTo>
                  <a:pt x="9413" y="11839"/>
                  <a:pt x="9461" y="11873"/>
                  <a:pt x="9550" y="11906"/>
                </a:cubicBezTo>
                <a:cubicBezTo>
                  <a:pt x="9623" y="11931"/>
                  <a:pt x="9647" y="11939"/>
                  <a:pt x="9699" y="11931"/>
                </a:cubicBezTo>
              </a:path>
              <a:path w="15033" h="2581">
                <a:moveTo>
                  <a:pt x="9922" y="11658"/>
                </a:moveTo>
                <a:cubicBezTo>
                  <a:pt x="9905" y="11735"/>
                  <a:pt x="9870" y="11817"/>
                  <a:pt x="9922" y="11881"/>
                </a:cubicBezTo>
                <a:cubicBezTo>
                  <a:pt x="9965" y="11934"/>
                  <a:pt x="10003" y="11952"/>
                  <a:pt x="10071" y="11956"/>
                </a:cubicBezTo>
                <a:cubicBezTo>
                  <a:pt x="10115" y="11956"/>
                  <a:pt x="10129" y="11959"/>
                  <a:pt x="10145" y="11931"/>
                </a:cubicBezTo>
              </a:path>
              <a:path w="15033" h="2581">
                <a:moveTo>
                  <a:pt x="10244" y="11460"/>
                </a:moveTo>
                <a:cubicBezTo>
                  <a:pt x="10191" y="11566"/>
                  <a:pt x="10170" y="11647"/>
                  <a:pt x="10145" y="11757"/>
                </a:cubicBezTo>
                <a:cubicBezTo>
                  <a:pt x="10120" y="11867"/>
                  <a:pt x="10120" y="11965"/>
                  <a:pt x="10120" y="12080"/>
                </a:cubicBezTo>
                <a:cubicBezTo>
                  <a:pt x="10120" y="12191"/>
                  <a:pt x="10128" y="12303"/>
                  <a:pt x="10120" y="12402"/>
                </a:cubicBezTo>
                <a:cubicBezTo>
                  <a:pt x="10120" y="12427"/>
                  <a:pt x="10120" y="12452"/>
                  <a:pt x="10120" y="12477"/>
                </a:cubicBezTo>
              </a:path>
              <a:path w="15033" h="2581">
                <a:moveTo>
                  <a:pt x="12923" y="12675"/>
                </a:moveTo>
                <a:cubicBezTo>
                  <a:pt x="13019" y="12668"/>
                  <a:pt x="13106" y="12640"/>
                  <a:pt x="13196" y="12626"/>
                </a:cubicBezTo>
                <a:cubicBezTo>
                  <a:pt x="13213" y="12626"/>
                  <a:pt x="13229" y="12626"/>
                  <a:pt x="13246" y="12626"/>
                </a:cubicBezTo>
              </a:path>
              <a:path w="15033" h="2581">
                <a:moveTo>
                  <a:pt x="12998" y="12750"/>
                </a:moveTo>
                <a:cubicBezTo>
                  <a:pt x="13050" y="12791"/>
                  <a:pt x="13130" y="12838"/>
                  <a:pt x="13196" y="12849"/>
                </a:cubicBezTo>
                <a:cubicBezTo>
                  <a:pt x="13259" y="12860"/>
                  <a:pt x="13301" y="12867"/>
                  <a:pt x="13345" y="12849"/>
                </a:cubicBezTo>
              </a:path>
              <a:path w="15033" h="2581">
                <a:moveTo>
                  <a:pt x="8756" y="13494"/>
                </a:moveTo>
                <a:cubicBezTo>
                  <a:pt x="8830" y="13457"/>
                  <a:pt x="8913" y="13420"/>
                  <a:pt x="8979" y="13370"/>
                </a:cubicBezTo>
                <a:cubicBezTo>
                  <a:pt x="9037" y="13327"/>
                  <a:pt x="9111" y="13304"/>
                  <a:pt x="9178" y="13271"/>
                </a:cubicBezTo>
                <a:cubicBezTo>
                  <a:pt x="9279" y="13220"/>
                  <a:pt x="9353" y="13146"/>
                  <a:pt x="9451" y="13097"/>
                </a:cubicBezTo>
                <a:cubicBezTo>
                  <a:pt x="9529" y="13057"/>
                  <a:pt x="9593" y="13012"/>
                  <a:pt x="9674" y="12973"/>
                </a:cubicBezTo>
                <a:cubicBezTo>
                  <a:pt x="9730" y="12946"/>
                  <a:pt x="9773" y="12924"/>
                  <a:pt x="9823" y="12898"/>
                </a:cubicBezTo>
                <a:cubicBezTo>
                  <a:pt x="9863" y="12878"/>
                  <a:pt x="9870" y="12870"/>
                  <a:pt x="9897" y="12874"/>
                </a:cubicBezTo>
              </a:path>
              <a:path w="15033" h="2581">
                <a:moveTo>
                  <a:pt x="11237" y="12229"/>
                </a:moveTo>
                <a:cubicBezTo>
                  <a:pt x="11346" y="12165"/>
                  <a:pt x="11449" y="12090"/>
                  <a:pt x="11559" y="12030"/>
                </a:cubicBezTo>
                <a:cubicBezTo>
                  <a:pt x="11645" y="11983"/>
                  <a:pt x="11733" y="11920"/>
                  <a:pt x="11807" y="11857"/>
                </a:cubicBezTo>
                <a:cubicBezTo>
                  <a:pt x="11859" y="11813"/>
                  <a:pt x="11924" y="11789"/>
                  <a:pt x="11981" y="11757"/>
                </a:cubicBezTo>
                <a:cubicBezTo>
                  <a:pt x="12033" y="11728"/>
                  <a:pt x="12085" y="11698"/>
                  <a:pt x="12129" y="11658"/>
                </a:cubicBezTo>
                <a:cubicBezTo>
                  <a:pt x="12160" y="11630"/>
                  <a:pt x="12166" y="11618"/>
                  <a:pt x="12204" y="11609"/>
                </a:cubicBezTo>
              </a:path>
              <a:path w="15033" h="2581">
                <a:moveTo>
                  <a:pt x="13494" y="11733"/>
                </a:moveTo>
                <a:cubicBezTo>
                  <a:pt x="13626" y="11653"/>
                  <a:pt x="13633" y="11640"/>
                  <a:pt x="13767" y="11708"/>
                </a:cubicBezTo>
                <a:cubicBezTo>
                  <a:pt x="13797" y="11723"/>
                  <a:pt x="13883" y="11794"/>
                  <a:pt x="13891" y="11832"/>
                </a:cubicBezTo>
                <a:cubicBezTo>
                  <a:pt x="13916" y="11948"/>
                  <a:pt x="13913" y="12160"/>
                  <a:pt x="13841" y="12254"/>
                </a:cubicBezTo>
                <a:cubicBezTo>
                  <a:pt x="13804" y="12302"/>
                  <a:pt x="13730" y="12387"/>
                  <a:pt x="13667" y="12402"/>
                </a:cubicBezTo>
                <a:cubicBezTo>
                  <a:pt x="13618" y="12402"/>
                  <a:pt x="13601" y="12402"/>
                  <a:pt x="13568" y="12402"/>
                </a:cubicBezTo>
                <a:cubicBezTo>
                  <a:pt x="13574" y="12356"/>
                  <a:pt x="13587" y="12249"/>
                  <a:pt x="13643" y="12229"/>
                </a:cubicBezTo>
                <a:cubicBezTo>
                  <a:pt x="13722" y="12201"/>
                  <a:pt x="13728" y="12294"/>
                  <a:pt x="13767" y="12328"/>
                </a:cubicBezTo>
                <a:cubicBezTo>
                  <a:pt x="13833" y="12385"/>
                  <a:pt x="13871" y="12418"/>
                  <a:pt x="13915" y="12502"/>
                </a:cubicBezTo>
                <a:cubicBezTo>
                  <a:pt x="13935" y="12542"/>
                  <a:pt x="13934" y="12558"/>
                  <a:pt x="13965" y="12551"/>
                </a:cubicBezTo>
              </a:path>
              <a:path w="15033" h="2581">
                <a:moveTo>
                  <a:pt x="14114" y="12030"/>
                </a:moveTo>
                <a:cubicBezTo>
                  <a:pt x="14114" y="12118"/>
                  <a:pt x="14134" y="12193"/>
                  <a:pt x="14139" y="12278"/>
                </a:cubicBezTo>
                <a:cubicBezTo>
                  <a:pt x="14142" y="12332"/>
                  <a:pt x="14156" y="12373"/>
                  <a:pt x="14163" y="12427"/>
                </a:cubicBezTo>
                <a:cubicBezTo>
                  <a:pt x="14171" y="12351"/>
                  <a:pt x="14188" y="12308"/>
                  <a:pt x="14188" y="12229"/>
                </a:cubicBezTo>
                <a:cubicBezTo>
                  <a:pt x="14188" y="12058"/>
                  <a:pt x="14161" y="11845"/>
                  <a:pt x="14213" y="11683"/>
                </a:cubicBezTo>
                <a:cubicBezTo>
                  <a:pt x="14228" y="11635"/>
                  <a:pt x="14259" y="11559"/>
                  <a:pt x="14312" y="11534"/>
                </a:cubicBezTo>
                <a:cubicBezTo>
                  <a:pt x="14410" y="11487"/>
                  <a:pt x="14446" y="11523"/>
                  <a:pt x="14536" y="11559"/>
                </a:cubicBezTo>
              </a:path>
              <a:path w="15033" h="2581">
                <a:moveTo>
                  <a:pt x="14337" y="11782"/>
                </a:moveTo>
                <a:cubicBezTo>
                  <a:pt x="14400" y="11807"/>
                  <a:pt x="14421" y="11767"/>
                  <a:pt x="14486" y="11733"/>
                </a:cubicBezTo>
                <a:cubicBezTo>
                  <a:pt x="14552" y="11699"/>
                  <a:pt x="14652" y="11713"/>
                  <a:pt x="14635" y="11807"/>
                </a:cubicBezTo>
                <a:cubicBezTo>
                  <a:pt x="14624" y="11865"/>
                  <a:pt x="14590" y="11947"/>
                  <a:pt x="14536" y="11981"/>
                </a:cubicBezTo>
                <a:cubicBezTo>
                  <a:pt x="14492" y="12002"/>
                  <a:pt x="14480" y="12005"/>
                  <a:pt x="14461" y="12030"/>
                </a:cubicBezTo>
                <a:cubicBezTo>
                  <a:pt x="14524" y="12030"/>
                  <a:pt x="14586" y="12016"/>
                  <a:pt x="14635" y="12055"/>
                </a:cubicBezTo>
                <a:cubicBezTo>
                  <a:pt x="14687" y="12097"/>
                  <a:pt x="14724" y="12163"/>
                  <a:pt x="14734" y="12229"/>
                </a:cubicBezTo>
                <a:cubicBezTo>
                  <a:pt x="14747" y="12310"/>
                  <a:pt x="14732" y="12427"/>
                  <a:pt x="14709" y="12502"/>
                </a:cubicBezTo>
                <a:cubicBezTo>
                  <a:pt x="14686" y="12578"/>
                  <a:pt x="14653" y="12576"/>
                  <a:pt x="14585" y="12576"/>
                </a:cubicBezTo>
                <a:cubicBezTo>
                  <a:pt x="14489" y="12576"/>
                  <a:pt x="14477" y="12532"/>
                  <a:pt x="14461" y="12452"/>
                </a:cubicBezTo>
              </a:path>
              <a:path w="15033" h="2581">
                <a:moveTo>
                  <a:pt x="15081" y="11832"/>
                </a:moveTo>
                <a:cubicBezTo>
                  <a:pt x="15110" y="11908"/>
                  <a:pt x="15106" y="11972"/>
                  <a:pt x="15106" y="12055"/>
                </a:cubicBezTo>
                <a:cubicBezTo>
                  <a:pt x="15106" y="12137"/>
                  <a:pt x="15109" y="12227"/>
                  <a:pt x="15131" y="12303"/>
                </a:cubicBezTo>
                <a:cubicBezTo>
                  <a:pt x="15148" y="12362"/>
                  <a:pt x="15171" y="12414"/>
                  <a:pt x="15180" y="12477"/>
                </a:cubicBezTo>
              </a:path>
              <a:path w="15033" h="2581">
                <a:moveTo>
                  <a:pt x="14932" y="12129"/>
                </a:moveTo>
                <a:cubicBezTo>
                  <a:pt x="15016" y="12137"/>
                  <a:pt x="15095" y="12148"/>
                  <a:pt x="15180" y="12179"/>
                </a:cubicBezTo>
                <a:cubicBezTo>
                  <a:pt x="15221" y="12199"/>
                  <a:pt x="15227" y="12208"/>
                  <a:pt x="15255" y="12204"/>
                </a:cubicBezTo>
              </a:path>
              <a:path w="15033" h="2581">
                <a:moveTo>
                  <a:pt x="15577" y="11832"/>
                </a:moveTo>
                <a:cubicBezTo>
                  <a:pt x="15569" y="11897"/>
                  <a:pt x="15539" y="11962"/>
                  <a:pt x="15553" y="12030"/>
                </a:cubicBezTo>
                <a:cubicBezTo>
                  <a:pt x="15566" y="12092"/>
                  <a:pt x="15596" y="12167"/>
                  <a:pt x="15652" y="12204"/>
                </a:cubicBezTo>
                <a:cubicBezTo>
                  <a:pt x="15696" y="12232"/>
                  <a:pt x="15755" y="12267"/>
                  <a:pt x="15801" y="12278"/>
                </a:cubicBezTo>
              </a:path>
              <a:path w="15033" h="2581">
                <a:moveTo>
                  <a:pt x="15850" y="11683"/>
                </a:moveTo>
                <a:cubicBezTo>
                  <a:pt x="15820" y="11733"/>
                  <a:pt x="15804" y="11794"/>
                  <a:pt x="15801" y="11857"/>
                </a:cubicBezTo>
                <a:cubicBezTo>
                  <a:pt x="15794" y="12018"/>
                  <a:pt x="15810" y="12171"/>
                  <a:pt x="15825" y="12328"/>
                </a:cubicBezTo>
                <a:cubicBezTo>
                  <a:pt x="15838" y="12461"/>
                  <a:pt x="15870" y="12592"/>
                  <a:pt x="15875" y="12725"/>
                </a:cubicBezTo>
                <a:cubicBezTo>
                  <a:pt x="15875" y="12750"/>
                  <a:pt x="15875" y="12774"/>
                  <a:pt x="15875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Ink 21"/>
          <p:cNvSpPr/>
          <p:nvPr/>
        </p:nvSpPr>
        <p:spPr>
          <a:xfrm>
            <a:off x="3983040" y="4098960"/>
            <a:ext cx="3340080" cy="1866960"/>
          </a:xfrm>
          <a:custGeom>
            <a:avLst/>
            <a:gdLst/>
            <a:ahLst/>
            <a:rect l="l" t="t" r="r" b="b"/>
            <a:pathLst>
              <a:path w="9278" h="5186">
                <a:moveTo>
                  <a:pt x="13742" y="12774"/>
                </a:moveTo>
                <a:cubicBezTo>
                  <a:pt x="13830" y="12766"/>
                  <a:pt x="13899" y="12750"/>
                  <a:pt x="13990" y="12750"/>
                </a:cubicBezTo>
                <a:cubicBezTo>
                  <a:pt x="14101" y="12750"/>
                  <a:pt x="14206" y="12766"/>
                  <a:pt x="14312" y="12774"/>
                </a:cubicBezTo>
                <a:cubicBezTo>
                  <a:pt x="14615" y="12797"/>
                  <a:pt x="14931" y="12776"/>
                  <a:pt x="15230" y="12750"/>
                </a:cubicBezTo>
                <a:cubicBezTo>
                  <a:pt x="15414" y="12734"/>
                  <a:pt x="15595" y="12750"/>
                  <a:pt x="15776" y="12725"/>
                </a:cubicBezTo>
                <a:cubicBezTo>
                  <a:pt x="15834" y="12717"/>
                  <a:pt x="15899" y="12710"/>
                  <a:pt x="15925" y="12700"/>
                </a:cubicBezTo>
              </a:path>
              <a:path w="9278" h="5186">
                <a:moveTo>
                  <a:pt x="14908" y="13196"/>
                </a:moveTo>
                <a:cubicBezTo>
                  <a:pt x="14974" y="13142"/>
                  <a:pt x="15020" y="13125"/>
                  <a:pt x="15106" y="13122"/>
                </a:cubicBezTo>
                <a:cubicBezTo>
                  <a:pt x="15203" y="13118"/>
                  <a:pt x="15266" y="13111"/>
                  <a:pt x="15304" y="13221"/>
                </a:cubicBezTo>
                <a:cubicBezTo>
                  <a:pt x="15326" y="13285"/>
                  <a:pt x="15329" y="13344"/>
                  <a:pt x="15329" y="13419"/>
                </a:cubicBezTo>
                <a:cubicBezTo>
                  <a:pt x="15329" y="13524"/>
                  <a:pt x="15298" y="13591"/>
                  <a:pt x="15280" y="13692"/>
                </a:cubicBezTo>
                <a:cubicBezTo>
                  <a:pt x="15266" y="13772"/>
                  <a:pt x="15222" y="13839"/>
                  <a:pt x="15205" y="13915"/>
                </a:cubicBezTo>
                <a:cubicBezTo>
                  <a:pt x="15183" y="14012"/>
                  <a:pt x="15174" y="14018"/>
                  <a:pt x="15081" y="14064"/>
                </a:cubicBezTo>
                <a:cubicBezTo>
                  <a:pt x="15008" y="14001"/>
                  <a:pt x="15007" y="13964"/>
                  <a:pt x="15007" y="13866"/>
                </a:cubicBezTo>
                <a:cubicBezTo>
                  <a:pt x="15007" y="13839"/>
                  <a:pt x="15024" y="13726"/>
                  <a:pt x="15056" y="13717"/>
                </a:cubicBezTo>
                <a:cubicBezTo>
                  <a:pt x="15133" y="13696"/>
                  <a:pt x="15180" y="13718"/>
                  <a:pt x="15230" y="13767"/>
                </a:cubicBezTo>
                <a:cubicBezTo>
                  <a:pt x="15291" y="13827"/>
                  <a:pt x="15363" y="13864"/>
                  <a:pt x="15429" y="13915"/>
                </a:cubicBezTo>
                <a:cubicBezTo>
                  <a:pt x="15506" y="13974"/>
                  <a:pt x="15532" y="14056"/>
                  <a:pt x="15627" y="14064"/>
                </a:cubicBezTo>
                <a:cubicBezTo>
                  <a:pt x="15635" y="14064"/>
                  <a:pt x="15644" y="14064"/>
                  <a:pt x="15652" y="14064"/>
                </a:cubicBezTo>
              </a:path>
              <a:path w="9278" h="5186">
                <a:moveTo>
                  <a:pt x="16371" y="12824"/>
                </a:moveTo>
                <a:cubicBezTo>
                  <a:pt x="16478" y="12805"/>
                  <a:pt x="16562" y="12799"/>
                  <a:pt x="16669" y="12799"/>
                </a:cubicBezTo>
                <a:cubicBezTo>
                  <a:pt x="16685" y="12799"/>
                  <a:pt x="16702" y="12799"/>
                  <a:pt x="16718" y="12799"/>
                </a:cubicBezTo>
              </a:path>
              <a:path w="9278" h="5186">
                <a:moveTo>
                  <a:pt x="16470" y="12998"/>
                </a:moveTo>
                <a:cubicBezTo>
                  <a:pt x="16540" y="13066"/>
                  <a:pt x="16559" y="13069"/>
                  <a:pt x="16644" y="13097"/>
                </a:cubicBezTo>
                <a:cubicBezTo>
                  <a:pt x="16692" y="13121"/>
                  <a:pt x="16706" y="13129"/>
                  <a:pt x="16743" y="13122"/>
                </a:cubicBezTo>
              </a:path>
              <a:path w="9278" h="5186">
                <a:moveTo>
                  <a:pt x="17239" y="12502"/>
                </a:moveTo>
                <a:cubicBezTo>
                  <a:pt x="17265" y="12577"/>
                  <a:pt x="17243" y="12651"/>
                  <a:pt x="17264" y="12725"/>
                </a:cubicBezTo>
                <a:cubicBezTo>
                  <a:pt x="17286" y="12803"/>
                  <a:pt x="17289" y="12863"/>
                  <a:pt x="17289" y="12948"/>
                </a:cubicBezTo>
                <a:cubicBezTo>
                  <a:pt x="17289" y="13006"/>
                  <a:pt x="17289" y="13064"/>
                  <a:pt x="17289" y="13122"/>
                </a:cubicBezTo>
                <a:cubicBezTo>
                  <a:pt x="17289" y="12921"/>
                  <a:pt x="17296" y="12718"/>
                  <a:pt x="17264" y="12526"/>
                </a:cubicBezTo>
                <a:cubicBezTo>
                  <a:pt x="17251" y="12448"/>
                  <a:pt x="17249" y="12356"/>
                  <a:pt x="17239" y="12278"/>
                </a:cubicBezTo>
                <a:cubicBezTo>
                  <a:pt x="17239" y="12262"/>
                  <a:pt x="17239" y="12245"/>
                  <a:pt x="17239" y="12229"/>
                </a:cubicBezTo>
                <a:cubicBezTo>
                  <a:pt x="17289" y="12199"/>
                  <a:pt x="17350" y="12183"/>
                  <a:pt x="17413" y="12179"/>
                </a:cubicBezTo>
                <a:cubicBezTo>
                  <a:pt x="17473" y="12176"/>
                  <a:pt x="17578" y="12149"/>
                  <a:pt x="17636" y="12129"/>
                </a:cubicBezTo>
                <a:cubicBezTo>
                  <a:pt x="17701" y="12107"/>
                  <a:pt x="17769" y="12099"/>
                  <a:pt x="17835" y="12080"/>
                </a:cubicBezTo>
                <a:cubicBezTo>
                  <a:pt x="17893" y="12064"/>
                  <a:pt x="17920" y="12055"/>
                  <a:pt x="17983" y="12055"/>
                </a:cubicBezTo>
              </a:path>
              <a:path w="9278" h="5186">
                <a:moveTo>
                  <a:pt x="17537" y="12402"/>
                </a:moveTo>
                <a:cubicBezTo>
                  <a:pt x="17607" y="12394"/>
                  <a:pt x="17662" y="12378"/>
                  <a:pt x="17735" y="12378"/>
                </a:cubicBezTo>
                <a:cubicBezTo>
                  <a:pt x="17806" y="12378"/>
                  <a:pt x="17864" y="12365"/>
                  <a:pt x="17884" y="12452"/>
                </a:cubicBezTo>
                <a:cubicBezTo>
                  <a:pt x="17900" y="12520"/>
                  <a:pt x="17880" y="12556"/>
                  <a:pt x="17835" y="12601"/>
                </a:cubicBezTo>
                <a:cubicBezTo>
                  <a:pt x="17802" y="12634"/>
                  <a:pt x="17768" y="12667"/>
                  <a:pt x="17735" y="12700"/>
                </a:cubicBezTo>
                <a:cubicBezTo>
                  <a:pt x="17812" y="12700"/>
                  <a:pt x="17830" y="12697"/>
                  <a:pt x="17884" y="12750"/>
                </a:cubicBezTo>
                <a:cubicBezTo>
                  <a:pt x="17936" y="12801"/>
                  <a:pt x="17937" y="12811"/>
                  <a:pt x="17959" y="12874"/>
                </a:cubicBezTo>
                <a:cubicBezTo>
                  <a:pt x="17989" y="12961"/>
                  <a:pt x="17989" y="13017"/>
                  <a:pt x="17934" y="13097"/>
                </a:cubicBezTo>
                <a:cubicBezTo>
                  <a:pt x="17888" y="13164"/>
                  <a:pt x="17799" y="13142"/>
                  <a:pt x="17735" y="13122"/>
                </a:cubicBezTo>
                <a:cubicBezTo>
                  <a:pt x="17685" y="13106"/>
                  <a:pt x="17626" y="13077"/>
                  <a:pt x="17611" y="13022"/>
                </a:cubicBezTo>
                <a:cubicBezTo>
                  <a:pt x="17611" y="13006"/>
                  <a:pt x="17611" y="12989"/>
                  <a:pt x="17611" y="12973"/>
                </a:cubicBezTo>
              </a:path>
              <a:path w="9278" h="5186">
                <a:moveTo>
                  <a:pt x="18653" y="12353"/>
                </a:moveTo>
                <a:cubicBezTo>
                  <a:pt x="18653" y="12482"/>
                  <a:pt x="18661" y="12600"/>
                  <a:pt x="18678" y="12725"/>
                </a:cubicBezTo>
                <a:cubicBezTo>
                  <a:pt x="18688" y="12802"/>
                  <a:pt x="18683" y="12874"/>
                  <a:pt x="18703" y="12948"/>
                </a:cubicBezTo>
                <a:cubicBezTo>
                  <a:pt x="18725" y="13032"/>
                  <a:pt x="18758" y="13114"/>
                  <a:pt x="18777" y="13196"/>
                </a:cubicBezTo>
                <a:cubicBezTo>
                  <a:pt x="18777" y="13204"/>
                  <a:pt x="18777" y="13213"/>
                  <a:pt x="18777" y="13221"/>
                </a:cubicBezTo>
              </a:path>
              <a:path w="9278" h="5186">
                <a:moveTo>
                  <a:pt x="18479" y="12774"/>
                </a:moveTo>
                <a:cubicBezTo>
                  <a:pt x="18582" y="12812"/>
                  <a:pt x="18641" y="12844"/>
                  <a:pt x="18752" y="12849"/>
                </a:cubicBezTo>
                <a:cubicBezTo>
                  <a:pt x="18802" y="12849"/>
                  <a:pt x="18819" y="12849"/>
                  <a:pt x="18852" y="12849"/>
                </a:cubicBezTo>
              </a:path>
              <a:path w="9278" h="5186">
                <a:moveTo>
                  <a:pt x="19100" y="12452"/>
                </a:moveTo>
                <a:cubicBezTo>
                  <a:pt x="19167" y="12356"/>
                  <a:pt x="19162" y="12353"/>
                  <a:pt x="19273" y="12353"/>
                </a:cubicBezTo>
                <a:cubicBezTo>
                  <a:pt x="19332" y="12353"/>
                  <a:pt x="19402" y="12386"/>
                  <a:pt x="19447" y="12427"/>
                </a:cubicBezTo>
                <a:cubicBezTo>
                  <a:pt x="19565" y="12535"/>
                  <a:pt x="19591" y="12590"/>
                  <a:pt x="19596" y="12750"/>
                </a:cubicBezTo>
                <a:cubicBezTo>
                  <a:pt x="19599" y="12839"/>
                  <a:pt x="19595" y="12939"/>
                  <a:pt x="19571" y="13022"/>
                </a:cubicBezTo>
                <a:cubicBezTo>
                  <a:pt x="19559" y="13065"/>
                  <a:pt x="19506" y="13167"/>
                  <a:pt x="19472" y="13196"/>
                </a:cubicBezTo>
                <a:cubicBezTo>
                  <a:pt x="19442" y="13222"/>
                  <a:pt x="19365" y="13285"/>
                  <a:pt x="19323" y="13271"/>
                </a:cubicBezTo>
                <a:cubicBezTo>
                  <a:pt x="19263" y="13251"/>
                  <a:pt x="19255" y="13183"/>
                  <a:pt x="19273" y="13146"/>
                </a:cubicBezTo>
                <a:cubicBezTo>
                  <a:pt x="19303" y="13082"/>
                  <a:pt x="19403" y="13078"/>
                  <a:pt x="19472" y="13097"/>
                </a:cubicBezTo>
                <a:cubicBezTo>
                  <a:pt x="19523" y="13111"/>
                  <a:pt x="19602" y="13124"/>
                  <a:pt x="19645" y="13146"/>
                </a:cubicBezTo>
                <a:cubicBezTo>
                  <a:pt x="19716" y="13182"/>
                  <a:pt x="19803" y="13246"/>
                  <a:pt x="19869" y="13295"/>
                </a:cubicBezTo>
                <a:cubicBezTo>
                  <a:pt x="19891" y="13318"/>
                  <a:pt x="19896" y="13326"/>
                  <a:pt x="19918" y="13320"/>
                </a:cubicBezTo>
              </a:path>
              <a:path w="9278" h="5186">
                <a:moveTo>
                  <a:pt x="16867" y="11609"/>
                </a:moveTo>
                <a:cubicBezTo>
                  <a:pt x="16867" y="11877"/>
                  <a:pt x="16887" y="12136"/>
                  <a:pt x="16892" y="12402"/>
                </a:cubicBezTo>
                <a:cubicBezTo>
                  <a:pt x="16895" y="12579"/>
                  <a:pt x="16902" y="12749"/>
                  <a:pt x="16917" y="12923"/>
                </a:cubicBezTo>
                <a:cubicBezTo>
                  <a:pt x="16928" y="13051"/>
                  <a:pt x="16924" y="13167"/>
                  <a:pt x="16942" y="13295"/>
                </a:cubicBezTo>
                <a:cubicBezTo>
                  <a:pt x="16932" y="13209"/>
                  <a:pt x="16948" y="13128"/>
                  <a:pt x="16942" y="13047"/>
                </a:cubicBezTo>
                <a:cubicBezTo>
                  <a:pt x="16933" y="12922"/>
                  <a:pt x="16939" y="12806"/>
                  <a:pt x="16942" y="12675"/>
                </a:cubicBezTo>
                <a:cubicBezTo>
                  <a:pt x="16945" y="12506"/>
                  <a:pt x="16927" y="12345"/>
                  <a:pt x="16917" y="12179"/>
                </a:cubicBezTo>
                <a:cubicBezTo>
                  <a:pt x="16910" y="12060"/>
                  <a:pt x="16899" y="11948"/>
                  <a:pt x="16892" y="11832"/>
                </a:cubicBezTo>
                <a:cubicBezTo>
                  <a:pt x="16887" y="11757"/>
                  <a:pt x="16872" y="11677"/>
                  <a:pt x="16867" y="11609"/>
                </a:cubicBezTo>
                <a:cubicBezTo>
                  <a:pt x="16862" y="11533"/>
                  <a:pt x="16857" y="11464"/>
                  <a:pt x="16917" y="11410"/>
                </a:cubicBezTo>
                <a:cubicBezTo>
                  <a:pt x="16963" y="11369"/>
                  <a:pt x="17087" y="11407"/>
                  <a:pt x="17140" y="11410"/>
                </a:cubicBezTo>
                <a:cubicBezTo>
                  <a:pt x="17256" y="11416"/>
                  <a:pt x="17375" y="11428"/>
                  <a:pt x="17487" y="11435"/>
                </a:cubicBezTo>
                <a:cubicBezTo>
                  <a:pt x="17665" y="11446"/>
                  <a:pt x="17856" y="11439"/>
                  <a:pt x="18033" y="11460"/>
                </a:cubicBezTo>
                <a:cubicBezTo>
                  <a:pt x="18230" y="11484"/>
                  <a:pt x="18429" y="11505"/>
                  <a:pt x="18628" y="11509"/>
                </a:cubicBezTo>
                <a:cubicBezTo>
                  <a:pt x="18793" y="11512"/>
                  <a:pt x="18962" y="11511"/>
                  <a:pt x="19124" y="11534"/>
                </a:cubicBezTo>
                <a:cubicBezTo>
                  <a:pt x="19273" y="11555"/>
                  <a:pt x="19421" y="11568"/>
                  <a:pt x="19571" y="11584"/>
                </a:cubicBezTo>
                <a:cubicBezTo>
                  <a:pt x="19701" y="11598"/>
                  <a:pt x="19865" y="11600"/>
                  <a:pt x="19993" y="11633"/>
                </a:cubicBezTo>
                <a:cubicBezTo>
                  <a:pt x="20070" y="11653"/>
                  <a:pt x="20126" y="11693"/>
                  <a:pt x="20191" y="11733"/>
                </a:cubicBezTo>
                <a:cubicBezTo>
                  <a:pt x="20250" y="11770"/>
                  <a:pt x="20297" y="11814"/>
                  <a:pt x="20315" y="11881"/>
                </a:cubicBezTo>
                <a:cubicBezTo>
                  <a:pt x="20341" y="11981"/>
                  <a:pt x="20295" y="12088"/>
                  <a:pt x="20290" y="12179"/>
                </a:cubicBezTo>
                <a:cubicBezTo>
                  <a:pt x="20273" y="12484"/>
                  <a:pt x="20290" y="12797"/>
                  <a:pt x="20315" y="13097"/>
                </a:cubicBezTo>
                <a:cubicBezTo>
                  <a:pt x="20328" y="13253"/>
                  <a:pt x="20331" y="13412"/>
                  <a:pt x="20340" y="13568"/>
                </a:cubicBezTo>
                <a:cubicBezTo>
                  <a:pt x="20347" y="13689"/>
                  <a:pt x="20338" y="13802"/>
                  <a:pt x="20315" y="13915"/>
                </a:cubicBezTo>
                <a:cubicBezTo>
                  <a:pt x="20295" y="14016"/>
                  <a:pt x="20300" y="14006"/>
                  <a:pt x="20216" y="14039"/>
                </a:cubicBezTo>
                <a:cubicBezTo>
                  <a:pt x="20149" y="14065"/>
                  <a:pt x="20030" y="14029"/>
                  <a:pt x="19968" y="14015"/>
                </a:cubicBezTo>
                <a:cubicBezTo>
                  <a:pt x="19903" y="14001"/>
                  <a:pt x="19834" y="13981"/>
                  <a:pt x="19769" y="13965"/>
                </a:cubicBezTo>
                <a:cubicBezTo>
                  <a:pt x="19701" y="13948"/>
                  <a:pt x="19641" y="13927"/>
                  <a:pt x="19571" y="13915"/>
                </a:cubicBezTo>
                <a:cubicBezTo>
                  <a:pt x="19462" y="13896"/>
                  <a:pt x="19355" y="13883"/>
                  <a:pt x="19248" y="13866"/>
                </a:cubicBezTo>
                <a:cubicBezTo>
                  <a:pt x="19159" y="13852"/>
                  <a:pt x="19066" y="13820"/>
                  <a:pt x="18976" y="13791"/>
                </a:cubicBezTo>
                <a:cubicBezTo>
                  <a:pt x="18875" y="13759"/>
                  <a:pt x="18774" y="13745"/>
                  <a:pt x="18678" y="13717"/>
                </a:cubicBezTo>
                <a:cubicBezTo>
                  <a:pt x="18551" y="13680"/>
                  <a:pt x="18433" y="13657"/>
                  <a:pt x="18306" y="13618"/>
                </a:cubicBezTo>
                <a:cubicBezTo>
                  <a:pt x="18147" y="13569"/>
                  <a:pt x="17995" y="13528"/>
                  <a:pt x="17835" y="13494"/>
                </a:cubicBezTo>
                <a:cubicBezTo>
                  <a:pt x="17710" y="13467"/>
                  <a:pt x="17585" y="13425"/>
                  <a:pt x="17462" y="13395"/>
                </a:cubicBezTo>
                <a:cubicBezTo>
                  <a:pt x="17347" y="13367"/>
                  <a:pt x="17252" y="13339"/>
                  <a:pt x="17140" y="13320"/>
                </a:cubicBezTo>
                <a:cubicBezTo>
                  <a:pt x="17068" y="13308"/>
                  <a:pt x="16987" y="13278"/>
                  <a:pt x="16917" y="13271"/>
                </a:cubicBezTo>
                <a:cubicBezTo>
                  <a:pt x="16842" y="13263"/>
                  <a:pt x="16766" y="13266"/>
                  <a:pt x="16694" y="13246"/>
                </a:cubicBezTo>
                <a:cubicBezTo>
                  <a:pt x="16671" y="13223"/>
                  <a:pt x="16667" y="13215"/>
                  <a:pt x="16644" y="13221"/>
                </a:cubicBezTo>
              </a:path>
              <a:path w="9278" h="5186">
                <a:moveTo>
                  <a:pt x="11237" y="14660"/>
                </a:moveTo>
                <a:cubicBezTo>
                  <a:pt x="11282" y="14594"/>
                  <a:pt x="11317" y="14526"/>
                  <a:pt x="11361" y="14461"/>
                </a:cubicBezTo>
                <a:cubicBezTo>
                  <a:pt x="11411" y="14387"/>
                  <a:pt x="11464" y="14462"/>
                  <a:pt x="11485" y="14511"/>
                </a:cubicBezTo>
                <a:cubicBezTo>
                  <a:pt x="11553" y="14667"/>
                  <a:pt x="11527" y="14731"/>
                  <a:pt x="11485" y="14883"/>
                </a:cubicBezTo>
                <a:cubicBezTo>
                  <a:pt x="11458" y="14979"/>
                  <a:pt x="11447" y="15091"/>
                  <a:pt x="11361" y="15156"/>
                </a:cubicBezTo>
                <a:cubicBezTo>
                  <a:pt x="11288" y="15211"/>
                  <a:pt x="11209" y="15207"/>
                  <a:pt x="11137" y="15156"/>
                </a:cubicBezTo>
                <a:cubicBezTo>
                  <a:pt x="11075" y="15113"/>
                  <a:pt x="11071" y="15073"/>
                  <a:pt x="11063" y="15007"/>
                </a:cubicBezTo>
                <a:cubicBezTo>
                  <a:pt x="11139" y="14969"/>
                  <a:pt x="11166" y="14987"/>
                  <a:pt x="11237" y="15032"/>
                </a:cubicBezTo>
                <a:cubicBezTo>
                  <a:pt x="11328" y="15090"/>
                  <a:pt x="11417" y="15149"/>
                  <a:pt x="11509" y="15205"/>
                </a:cubicBezTo>
              </a:path>
              <a:path w="9278" h="5186">
                <a:moveTo>
                  <a:pt x="11757" y="14511"/>
                </a:moveTo>
                <a:cubicBezTo>
                  <a:pt x="11740" y="14674"/>
                  <a:pt x="11765" y="14817"/>
                  <a:pt x="11782" y="14982"/>
                </a:cubicBezTo>
                <a:cubicBezTo>
                  <a:pt x="11786" y="15022"/>
                  <a:pt x="11813" y="15221"/>
                  <a:pt x="11782" y="15106"/>
                </a:cubicBezTo>
                <a:cubicBezTo>
                  <a:pt x="11754" y="15000"/>
                  <a:pt x="11747" y="14896"/>
                  <a:pt x="11757" y="14784"/>
                </a:cubicBezTo>
                <a:cubicBezTo>
                  <a:pt x="11771" y="14616"/>
                  <a:pt x="11787" y="14453"/>
                  <a:pt x="11807" y="14288"/>
                </a:cubicBezTo>
                <a:cubicBezTo>
                  <a:pt x="11815" y="14218"/>
                  <a:pt x="11830" y="14170"/>
                  <a:pt x="11906" y="14163"/>
                </a:cubicBezTo>
                <a:cubicBezTo>
                  <a:pt x="11987" y="14156"/>
                  <a:pt x="12054" y="14204"/>
                  <a:pt x="12129" y="14238"/>
                </a:cubicBezTo>
              </a:path>
              <a:path w="9278" h="5186">
                <a:moveTo>
                  <a:pt x="11981" y="14560"/>
                </a:moveTo>
                <a:cubicBezTo>
                  <a:pt x="12047" y="14600"/>
                  <a:pt x="12078" y="14564"/>
                  <a:pt x="12154" y="14560"/>
                </a:cubicBezTo>
                <a:cubicBezTo>
                  <a:pt x="12217" y="14556"/>
                  <a:pt x="12246" y="14563"/>
                  <a:pt x="12303" y="14585"/>
                </a:cubicBezTo>
                <a:cubicBezTo>
                  <a:pt x="12283" y="14656"/>
                  <a:pt x="12239" y="14675"/>
                  <a:pt x="12179" y="14734"/>
                </a:cubicBezTo>
                <a:cubicBezTo>
                  <a:pt x="12144" y="14769"/>
                  <a:pt x="12122" y="14782"/>
                  <a:pt x="12080" y="14784"/>
                </a:cubicBezTo>
                <a:cubicBezTo>
                  <a:pt x="12158" y="14838"/>
                  <a:pt x="12233" y="14892"/>
                  <a:pt x="12303" y="14957"/>
                </a:cubicBezTo>
                <a:cubicBezTo>
                  <a:pt x="12388" y="15036"/>
                  <a:pt x="12241" y="15089"/>
                  <a:pt x="12204" y="15131"/>
                </a:cubicBezTo>
                <a:cubicBezTo>
                  <a:pt x="12137" y="15207"/>
                  <a:pt x="12021" y="15195"/>
                  <a:pt x="11906" y="15205"/>
                </a:cubicBezTo>
              </a:path>
              <a:path w="9278" h="5186">
                <a:moveTo>
                  <a:pt x="11187" y="15230"/>
                </a:moveTo>
                <a:cubicBezTo>
                  <a:pt x="11423" y="15289"/>
                  <a:pt x="11592" y="15304"/>
                  <a:pt x="11832" y="15304"/>
                </a:cubicBezTo>
                <a:cubicBezTo>
                  <a:pt x="12033" y="15304"/>
                  <a:pt x="12235" y="15304"/>
                  <a:pt x="12427" y="15329"/>
                </a:cubicBezTo>
                <a:cubicBezTo>
                  <a:pt x="12485" y="15329"/>
                  <a:pt x="12493" y="15329"/>
                  <a:pt x="12526" y="15329"/>
                </a:cubicBezTo>
              </a:path>
              <a:path w="9278" h="5186">
                <a:moveTo>
                  <a:pt x="11832" y="15553"/>
                </a:moveTo>
                <a:cubicBezTo>
                  <a:pt x="11937" y="15560"/>
                  <a:pt x="12091" y="15488"/>
                  <a:pt x="12204" y="15528"/>
                </a:cubicBezTo>
                <a:cubicBezTo>
                  <a:pt x="12275" y="15553"/>
                  <a:pt x="12327" y="15684"/>
                  <a:pt x="12303" y="15751"/>
                </a:cubicBezTo>
                <a:cubicBezTo>
                  <a:pt x="12276" y="15828"/>
                  <a:pt x="12174" y="15978"/>
                  <a:pt x="12105" y="16024"/>
                </a:cubicBezTo>
                <a:cubicBezTo>
                  <a:pt x="12022" y="16080"/>
                  <a:pt x="11915" y="16168"/>
                  <a:pt x="11807" y="16148"/>
                </a:cubicBezTo>
                <a:cubicBezTo>
                  <a:pt x="11790" y="16140"/>
                  <a:pt x="11774" y="16131"/>
                  <a:pt x="11757" y="16123"/>
                </a:cubicBezTo>
                <a:cubicBezTo>
                  <a:pt x="11775" y="15978"/>
                  <a:pt x="11799" y="15976"/>
                  <a:pt x="11956" y="15949"/>
                </a:cubicBezTo>
                <a:cubicBezTo>
                  <a:pt x="12013" y="15939"/>
                  <a:pt x="12120" y="16078"/>
                  <a:pt x="12154" y="16123"/>
                </a:cubicBezTo>
                <a:cubicBezTo>
                  <a:pt x="12222" y="16212"/>
                  <a:pt x="12278" y="16266"/>
                  <a:pt x="12378" y="16321"/>
                </a:cubicBezTo>
              </a:path>
              <a:path w="9278" h="5186">
                <a:moveTo>
                  <a:pt x="13047" y="14982"/>
                </a:moveTo>
                <a:cubicBezTo>
                  <a:pt x="13082" y="15086"/>
                  <a:pt x="13072" y="15191"/>
                  <a:pt x="13072" y="15304"/>
                </a:cubicBezTo>
                <a:cubicBezTo>
                  <a:pt x="13072" y="15400"/>
                  <a:pt x="13071" y="15439"/>
                  <a:pt x="13047" y="15528"/>
                </a:cubicBezTo>
              </a:path>
              <a:path w="9278" h="5186">
                <a:moveTo>
                  <a:pt x="12948" y="15230"/>
                </a:moveTo>
                <a:cubicBezTo>
                  <a:pt x="13100" y="15306"/>
                  <a:pt x="13086" y="15329"/>
                  <a:pt x="13221" y="15304"/>
                </a:cubicBezTo>
              </a:path>
              <a:path w="9278" h="5186">
                <a:moveTo>
                  <a:pt x="13667" y="14560"/>
                </a:moveTo>
                <a:cubicBezTo>
                  <a:pt x="13667" y="14631"/>
                  <a:pt x="13646" y="14724"/>
                  <a:pt x="13692" y="14784"/>
                </a:cubicBezTo>
                <a:cubicBezTo>
                  <a:pt x="13753" y="14865"/>
                  <a:pt x="13818" y="14908"/>
                  <a:pt x="13915" y="14908"/>
                </a:cubicBezTo>
              </a:path>
              <a:path w="9278" h="5186">
                <a:moveTo>
                  <a:pt x="14064" y="14312"/>
                </a:moveTo>
                <a:cubicBezTo>
                  <a:pt x="14017" y="14371"/>
                  <a:pt x="13987" y="14437"/>
                  <a:pt x="13965" y="14511"/>
                </a:cubicBezTo>
                <a:cubicBezTo>
                  <a:pt x="13915" y="14682"/>
                  <a:pt x="13965" y="14877"/>
                  <a:pt x="13965" y="15056"/>
                </a:cubicBezTo>
                <a:cubicBezTo>
                  <a:pt x="13965" y="15157"/>
                  <a:pt x="13975" y="15178"/>
                  <a:pt x="13940" y="15230"/>
                </a:cubicBezTo>
              </a:path>
              <a:path w="9278" h="5186">
                <a:moveTo>
                  <a:pt x="13643" y="15379"/>
                </a:moveTo>
                <a:cubicBezTo>
                  <a:pt x="13819" y="15399"/>
                  <a:pt x="13924" y="15397"/>
                  <a:pt x="14089" y="15379"/>
                </a:cubicBezTo>
                <a:cubicBezTo>
                  <a:pt x="14114" y="15379"/>
                  <a:pt x="14138" y="15379"/>
                  <a:pt x="14163" y="15379"/>
                </a:cubicBezTo>
              </a:path>
              <a:path w="9278" h="5186">
                <a:moveTo>
                  <a:pt x="13940" y="15528"/>
                </a:moveTo>
                <a:cubicBezTo>
                  <a:pt x="14013" y="15572"/>
                  <a:pt x="14077" y="15532"/>
                  <a:pt x="14163" y="15528"/>
                </a:cubicBezTo>
                <a:cubicBezTo>
                  <a:pt x="14245" y="15524"/>
                  <a:pt x="14283" y="15550"/>
                  <a:pt x="14288" y="15627"/>
                </a:cubicBezTo>
                <a:cubicBezTo>
                  <a:pt x="14293" y="15704"/>
                  <a:pt x="14293" y="15788"/>
                  <a:pt x="14238" y="15850"/>
                </a:cubicBezTo>
                <a:cubicBezTo>
                  <a:pt x="14129" y="15974"/>
                  <a:pt x="14076" y="15991"/>
                  <a:pt x="13940" y="16049"/>
                </a:cubicBezTo>
                <a:cubicBezTo>
                  <a:pt x="13897" y="16070"/>
                  <a:pt x="13885" y="16074"/>
                  <a:pt x="13866" y="16098"/>
                </a:cubicBezTo>
                <a:cubicBezTo>
                  <a:pt x="13973" y="16027"/>
                  <a:pt x="14088" y="16021"/>
                  <a:pt x="14213" y="16049"/>
                </a:cubicBezTo>
                <a:cubicBezTo>
                  <a:pt x="14331" y="16075"/>
                  <a:pt x="14400" y="16204"/>
                  <a:pt x="14461" y="16297"/>
                </a:cubicBezTo>
                <a:cubicBezTo>
                  <a:pt x="14527" y="16397"/>
                  <a:pt x="14592" y="16500"/>
                  <a:pt x="14684" y="165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22"/>
          <p:cNvSpPr/>
          <p:nvPr/>
        </p:nvSpPr>
        <p:spPr>
          <a:xfrm>
            <a:off x="4133880" y="4187880"/>
            <a:ext cx="339840" cy="804960"/>
          </a:xfrm>
          <a:custGeom>
            <a:avLst/>
            <a:gdLst/>
            <a:ahLst/>
            <a:rect l="l" t="t" r="r" b="b"/>
            <a:pathLst>
              <a:path w="943" h="2234">
                <a:moveTo>
                  <a:pt x="11658" y="11757"/>
                </a:moveTo>
                <a:cubicBezTo>
                  <a:pt x="11642" y="11757"/>
                  <a:pt x="11625" y="11757"/>
                  <a:pt x="11609" y="11757"/>
                </a:cubicBezTo>
                <a:cubicBezTo>
                  <a:pt x="11643" y="11723"/>
                  <a:pt x="11682" y="11667"/>
                  <a:pt x="11733" y="11658"/>
                </a:cubicBezTo>
                <a:cubicBezTo>
                  <a:pt x="11813" y="11643"/>
                  <a:pt x="11857" y="11631"/>
                  <a:pt x="11931" y="11683"/>
                </a:cubicBezTo>
                <a:cubicBezTo>
                  <a:pt x="12048" y="11765"/>
                  <a:pt x="12013" y="11869"/>
                  <a:pt x="11931" y="11981"/>
                </a:cubicBezTo>
                <a:cubicBezTo>
                  <a:pt x="11903" y="12019"/>
                  <a:pt x="11798" y="12049"/>
                  <a:pt x="11757" y="12080"/>
                </a:cubicBezTo>
                <a:cubicBezTo>
                  <a:pt x="11714" y="12113"/>
                  <a:pt x="11672" y="12140"/>
                  <a:pt x="11633" y="12179"/>
                </a:cubicBezTo>
                <a:cubicBezTo>
                  <a:pt x="11753" y="12179"/>
                  <a:pt x="11875" y="12184"/>
                  <a:pt x="11981" y="12204"/>
                </a:cubicBezTo>
                <a:cubicBezTo>
                  <a:pt x="12047" y="12217"/>
                  <a:pt x="12111" y="12245"/>
                  <a:pt x="12055" y="12328"/>
                </a:cubicBezTo>
                <a:cubicBezTo>
                  <a:pt x="12006" y="12402"/>
                  <a:pt x="11939" y="12485"/>
                  <a:pt x="11857" y="12526"/>
                </a:cubicBezTo>
                <a:cubicBezTo>
                  <a:pt x="11796" y="12556"/>
                  <a:pt x="11747" y="12551"/>
                  <a:pt x="11683" y="12551"/>
                </a:cubicBezTo>
              </a:path>
              <a:path w="943" h="2234">
                <a:moveTo>
                  <a:pt x="11485" y="12700"/>
                </a:moveTo>
                <a:cubicBezTo>
                  <a:pt x="11623" y="12694"/>
                  <a:pt x="11748" y="12665"/>
                  <a:pt x="11881" y="12650"/>
                </a:cubicBezTo>
                <a:cubicBezTo>
                  <a:pt x="11998" y="12636"/>
                  <a:pt x="12205" y="12626"/>
                  <a:pt x="12303" y="12675"/>
                </a:cubicBezTo>
              </a:path>
              <a:path w="943" h="2234">
                <a:moveTo>
                  <a:pt x="11832" y="13047"/>
                </a:moveTo>
                <a:cubicBezTo>
                  <a:pt x="11844" y="13107"/>
                  <a:pt x="11879" y="13067"/>
                  <a:pt x="11956" y="13022"/>
                </a:cubicBezTo>
                <a:cubicBezTo>
                  <a:pt x="12000" y="12996"/>
                  <a:pt x="12031" y="12958"/>
                  <a:pt x="12080" y="12948"/>
                </a:cubicBezTo>
                <a:cubicBezTo>
                  <a:pt x="12149" y="12934"/>
                  <a:pt x="12204" y="12953"/>
                  <a:pt x="12254" y="12998"/>
                </a:cubicBezTo>
                <a:cubicBezTo>
                  <a:pt x="12316" y="13053"/>
                  <a:pt x="12324" y="13087"/>
                  <a:pt x="12328" y="13171"/>
                </a:cubicBezTo>
                <a:cubicBezTo>
                  <a:pt x="12333" y="13278"/>
                  <a:pt x="12270" y="13397"/>
                  <a:pt x="12229" y="13494"/>
                </a:cubicBezTo>
                <a:cubicBezTo>
                  <a:pt x="12186" y="13597"/>
                  <a:pt x="12136" y="13701"/>
                  <a:pt x="12055" y="13767"/>
                </a:cubicBezTo>
                <a:cubicBezTo>
                  <a:pt x="12028" y="13789"/>
                  <a:pt x="12005" y="13816"/>
                  <a:pt x="11981" y="13841"/>
                </a:cubicBezTo>
                <a:cubicBezTo>
                  <a:pt x="11921" y="13766"/>
                  <a:pt x="11945" y="13744"/>
                  <a:pt x="11956" y="13667"/>
                </a:cubicBezTo>
                <a:cubicBezTo>
                  <a:pt x="11956" y="13606"/>
                  <a:pt x="11947" y="13590"/>
                  <a:pt x="11981" y="13568"/>
                </a:cubicBezTo>
                <a:cubicBezTo>
                  <a:pt x="12021" y="13610"/>
                  <a:pt x="12062" y="13632"/>
                  <a:pt x="12105" y="13667"/>
                </a:cubicBezTo>
                <a:cubicBezTo>
                  <a:pt x="12175" y="13725"/>
                  <a:pt x="12188" y="13802"/>
                  <a:pt x="12278" y="13841"/>
                </a:cubicBezTo>
                <a:cubicBezTo>
                  <a:pt x="12353" y="13866"/>
                  <a:pt x="12377" y="13874"/>
                  <a:pt x="12427" y="138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Ink 23"/>
          <p:cNvSpPr/>
          <p:nvPr/>
        </p:nvSpPr>
        <p:spPr>
          <a:xfrm>
            <a:off x="785880" y="2517840"/>
            <a:ext cx="1724040" cy="108000"/>
          </a:xfrm>
          <a:custGeom>
            <a:avLst/>
            <a:gdLst/>
            <a:ahLst/>
            <a:rect l="l" t="t" r="r" b="b"/>
            <a:pathLst>
              <a:path w="4788" h="299">
                <a:moveTo>
                  <a:pt x="2183" y="6995"/>
                </a:moveTo>
                <a:cubicBezTo>
                  <a:pt x="2293" y="6995"/>
                  <a:pt x="2411" y="7011"/>
                  <a:pt x="2505" y="7020"/>
                </a:cubicBezTo>
                <a:cubicBezTo>
                  <a:pt x="2766" y="7044"/>
                  <a:pt x="3041" y="7028"/>
                  <a:pt x="3299" y="7045"/>
                </a:cubicBezTo>
                <a:cubicBezTo>
                  <a:pt x="3490" y="7058"/>
                  <a:pt x="3683" y="7053"/>
                  <a:pt x="3870" y="7069"/>
                </a:cubicBezTo>
                <a:cubicBezTo>
                  <a:pt x="4050" y="7085"/>
                  <a:pt x="4234" y="7079"/>
                  <a:pt x="4415" y="7094"/>
                </a:cubicBezTo>
                <a:cubicBezTo>
                  <a:pt x="4577" y="7107"/>
                  <a:pt x="4751" y="7097"/>
                  <a:pt x="4911" y="7119"/>
                </a:cubicBezTo>
                <a:cubicBezTo>
                  <a:pt x="5057" y="7139"/>
                  <a:pt x="5210" y="7162"/>
                  <a:pt x="5358" y="7169"/>
                </a:cubicBezTo>
                <a:cubicBezTo>
                  <a:pt x="5499" y="7176"/>
                  <a:pt x="5640" y="7173"/>
                  <a:pt x="5779" y="7193"/>
                </a:cubicBezTo>
                <a:cubicBezTo>
                  <a:pt x="5927" y="7214"/>
                  <a:pt x="6080" y="7219"/>
                  <a:pt x="6226" y="7243"/>
                </a:cubicBezTo>
                <a:cubicBezTo>
                  <a:pt x="6381" y="7268"/>
                  <a:pt x="6541" y="7285"/>
                  <a:pt x="6697" y="7293"/>
                </a:cubicBezTo>
                <a:cubicBezTo>
                  <a:pt x="6807" y="7299"/>
                  <a:pt x="6934" y="7274"/>
                  <a:pt x="6945" y="7268"/>
                </a:cubicBezTo>
                <a:cubicBezTo>
                  <a:pt x="6937" y="7268"/>
                  <a:pt x="6929" y="7268"/>
                  <a:pt x="6921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Ink 24"/>
          <p:cNvSpPr/>
          <p:nvPr/>
        </p:nvSpPr>
        <p:spPr>
          <a:xfrm>
            <a:off x="1303200" y="4653000"/>
            <a:ext cx="277920" cy="3650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3621" y="12948"/>
                </a:moveTo>
                <a:cubicBezTo>
                  <a:pt x="3685" y="12939"/>
                  <a:pt x="3724" y="12923"/>
                  <a:pt x="3795" y="12923"/>
                </a:cubicBezTo>
                <a:cubicBezTo>
                  <a:pt x="3855" y="12923"/>
                  <a:pt x="3955" y="12949"/>
                  <a:pt x="3994" y="12998"/>
                </a:cubicBezTo>
                <a:cubicBezTo>
                  <a:pt x="4033" y="13048"/>
                  <a:pt x="4083" y="13161"/>
                  <a:pt x="4093" y="13221"/>
                </a:cubicBezTo>
                <a:cubicBezTo>
                  <a:pt x="4104" y="13285"/>
                  <a:pt x="4091" y="13386"/>
                  <a:pt x="4068" y="13444"/>
                </a:cubicBezTo>
                <a:cubicBezTo>
                  <a:pt x="4048" y="13495"/>
                  <a:pt x="3996" y="13631"/>
                  <a:pt x="3944" y="13667"/>
                </a:cubicBezTo>
                <a:cubicBezTo>
                  <a:pt x="3882" y="13711"/>
                  <a:pt x="3783" y="13705"/>
                  <a:pt x="3721" y="13667"/>
                </a:cubicBezTo>
                <a:cubicBezTo>
                  <a:pt x="3655" y="13627"/>
                  <a:pt x="3713" y="13535"/>
                  <a:pt x="3746" y="13494"/>
                </a:cubicBezTo>
                <a:cubicBezTo>
                  <a:pt x="3795" y="13433"/>
                  <a:pt x="3844" y="13493"/>
                  <a:pt x="3894" y="13519"/>
                </a:cubicBezTo>
                <a:cubicBezTo>
                  <a:pt x="3966" y="13557"/>
                  <a:pt x="3972" y="13581"/>
                  <a:pt x="4018" y="13643"/>
                </a:cubicBezTo>
                <a:cubicBezTo>
                  <a:pt x="4065" y="13705"/>
                  <a:pt x="4148" y="13731"/>
                  <a:pt x="4192" y="13791"/>
                </a:cubicBezTo>
                <a:cubicBezTo>
                  <a:pt x="4234" y="13848"/>
                  <a:pt x="4278" y="13877"/>
                  <a:pt x="4341" y="13915"/>
                </a:cubicBezTo>
                <a:cubicBezTo>
                  <a:pt x="4357" y="13923"/>
                  <a:pt x="4374" y="13932"/>
                  <a:pt x="4390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Ink 25"/>
          <p:cNvSpPr/>
          <p:nvPr/>
        </p:nvSpPr>
        <p:spPr>
          <a:xfrm>
            <a:off x="4089240" y="1241280"/>
            <a:ext cx="2189160" cy="71640"/>
          </a:xfrm>
          <a:custGeom>
            <a:avLst/>
            <a:gdLst/>
            <a:ahLst/>
            <a:rect l="l" t="t" r="r" b="b"/>
            <a:pathLst>
              <a:path w="6078" h="199">
                <a:moveTo>
                  <a:pt x="11361" y="3497"/>
                </a:moveTo>
                <a:cubicBezTo>
                  <a:pt x="11429" y="3506"/>
                  <a:pt x="11487" y="3501"/>
                  <a:pt x="11559" y="3497"/>
                </a:cubicBezTo>
                <a:cubicBezTo>
                  <a:pt x="11749" y="3486"/>
                  <a:pt x="11938" y="3477"/>
                  <a:pt x="12129" y="3473"/>
                </a:cubicBezTo>
                <a:cubicBezTo>
                  <a:pt x="12289" y="3470"/>
                  <a:pt x="12444" y="3458"/>
                  <a:pt x="12601" y="3448"/>
                </a:cubicBezTo>
                <a:cubicBezTo>
                  <a:pt x="13449" y="3397"/>
                  <a:pt x="14308" y="3473"/>
                  <a:pt x="15156" y="3473"/>
                </a:cubicBezTo>
                <a:cubicBezTo>
                  <a:pt x="15406" y="3473"/>
                  <a:pt x="15651" y="3493"/>
                  <a:pt x="15900" y="3497"/>
                </a:cubicBezTo>
                <a:cubicBezTo>
                  <a:pt x="16116" y="3500"/>
                  <a:pt x="16332" y="3515"/>
                  <a:pt x="16545" y="3547"/>
                </a:cubicBezTo>
                <a:cubicBezTo>
                  <a:pt x="16734" y="3575"/>
                  <a:pt x="16925" y="3607"/>
                  <a:pt x="17115" y="3621"/>
                </a:cubicBezTo>
                <a:cubicBezTo>
                  <a:pt x="17231" y="3629"/>
                  <a:pt x="17333" y="3657"/>
                  <a:pt x="17438" y="3621"/>
                </a:cubicBezTo>
                <a:cubicBezTo>
                  <a:pt x="17430" y="3613"/>
                  <a:pt x="17421" y="3605"/>
                  <a:pt x="17413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Ink 26"/>
          <p:cNvSpPr/>
          <p:nvPr/>
        </p:nvSpPr>
        <p:spPr>
          <a:xfrm>
            <a:off x="4375080" y="2759040"/>
            <a:ext cx="1920960" cy="63360"/>
          </a:xfrm>
          <a:custGeom>
            <a:avLst/>
            <a:gdLst/>
            <a:ahLst/>
            <a:rect l="l" t="t" r="r" b="b"/>
            <a:pathLst>
              <a:path w="5334" h="174">
                <a:moveTo>
                  <a:pt x="12154" y="7665"/>
                </a:moveTo>
                <a:cubicBezTo>
                  <a:pt x="12380" y="7665"/>
                  <a:pt x="12602" y="7671"/>
                  <a:pt x="12824" y="7689"/>
                </a:cubicBezTo>
                <a:cubicBezTo>
                  <a:pt x="12987" y="7702"/>
                  <a:pt x="13157" y="7705"/>
                  <a:pt x="13320" y="7714"/>
                </a:cubicBezTo>
                <a:cubicBezTo>
                  <a:pt x="13502" y="7725"/>
                  <a:pt x="13685" y="7736"/>
                  <a:pt x="13866" y="7739"/>
                </a:cubicBezTo>
                <a:cubicBezTo>
                  <a:pt x="14122" y="7743"/>
                  <a:pt x="14380" y="7744"/>
                  <a:pt x="14635" y="7764"/>
                </a:cubicBezTo>
                <a:cubicBezTo>
                  <a:pt x="14849" y="7781"/>
                  <a:pt x="15067" y="7770"/>
                  <a:pt x="15280" y="7789"/>
                </a:cubicBezTo>
                <a:cubicBezTo>
                  <a:pt x="15488" y="7808"/>
                  <a:pt x="15690" y="7813"/>
                  <a:pt x="15900" y="7813"/>
                </a:cubicBezTo>
                <a:cubicBezTo>
                  <a:pt x="16082" y="7813"/>
                  <a:pt x="16263" y="7860"/>
                  <a:pt x="16446" y="7838"/>
                </a:cubicBezTo>
                <a:cubicBezTo>
                  <a:pt x="16587" y="7821"/>
                  <a:pt x="16726" y="7826"/>
                  <a:pt x="16867" y="7813"/>
                </a:cubicBezTo>
                <a:cubicBezTo>
                  <a:pt x="17004" y="7800"/>
                  <a:pt x="17157" y="7774"/>
                  <a:pt x="17289" y="7764"/>
                </a:cubicBezTo>
                <a:cubicBezTo>
                  <a:pt x="17373" y="7757"/>
                  <a:pt x="17419" y="7752"/>
                  <a:pt x="17487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0" name="Ink 2"/>
          <p:cNvSpPr/>
          <p:nvPr/>
        </p:nvSpPr>
        <p:spPr>
          <a:xfrm>
            <a:off x="973080" y="214200"/>
            <a:ext cx="1473120" cy="438120"/>
          </a:xfrm>
          <a:custGeom>
            <a:avLst/>
            <a:gdLst/>
            <a:ahLst/>
            <a:rect l="l" t="t" r="r" b="b"/>
            <a:pathLst>
              <a:path w="4093" h="1217">
                <a:moveTo>
                  <a:pt x="2977" y="1067"/>
                </a:moveTo>
                <a:cubicBezTo>
                  <a:pt x="2977" y="1222"/>
                  <a:pt x="2984" y="1367"/>
                  <a:pt x="3001" y="1513"/>
                </a:cubicBezTo>
                <a:cubicBezTo>
                  <a:pt x="3010" y="1588"/>
                  <a:pt x="3032" y="1677"/>
                  <a:pt x="3001" y="1662"/>
                </a:cubicBezTo>
              </a:path>
              <a:path w="4093" h="1217">
                <a:moveTo>
                  <a:pt x="2704" y="1240"/>
                </a:moveTo>
                <a:cubicBezTo>
                  <a:pt x="2780" y="1214"/>
                  <a:pt x="2845" y="1215"/>
                  <a:pt x="2927" y="1215"/>
                </a:cubicBezTo>
                <a:cubicBezTo>
                  <a:pt x="3025" y="1215"/>
                  <a:pt x="3109" y="1228"/>
                  <a:pt x="3200" y="1240"/>
                </a:cubicBezTo>
                <a:cubicBezTo>
                  <a:pt x="3225" y="1240"/>
                  <a:pt x="3249" y="1240"/>
                  <a:pt x="3274" y="1240"/>
                </a:cubicBezTo>
              </a:path>
              <a:path w="4093" h="1217">
                <a:moveTo>
                  <a:pt x="3894" y="1166"/>
                </a:moveTo>
                <a:cubicBezTo>
                  <a:pt x="3913" y="1077"/>
                  <a:pt x="3846" y="1093"/>
                  <a:pt x="3770" y="1067"/>
                </a:cubicBezTo>
                <a:cubicBezTo>
                  <a:pt x="3694" y="1041"/>
                  <a:pt x="3622" y="1022"/>
                  <a:pt x="3547" y="1067"/>
                </a:cubicBezTo>
                <a:cubicBezTo>
                  <a:pt x="3487" y="1103"/>
                  <a:pt x="3479" y="1230"/>
                  <a:pt x="3473" y="1290"/>
                </a:cubicBezTo>
                <a:cubicBezTo>
                  <a:pt x="3466" y="1354"/>
                  <a:pt x="3479" y="1474"/>
                  <a:pt x="3497" y="1538"/>
                </a:cubicBezTo>
                <a:cubicBezTo>
                  <a:pt x="3519" y="1619"/>
                  <a:pt x="3599" y="1657"/>
                  <a:pt x="3671" y="1612"/>
                </a:cubicBezTo>
                <a:cubicBezTo>
                  <a:pt x="3725" y="1579"/>
                  <a:pt x="3740" y="1495"/>
                  <a:pt x="3770" y="1439"/>
                </a:cubicBezTo>
                <a:cubicBezTo>
                  <a:pt x="3809" y="1365"/>
                  <a:pt x="3820" y="1323"/>
                  <a:pt x="3820" y="1240"/>
                </a:cubicBezTo>
                <a:cubicBezTo>
                  <a:pt x="3820" y="1196"/>
                  <a:pt x="3823" y="1182"/>
                  <a:pt x="3795" y="1166"/>
                </a:cubicBezTo>
                <a:cubicBezTo>
                  <a:pt x="3739" y="1147"/>
                  <a:pt x="3801" y="1319"/>
                  <a:pt x="3820" y="1389"/>
                </a:cubicBezTo>
                <a:cubicBezTo>
                  <a:pt x="3833" y="1438"/>
                  <a:pt x="3866" y="1527"/>
                  <a:pt x="3894" y="1563"/>
                </a:cubicBezTo>
                <a:cubicBezTo>
                  <a:pt x="3919" y="1588"/>
                  <a:pt x="3927" y="1596"/>
                  <a:pt x="3944" y="1563"/>
                </a:cubicBezTo>
              </a:path>
              <a:path w="4093" h="1217">
                <a:moveTo>
                  <a:pt x="4043" y="1166"/>
                </a:moveTo>
                <a:cubicBezTo>
                  <a:pt x="4068" y="1299"/>
                  <a:pt x="4084" y="1414"/>
                  <a:pt x="4118" y="1538"/>
                </a:cubicBezTo>
                <a:cubicBezTo>
                  <a:pt x="4107" y="1454"/>
                  <a:pt x="4080" y="1375"/>
                  <a:pt x="4068" y="1290"/>
                </a:cubicBezTo>
                <a:cubicBezTo>
                  <a:pt x="4057" y="1210"/>
                  <a:pt x="4074" y="1118"/>
                  <a:pt x="4093" y="1042"/>
                </a:cubicBezTo>
                <a:cubicBezTo>
                  <a:pt x="4114" y="958"/>
                  <a:pt x="4191" y="843"/>
                  <a:pt x="4291" y="918"/>
                </a:cubicBezTo>
                <a:cubicBezTo>
                  <a:pt x="4408" y="1005"/>
                  <a:pt x="4431" y="1146"/>
                  <a:pt x="4465" y="1265"/>
                </a:cubicBezTo>
                <a:cubicBezTo>
                  <a:pt x="4486" y="1341"/>
                  <a:pt x="4482" y="1442"/>
                  <a:pt x="4514" y="1513"/>
                </a:cubicBezTo>
                <a:cubicBezTo>
                  <a:pt x="4537" y="1536"/>
                  <a:pt x="4541" y="1544"/>
                  <a:pt x="4564" y="1538"/>
                </a:cubicBezTo>
              </a:path>
              <a:path w="4093" h="1217">
                <a:moveTo>
                  <a:pt x="5234" y="819"/>
                </a:moveTo>
                <a:cubicBezTo>
                  <a:pt x="5249" y="968"/>
                  <a:pt x="5262" y="1122"/>
                  <a:pt x="5283" y="1265"/>
                </a:cubicBezTo>
                <a:cubicBezTo>
                  <a:pt x="5293" y="1336"/>
                  <a:pt x="5283" y="1416"/>
                  <a:pt x="5283" y="1488"/>
                </a:cubicBezTo>
              </a:path>
              <a:path w="4093" h="1217">
                <a:moveTo>
                  <a:pt x="5705" y="893"/>
                </a:moveTo>
                <a:cubicBezTo>
                  <a:pt x="5724" y="743"/>
                  <a:pt x="5754" y="719"/>
                  <a:pt x="5705" y="645"/>
                </a:cubicBezTo>
                <a:cubicBezTo>
                  <a:pt x="5648" y="616"/>
                  <a:pt x="5627" y="646"/>
                  <a:pt x="5581" y="695"/>
                </a:cubicBezTo>
                <a:cubicBezTo>
                  <a:pt x="5540" y="739"/>
                  <a:pt x="5491" y="856"/>
                  <a:pt x="5482" y="918"/>
                </a:cubicBezTo>
                <a:cubicBezTo>
                  <a:pt x="5475" y="968"/>
                  <a:pt x="5483" y="1095"/>
                  <a:pt x="5556" y="1116"/>
                </a:cubicBezTo>
                <a:cubicBezTo>
                  <a:pt x="5594" y="1127"/>
                  <a:pt x="5668" y="1083"/>
                  <a:pt x="5680" y="1042"/>
                </a:cubicBezTo>
                <a:cubicBezTo>
                  <a:pt x="5693" y="998"/>
                  <a:pt x="5680" y="696"/>
                  <a:pt x="5680" y="819"/>
                </a:cubicBezTo>
                <a:cubicBezTo>
                  <a:pt x="5680" y="935"/>
                  <a:pt x="5719" y="1051"/>
                  <a:pt x="5730" y="1166"/>
                </a:cubicBezTo>
                <a:cubicBezTo>
                  <a:pt x="5738" y="1243"/>
                  <a:pt x="5751" y="1315"/>
                  <a:pt x="5755" y="1389"/>
                </a:cubicBezTo>
                <a:cubicBezTo>
                  <a:pt x="5755" y="1431"/>
                  <a:pt x="5755" y="1456"/>
                  <a:pt x="5755" y="1414"/>
                </a:cubicBezTo>
              </a:path>
              <a:path w="4093" h="1217">
                <a:moveTo>
                  <a:pt x="5978" y="645"/>
                </a:moveTo>
                <a:cubicBezTo>
                  <a:pt x="6054" y="645"/>
                  <a:pt x="6131" y="643"/>
                  <a:pt x="6201" y="620"/>
                </a:cubicBezTo>
                <a:cubicBezTo>
                  <a:pt x="6242" y="600"/>
                  <a:pt x="6248" y="591"/>
                  <a:pt x="6276" y="595"/>
                </a:cubicBezTo>
              </a:path>
              <a:path w="4093" h="1217">
                <a:moveTo>
                  <a:pt x="5904" y="744"/>
                </a:moveTo>
                <a:cubicBezTo>
                  <a:pt x="5887" y="792"/>
                  <a:pt x="5818" y="893"/>
                  <a:pt x="5904" y="918"/>
                </a:cubicBezTo>
                <a:cubicBezTo>
                  <a:pt x="5970" y="937"/>
                  <a:pt x="6030" y="865"/>
                  <a:pt x="6102" y="893"/>
                </a:cubicBezTo>
                <a:cubicBezTo>
                  <a:pt x="6180" y="923"/>
                  <a:pt x="6156" y="1013"/>
                  <a:pt x="6176" y="1067"/>
                </a:cubicBezTo>
                <a:cubicBezTo>
                  <a:pt x="6203" y="1139"/>
                  <a:pt x="6209" y="1188"/>
                  <a:pt x="6152" y="1265"/>
                </a:cubicBezTo>
                <a:cubicBezTo>
                  <a:pt x="6093" y="1344"/>
                  <a:pt x="6009" y="1298"/>
                  <a:pt x="5928" y="1290"/>
                </a:cubicBezTo>
              </a:path>
              <a:path w="4093" h="1217">
                <a:moveTo>
                  <a:pt x="4762" y="1042"/>
                </a:moveTo>
                <a:cubicBezTo>
                  <a:pt x="4734" y="1286"/>
                  <a:pt x="4694" y="1418"/>
                  <a:pt x="4787" y="1637"/>
                </a:cubicBezTo>
                <a:cubicBezTo>
                  <a:pt x="4831" y="1740"/>
                  <a:pt x="4873" y="1805"/>
                  <a:pt x="4986" y="1811"/>
                </a:cubicBezTo>
                <a:cubicBezTo>
                  <a:pt x="5045" y="1811"/>
                  <a:pt x="5071" y="1808"/>
                  <a:pt x="5110" y="1786"/>
                </a:cubicBezTo>
              </a:path>
              <a:path w="4093" h="1217">
                <a:moveTo>
                  <a:pt x="6796" y="819"/>
                </a:moveTo>
                <a:cubicBezTo>
                  <a:pt x="6760" y="1097"/>
                  <a:pt x="6741" y="1201"/>
                  <a:pt x="6573" y="1439"/>
                </a:cubicBezTo>
                <a:cubicBezTo>
                  <a:pt x="6522" y="1490"/>
                  <a:pt x="6504" y="1510"/>
                  <a:pt x="6499" y="15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nk 3"/>
          <p:cNvSpPr/>
          <p:nvPr/>
        </p:nvSpPr>
        <p:spPr>
          <a:xfrm>
            <a:off x="187200" y="768240"/>
            <a:ext cx="3054600" cy="588960"/>
          </a:xfrm>
          <a:custGeom>
            <a:avLst/>
            <a:gdLst/>
            <a:ahLst/>
            <a:rect l="l" t="t" r="r" b="b"/>
            <a:pathLst>
              <a:path w="8484" h="1638">
                <a:moveTo>
                  <a:pt x="1017" y="2778"/>
                </a:moveTo>
                <a:cubicBezTo>
                  <a:pt x="1017" y="2890"/>
                  <a:pt x="1031" y="2988"/>
                  <a:pt x="1042" y="3101"/>
                </a:cubicBezTo>
                <a:cubicBezTo>
                  <a:pt x="1053" y="3213"/>
                  <a:pt x="1017" y="3622"/>
                  <a:pt x="1017" y="3621"/>
                </a:cubicBezTo>
                <a:cubicBezTo>
                  <a:pt x="1017" y="3613"/>
                  <a:pt x="1017" y="3605"/>
                  <a:pt x="1017" y="3597"/>
                </a:cubicBezTo>
              </a:path>
              <a:path w="8484" h="1638">
                <a:moveTo>
                  <a:pt x="1091" y="2977"/>
                </a:moveTo>
                <a:cubicBezTo>
                  <a:pt x="1116" y="2897"/>
                  <a:pt x="1149" y="2791"/>
                  <a:pt x="1215" y="2729"/>
                </a:cubicBezTo>
                <a:cubicBezTo>
                  <a:pt x="1252" y="2694"/>
                  <a:pt x="1360" y="2715"/>
                  <a:pt x="1389" y="2753"/>
                </a:cubicBezTo>
                <a:cubicBezTo>
                  <a:pt x="1422" y="2795"/>
                  <a:pt x="1429" y="2900"/>
                  <a:pt x="1414" y="2952"/>
                </a:cubicBezTo>
                <a:cubicBezTo>
                  <a:pt x="1396" y="3016"/>
                  <a:pt x="1386" y="3054"/>
                  <a:pt x="1339" y="3101"/>
                </a:cubicBezTo>
                <a:cubicBezTo>
                  <a:pt x="1315" y="3125"/>
                  <a:pt x="1306" y="3134"/>
                  <a:pt x="1290" y="3150"/>
                </a:cubicBezTo>
                <a:cubicBezTo>
                  <a:pt x="1345" y="3116"/>
                  <a:pt x="1401" y="3112"/>
                  <a:pt x="1463" y="3150"/>
                </a:cubicBezTo>
                <a:cubicBezTo>
                  <a:pt x="1519" y="3184"/>
                  <a:pt x="1573" y="3314"/>
                  <a:pt x="1563" y="3373"/>
                </a:cubicBezTo>
                <a:cubicBezTo>
                  <a:pt x="1553" y="3438"/>
                  <a:pt x="1481" y="3481"/>
                  <a:pt x="1414" y="3497"/>
                </a:cubicBezTo>
                <a:cubicBezTo>
                  <a:pt x="1316" y="3520"/>
                  <a:pt x="1219" y="3547"/>
                  <a:pt x="1116" y="3547"/>
                </a:cubicBezTo>
              </a:path>
              <a:path w="8484" h="1638">
                <a:moveTo>
                  <a:pt x="1488" y="2704"/>
                </a:moveTo>
                <a:cubicBezTo>
                  <a:pt x="1416" y="2604"/>
                  <a:pt x="1376" y="2580"/>
                  <a:pt x="1265" y="2530"/>
                </a:cubicBezTo>
              </a:path>
              <a:path w="8484" h="1638">
                <a:moveTo>
                  <a:pt x="645" y="2927"/>
                </a:moveTo>
                <a:cubicBezTo>
                  <a:pt x="604" y="3035"/>
                  <a:pt x="462" y="3291"/>
                  <a:pt x="521" y="3448"/>
                </a:cubicBezTo>
                <a:cubicBezTo>
                  <a:pt x="541" y="3503"/>
                  <a:pt x="637" y="3668"/>
                  <a:pt x="695" y="3696"/>
                </a:cubicBezTo>
                <a:cubicBezTo>
                  <a:pt x="780" y="3737"/>
                  <a:pt x="923" y="3782"/>
                  <a:pt x="1017" y="3770"/>
                </a:cubicBezTo>
                <a:cubicBezTo>
                  <a:pt x="1131" y="3755"/>
                  <a:pt x="1239" y="3731"/>
                  <a:pt x="1339" y="3671"/>
                </a:cubicBezTo>
                <a:cubicBezTo>
                  <a:pt x="1479" y="3588"/>
                  <a:pt x="1583" y="3500"/>
                  <a:pt x="1662" y="3373"/>
                </a:cubicBezTo>
                <a:cubicBezTo>
                  <a:pt x="1733" y="3258"/>
                  <a:pt x="1802" y="3138"/>
                  <a:pt x="1736" y="3001"/>
                </a:cubicBezTo>
                <a:cubicBezTo>
                  <a:pt x="1707" y="2940"/>
                  <a:pt x="1617" y="2813"/>
                  <a:pt x="1563" y="2778"/>
                </a:cubicBezTo>
                <a:cubicBezTo>
                  <a:pt x="1464" y="2715"/>
                  <a:pt x="1390" y="2738"/>
                  <a:pt x="1290" y="2778"/>
                </a:cubicBezTo>
              </a:path>
              <a:path w="8484" h="1638">
                <a:moveTo>
                  <a:pt x="2505" y="2356"/>
                </a:moveTo>
                <a:cubicBezTo>
                  <a:pt x="2538" y="2454"/>
                  <a:pt x="2530" y="2548"/>
                  <a:pt x="2530" y="2654"/>
                </a:cubicBezTo>
                <a:cubicBezTo>
                  <a:pt x="2530" y="2856"/>
                  <a:pt x="2528" y="3053"/>
                  <a:pt x="2555" y="3249"/>
                </a:cubicBezTo>
                <a:cubicBezTo>
                  <a:pt x="2565" y="3323"/>
                  <a:pt x="2555" y="3348"/>
                  <a:pt x="2555" y="3423"/>
                </a:cubicBezTo>
              </a:path>
              <a:path w="8484" h="1638">
                <a:moveTo>
                  <a:pt x="2208" y="3001"/>
                </a:moveTo>
                <a:cubicBezTo>
                  <a:pt x="2316" y="2938"/>
                  <a:pt x="2450" y="2912"/>
                  <a:pt x="2580" y="2902"/>
                </a:cubicBezTo>
                <a:cubicBezTo>
                  <a:pt x="2736" y="2890"/>
                  <a:pt x="2898" y="2889"/>
                  <a:pt x="3051" y="2877"/>
                </a:cubicBezTo>
                <a:cubicBezTo>
                  <a:pt x="3151" y="2869"/>
                  <a:pt x="3230" y="2864"/>
                  <a:pt x="3324" y="2853"/>
                </a:cubicBezTo>
                <a:cubicBezTo>
                  <a:pt x="3232" y="2861"/>
                  <a:pt x="3184" y="2885"/>
                  <a:pt x="3101" y="2927"/>
                </a:cubicBezTo>
                <a:cubicBezTo>
                  <a:pt x="3011" y="2972"/>
                  <a:pt x="2953" y="3016"/>
                  <a:pt x="2902" y="3101"/>
                </a:cubicBezTo>
                <a:cubicBezTo>
                  <a:pt x="2839" y="3205"/>
                  <a:pt x="2768" y="3255"/>
                  <a:pt x="2853" y="3349"/>
                </a:cubicBezTo>
                <a:cubicBezTo>
                  <a:pt x="2883" y="3382"/>
                  <a:pt x="2953" y="3434"/>
                  <a:pt x="3001" y="3398"/>
                </a:cubicBezTo>
                <a:cubicBezTo>
                  <a:pt x="3034" y="3373"/>
                  <a:pt x="3123" y="3311"/>
                  <a:pt x="3150" y="3274"/>
                </a:cubicBezTo>
                <a:cubicBezTo>
                  <a:pt x="3189" y="3220"/>
                  <a:pt x="3197" y="3116"/>
                  <a:pt x="3200" y="3051"/>
                </a:cubicBezTo>
                <a:cubicBezTo>
                  <a:pt x="3200" y="3034"/>
                  <a:pt x="3200" y="3018"/>
                  <a:pt x="3200" y="3001"/>
                </a:cubicBezTo>
                <a:cubicBezTo>
                  <a:pt x="3166" y="3091"/>
                  <a:pt x="3173" y="3161"/>
                  <a:pt x="3225" y="3249"/>
                </a:cubicBezTo>
                <a:cubicBezTo>
                  <a:pt x="3250" y="3292"/>
                  <a:pt x="3323" y="3352"/>
                  <a:pt x="3373" y="3349"/>
                </a:cubicBezTo>
                <a:cubicBezTo>
                  <a:pt x="3414" y="3346"/>
                  <a:pt x="3464" y="3299"/>
                  <a:pt x="3497" y="3274"/>
                </a:cubicBezTo>
              </a:path>
              <a:path w="8484" h="1638">
                <a:moveTo>
                  <a:pt x="3522" y="2952"/>
                </a:moveTo>
                <a:cubicBezTo>
                  <a:pt x="3522" y="3071"/>
                  <a:pt x="3489" y="3252"/>
                  <a:pt x="3547" y="3349"/>
                </a:cubicBezTo>
                <a:cubicBezTo>
                  <a:pt x="3547" y="3477"/>
                  <a:pt x="3527" y="3230"/>
                  <a:pt x="3522" y="3200"/>
                </a:cubicBezTo>
                <a:cubicBezTo>
                  <a:pt x="3510" y="3122"/>
                  <a:pt x="3511" y="3020"/>
                  <a:pt x="3547" y="2952"/>
                </a:cubicBezTo>
                <a:cubicBezTo>
                  <a:pt x="3570" y="2910"/>
                  <a:pt x="3652" y="2859"/>
                  <a:pt x="3696" y="2853"/>
                </a:cubicBezTo>
                <a:cubicBezTo>
                  <a:pt x="3797" y="2839"/>
                  <a:pt x="3899" y="2899"/>
                  <a:pt x="3919" y="3001"/>
                </a:cubicBezTo>
                <a:cubicBezTo>
                  <a:pt x="3937" y="3092"/>
                  <a:pt x="3944" y="3179"/>
                  <a:pt x="3944" y="3274"/>
                </a:cubicBezTo>
                <a:cubicBezTo>
                  <a:pt x="3944" y="3303"/>
                  <a:pt x="3937" y="3436"/>
                  <a:pt x="3969" y="3373"/>
                </a:cubicBezTo>
              </a:path>
              <a:path w="8484" h="1638">
                <a:moveTo>
                  <a:pt x="4415" y="2332"/>
                </a:moveTo>
                <a:cubicBezTo>
                  <a:pt x="4374" y="2413"/>
                  <a:pt x="4321" y="2505"/>
                  <a:pt x="4291" y="2580"/>
                </a:cubicBezTo>
                <a:cubicBezTo>
                  <a:pt x="4243" y="2699"/>
                  <a:pt x="4209" y="2835"/>
                  <a:pt x="4167" y="2952"/>
                </a:cubicBezTo>
                <a:cubicBezTo>
                  <a:pt x="4125" y="3069"/>
                  <a:pt x="4131" y="3225"/>
                  <a:pt x="4217" y="3324"/>
                </a:cubicBezTo>
                <a:cubicBezTo>
                  <a:pt x="4265" y="3379"/>
                  <a:pt x="4335" y="3433"/>
                  <a:pt x="4415" y="3448"/>
                </a:cubicBezTo>
                <a:cubicBezTo>
                  <a:pt x="4432" y="3448"/>
                  <a:pt x="4448" y="3448"/>
                  <a:pt x="4465" y="3448"/>
                </a:cubicBezTo>
              </a:path>
              <a:path w="8484" h="1638">
                <a:moveTo>
                  <a:pt x="4812" y="2480"/>
                </a:moveTo>
                <a:cubicBezTo>
                  <a:pt x="4820" y="2394"/>
                  <a:pt x="4816" y="2318"/>
                  <a:pt x="4911" y="2307"/>
                </a:cubicBezTo>
                <a:cubicBezTo>
                  <a:pt x="4989" y="2298"/>
                  <a:pt x="5096" y="2366"/>
                  <a:pt x="5135" y="2431"/>
                </a:cubicBezTo>
                <a:cubicBezTo>
                  <a:pt x="5187" y="2517"/>
                  <a:pt x="5205" y="2632"/>
                  <a:pt x="5209" y="2729"/>
                </a:cubicBezTo>
                <a:cubicBezTo>
                  <a:pt x="5214" y="2837"/>
                  <a:pt x="5193" y="2902"/>
                  <a:pt x="5159" y="3001"/>
                </a:cubicBezTo>
                <a:cubicBezTo>
                  <a:pt x="5124" y="3103"/>
                  <a:pt x="5039" y="3130"/>
                  <a:pt x="4986" y="3225"/>
                </a:cubicBezTo>
                <a:cubicBezTo>
                  <a:pt x="4961" y="3270"/>
                  <a:pt x="4875" y="3318"/>
                  <a:pt x="4812" y="3299"/>
                </a:cubicBezTo>
                <a:cubicBezTo>
                  <a:pt x="4748" y="3279"/>
                  <a:pt x="4740" y="3198"/>
                  <a:pt x="4738" y="3150"/>
                </a:cubicBezTo>
                <a:cubicBezTo>
                  <a:pt x="4736" y="3100"/>
                  <a:pt x="4760" y="3021"/>
                  <a:pt x="4787" y="2977"/>
                </a:cubicBezTo>
                <a:cubicBezTo>
                  <a:pt x="4829" y="2910"/>
                  <a:pt x="4909" y="2925"/>
                  <a:pt x="4961" y="2977"/>
                </a:cubicBezTo>
                <a:cubicBezTo>
                  <a:pt x="5026" y="3041"/>
                  <a:pt x="5011" y="3145"/>
                  <a:pt x="5011" y="3225"/>
                </a:cubicBezTo>
                <a:cubicBezTo>
                  <a:pt x="5011" y="3266"/>
                  <a:pt x="5011" y="3340"/>
                  <a:pt x="5011" y="3299"/>
                </a:cubicBezTo>
              </a:path>
              <a:path w="8484" h="1638">
                <a:moveTo>
                  <a:pt x="5407" y="2480"/>
                </a:moveTo>
                <a:cubicBezTo>
                  <a:pt x="5442" y="2412"/>
                  <a:pt x="5457" y="2362"/>
                  <a:pt x="5531" y="2332"/>
                </a:cubicBezTo>
                <a:cubicBezTo>
                  <a:pt x="5633" y="2291"/>
                  <a:pt x="5667" y="2338"/>
                  <a:pt x="5705" y="2431"/>
                </a:cubicBezTo>
                <a:cubicBezTo>
                  <a:pt x="5749" y="2541"/>
                  <a:pt x="5753" y="2614"/>
                  <a:pt x="5730" y="2729"/>
                </a:cubicBezTo>
                <a:cubicBezTo>
                  <a:pt x="5706" y="2847"/>
                  <a:pt x="5659" y="2944"/>
                  <a:pt x="5606" y="3051"/>
                </a:cubicBezTo>
                <a:cubicBezTo>
                  <a:pt x="5569" y="3125"/>
                  <a:pt x="5520" y="3151"/>
                  <a:pt x="5457" y="3200"/>
                </a:cubicBezTo>
                <a:cubicBezTo>
                  <a:pt x="5394" y="3248"/>
                  <a:pt x="5347" y="3190"/>
                  <a:pt x="5333" y="3125"/>
                </a:cubicBezTo>
                <a:cubicBezTo>
                  <a:pt x="5320" y="3062"/>
                  <a:pt x="5361" y="2984"/>
                  <a:pt x="5432" y="3001"/>
                </a:cubicBezTo>
                <a:cubicBezTo>
                  <a:pt x="5472" y="3011"/>
                  <a:pt x="5565" y="3082"/>
                  <a:pt x="5581" y="3125"/>
                </a:cubicBezTo>
                <a:cubicBezTo>
                  <a:pt x="5596" y="3165"/>
                  <a:pt x="5620" y="3306"/>
                  <a:pt x="5705" y="3299"/>
                </a:cubicBezTo>
                <a:cubicBezTo>
                  <a:pt x="5713" y="3291"/>
                  <a:pt x="5722" y="3282"/>
                  <a:pt x="5730" y="3274"/>
                </a:cubicBezTo>
              </a:path>
              <a:path w="8484" h="1638">
                <a:moveTo>
                  <a:pt x="6276" y="2332"/>
                </a:moveTo>
                <a:cubicBezTo>
                  <a:pt x="6410" y="2332"/>
                  <a:pt x="6521" y="2314"/>
                  <a:pt x="6648" y="2307"/>
                </a:cubicBezTo>
                <a:cubicBezTo>
                  <a:pt x="6692" y="2307"/>
                  <a:pt x="6706" y="2310"/>
                  <a:pt x="6722" y="2282"/>
                </a:cubicBezTo>
              </a:path>
              <a:path w="8484" h="1638">
                <a:moveTo>
                  <a:pt x="6127" y="2381"/>
                </a:moveTo>
                <a:cubicBezTo>
                  <a:pt x="6087" y="2478"/>
                  <a:pt x="6033" y="2555"/>
                  <a:pt x="6028" y="2654"/>
                </a:cubicBezTo>
                <a:cubicBezTo>
                  <a:pt x="6025" y="2725"/>
                  <a:pt x="6059" y="2768"/>
                  <a:pt x="6127" y="2729"/>
                </a:cubicBezTo>
                <a:cubicBezTo>
                  <a:pt x="6206" y="2683"/>
                  <a:pt x="6180" y="2668"/>
                  <a:pt x="6276" y="2679"/>
                </a:cubicBezTo>
                <a:cubicBezTo>
                  <a:pt x="6332" y="2685"/>
                  <a:pt x="6400" y="2715"/>
                  <a:pt x="6449" y="2753"/>
                </a:cubicBezTo>
                <a:cubicBezTo>
                  <a:pt x="6531" y="2816"/>
                  <a:pt x="6543" y="2929"/>
                  <a:pt x="6548" y="3026"/>
                </a:cubicBezTo>
                <a:cubicBezTo>
                  <a:pt x="6551" y="3085"/>
                  <a:pt x="6514" y="3132"/>
                  <a:pt x="6474" y="3175"/>
                </a:cubicBezTo>
                <a:cubicBezTo>
                  <a:pt x="6408" y="3246"/>
                  <a:pt x="6358" y="3247"/>
                  <a:pt x="6276" y="3274"/>
                </a:cubicBezTo>
                <a:cubicBezTo>
                  <a:pt x="6193" y="3302"/>
                  <a:pt x="6173" y="3306"/>
                  <a:pt x="6102" y="3249"/>
                </a:cubicBezTo>
              </a:path>
              <a:path w="8484" h="1638">
                <a:moveTo>
                  <a:pt x="6796" y="2803"/>
                </a:moveTo>
                <a:cubicBezTo>
                  <a:pt x="6886" y="2797"/>
                  <a:pt x="6955" y="2778"/>
                  <a:pt x="7045" y="2778"/>
                </a:cubicBezTo>
                <a:cubicBezTo>
                  <a:pt x="7053" y="2778"/>
                  <a:pt x="7061" y="2778"/>
                  <a:pt x="7069" y="2778"/>
                </a:cubicBezTo>
              </a:path>
              <a:path w="8484" h="1638">
                <a:moveTo>
                  <a:pt x="7317" y="2431"/>
                </a:moveTo>
                <a:cubicBezTo>
                  <a:pt x="7347" y="2408"/>
                  <a:pt x="7463" y="2292"/>
                  <a:pt x="7516" y="2282"/>
                </a:cubicBezTo>
                <a:cubicBezTo>
                  <a:pt x="7610" y="2265"/>
                  <a:pt x="7681" y="2308"/>
                  <a:pt x="7665" y="2406"/>
                </a:cubicBezTo>
                <a:cubicBezTo>
                  <a:pt x="7652" y="2484"/>
                  <a:pt x="7624" y="2598"/>
                  <a:pt x="7565" y="2654"/>
                </a:cubicBezTo>
                <a:cubicBezTo>
                  <a:pt x="7527" y="2690"/>
                  <a:pt x="7488" y="2748"/>
                  <a:pt x="7441" y="2778"/>
                </a:cubicBezTo>
                <a:cubicBezTo>
                  <a:pt x="7425" y="2786"/>
                  <a:pt x="7408" y="2795"/>
                  <a:pt x="7392" y="2803"/>
                </a:cubicBezTo>
                <a:cubicBezTo>
                  <a:pt x="7467" y="2727"/>
                  <a:pt x="7487" y="2720"/>
                  <a:pt x="7590" y="2778"/>
                </a:cubicBezTo>
                <a:cubicBezTo>
                  <a:pt x="7653" y="2813"/>
                  <a:pt x="7640" y="2894"/>
                  <a:pt x="7640" y="2952"/>
                </a:cubicBezTo>
                <a:cubicBezTo>
                  <a:pt x="7640" y="3034"/>
                  <a:pt x="7631" y="3058"/>
                  <a:pt x="7590" y="3125"/>
                </a:cubicBezTo>
                <a:cubicBezTo>
                  <a:pt x="7546" y="3198"/>
                  <a:pt x="7496" y="3242"/>
                  <a:pt x="7417" y="3274"/>
                </a:cubicBezTo>
                <a:cubicBezTo>
                  <a:pt x="7358" y="3298"/>
                  <a:pt x="7278" y="3325"/>
                  <a:pt x="7243" y="3249"/>
                </a:cubicBezTo>
                <a:cubicBezTo>
                  <a:pt x="7243" y="3241"/>
                  <a:pt x="7243" y="3233"/>
                  <a:pt x="7243" y="3225"/>
                </a:cubicBezTo>
              </a:path>
              <a:path w="8484" h="1638">
                <a:moveTo>
                  <a:pt x="7863" y="2530"/>
                </a:moveTo>
                <a:cubicBezTo>
                  <a:pt x="7863" y="2618"/>
                  <a:pt x="7846" y="2697"/>
                  <a:pt x="7838" y="2778"/>
                </a:cubicBezTo>
                <a:cubicBezTo>
                  <a:pt x="7826" y="2888"/>
                  <a:pt x="7813" y="2987"/>
                  <a:pt x="7813" y="3101"/>
                </a:cubicBezTo>
                <a:cubicBezTo>
                  <a:pt x="7813" y="3187"/>
                  <a:pt x="7812" y="3251"/>
                  <a:pt x="7863" y="3324"/>
                </a:cubicBezTo>
                <a:cubicBezTo>
                  <a:pt x="7893" y="3367"/>
                  <a:pt x="7982" y="3364"/>
                  <a:pt x="8012" y="3324"/>
                </a:cubicBezTo>
                <a:cubicBezTo>
                  <a:pt x="8059" y="3263"/>
                  <a:pt x="8082" y="3202"/>
                  <a:pt x="8086" y="3125"/>
                </a:cubicBezTo>
                <a:cubicBezTo>
                  <a:pt x="8092" y="3013"/>
                  <a:pt x="8102" y="2884"/>
                  <a:pt x="8062" y="2778"/>
                </a:cubicBezTo>
                <a:cubicBezTo>
                  <a:pt x="8036" y="2711"/>
                  <a:pt x="7971" y="2666"/>
                  <a:pt x="7913" y="2629"/>
                </a:cubicBezTo>
                <a:cubicBezTo>
                  <a:pt x="7865" y="2605"/>
                  <a:pt x="7848" y="2599"/>
                  <a:pt x="7863" y="2555"/>
                </a:cubicBezTo>
              </a:path>
              <a:path w="8484" h="1638">
                <a:moveTo>
                  <a:pt x="8037" y="2133"/>
                </a:moveTo>
                <a:cubicBezTo>
                  <a:pt x="8151" y="2184"/>
                  <a:pt x="8179" y="2213"/>
                  <a:pt x="8260" y="2307"/>
                </a:cubicBezTo>
                <a:cubicBezTo>
                  <a:pt x="8361" y="2424"/>
                  <a:pt x="8414" y="2536"/>
                  <a:pt x="8458" y="2679"/>
                </a:cubicBezTo>
                <a:cubicBezTo>
                  <a:pt x="8487" y="2773"/>
                  <a:pt x="8505" y="2863"/>
                  <a:pt x="8483" y="2952"/>
                </a:cubicBezTo>
                <a:cubicBezTo>
                  <a:pt x="8454" y="3073"/>
                  <a:pt x="8415" y="3152"/>
                  <a:pt x="8334" y="3249"/>
                </a:cubicBezTo>
                <a:cubicBezTo>
                  <a:pt x="8289" y="3303"/>
                  <a:pt x="8213" y="3323"/>
                  <a:pt x="8210" y="3324"/>
                </a:cubicBezTo>
              </a:path>
              <a:path w="8484" h="1638">
                <a:moveTo>
                  <a:pt x="8657" y="2902"/>
                </a:moveTo>
                <a:cubicBezTo>
                  <a:pt x="8755" y="2902"/>
                  <a:pt x="8845" y="2901"/>
                  <a:pt x="8930" y="2877"/>
                </a:cubicBezTo>
                <a:cubicBezTo>
                  <a:pt x="8938" y="2877"/>
                  <a:pt x="8946" y="2877"/>
                  <a:pt x="8954" y="2877"/>
                </a:cubicBezTo>
              </a:path>
              <a:path w="8484" h="1638">
                <a:moveTo>
                  <a:pt x="8781" y="3101"/>
                </a:moveTo>
                <a:cubicBezTo>
                  <a:pt x="8855" y="3137"/>
                  <a:pt x="8880" y="3105"/>
                  <a:pt x="8954" y="3101"/>
                </a:cubicBezTo>
                <a:cubicBezTo>
                  <a:pt x="8996" y="3101"/>
                  <a:pt x="9012" y="3109"/>
                  <a:pt x="9004" y="30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Ink 4"/>
          <p:cNvSpPr/>
          <p:nvPr/>
        </p:nvSpPr>
        <p:spPr>
          <a:xfrm>
            <a:off x="3483000" y="839880"/>
            <a:ext cx="1320840" cy="339480"/>
          </a:xfrm>
          <a:custGeom>
            <a:avLst/>
            <a:gdLst/>
            <a:ahLst/>
            <a:rect l="l" t="t" r="r" b="b"/>
            <a:pathLst>
              <a:path w="3672" h="943">
                <a:moveTo>
                  <a:pt x="9897" y="2505"/>
                </a:moveTo>
                <a:cubicBezTo>
                  <a:pt x="9897" y="2666"/>
                  <a:pt x="9975" y="3142"/>
                  <a:pt x="9922" y="3274"/>
                </a:cubicBezTo>
                <a:cubicBezTo>
                  <a:pt x="9914" y="3274"/>
                  <a:pt x="9905" y="3274"/>
                  <a:pt x="9897" y="3274"/>
                </a:cubicBezTo>
              </a:path>
              <a:path w="3672" h="943">
                <a:moveTo>
                  <a:pt x="9674" y="2753"/>
                </a:moveTo>
                <a:cubicBezTo>
                  <a:pt x="9757" y="2723"/>
                  <a:pt x="9832" y="2729"/>
                  <a:pt x="9922" y="2729"/>
                </a:cubicBezTo>
                <a:cubicBezTo>
                  <a:pt x="9995" y="2729"/>
                  <a:pt x="10061" y="2718"/>
                  <a:pt x="10120" y="2753"/>
                </a:cubicBezTo>
              </a:path>
              <a:path w="3672" h="943">
                <a:moveTo>
                  <a:pt x="10542" y="2877"/>
                </a:moveTo>
                <a:cubicBezTo>
                  <a:pt x="10513" y="2827"/>
                  <a:pt x="10484" y="2794"/>
                  <a:pt x="10443" y="2753"/>
                </a:cubicBezTo>
                <a:cubicBezTo>
                  <a:pt x="10423" y="2733"/>
                  <a:pt x="10292" y="2702"/>
                  <a:pt x="10269" y="2729"/>
                </a:cubicBezTo>
                <a:cubicBezTo>
                  <a:pt x="10212" y="2794"/>
                  <a:pt x="10138" y="2957"/>
                  <a:pt x="10120" y="3051"/>
                </a:cubicBezTo>
                <a:cubicBezTo>
                  <a:pt x="10108" y="3114"/>
                  <a:pt x="10117" y="3204"/>
                  <a:pt x="10170" y="3249"/>
                </a:cubicBezTo>
                <a:cubicBezTo>
                  <a:pt x="10187" y="3257"/>
                  <a:pt x="10203" y="3266"/>
                  <a:pt x="10220" y="3274"/>
                </a:cubicBezTo>
                <a:cubicBezTo>
                  <a:pt x="10285" y="3227"/>
                  <a:pt x="10326" y="3160"/>
                  <a:pt x="10344" y="3076"/>
                </a:cubicBezTo>
                <a:cubicBezTo>
                  <a:pt x="10356" y="3018"/>
                  <a:pt x="10347" y="2985"/>
                  <a:pt x="10368" y="2927"/>
                </a:cubicBezTo>
                <a:cubicBezTo>
                  <a:pt x="10389" y="3002"/>
                  <a:pt x="10427" y="3077"/>
                  <a:pt x="10443" y="3150"/>
                </a:cubicBezTo>
                <a:cubicBezTo>
                  <a:pt x="10460" y="3225"/>
                  <a:pt x="10514" y="3257"/>
                  <a:pt x="10592" y="3200"/>
                </a:cubicBezTo>
                <a:cubicBezTo>
                  <a:pt x="10630" y="3161"/>
                  <a:pt x="10647" y="3159"/>
                  <a:pt x="10641" y="3125"/>
                </a:cubicBezTo>
              </a:path>
              <a:path w="3672" h="943">
                <a:moveTo>
                  <a:pt x="10666" y="2828"/>
                </a:moveTo>
                <a:cubicBezTo>
                  <a:pt x="10666" y="2916"/>
                  <a:pt x="10682" y="2992"/>
                  <a:pt x="10691" y="3076"/>
                </a:cubicBezTo>
                <a:cubicBezTo>
                  <a:pt x="10700" y="3154"/>
                  <a:pt x="10677" y="3210"/>
                  <a:pt x="10716" y="3274"/>
                </a:cubicBezTo>
                <a:cubicBezTo>
                  <a:pt x="10706" y="3187"/>
                  <a:pt x="10670" y="3091"/>
                  <a:pt x="10691" y="3001"/>
                </a:cubicBezTo>
                <a:cubicBezTo>
                  <a:pt x="10708" y="2927"/>
                  <a:pt x="10777" y="2865"/>
                  <a:pt x="10815" y="2803"/>
                </a:cubicBezTo>
                <a:cubicBezTo>
                  <a:pt x="10857" y="2733"/>
                  <a:pt x="10879" y="2701"/>
                  <a:pt x="10964" y="2753"/>
                </a:cubicBezTo>
                <a:cubicBezTo>
                  <a:pt x="11015" y="2785"/>
                  <a:pt x="11036" y="2897"/>
                  <a:pt x="11038" y="2952"/>
                </a:cubicBezTo>
                <a:cubicBezTo>
                  <a:pt x="11041" y="3027"/>
                  <a:pt x="11051" y="3088"/>
                  <a:pt x="11063" y="3150"/>
                </a:cubicBezTo>
                <a:cubicBezTo>
                  <a:pt x="11064" y="3157"/>
                  <a:pt x="11063" y="3341"/>
                  <a:pt x="11063" y="3249"/>
                </a:cubicBezTo>
              </a:path>
              <a:path w="3672" h="943">
                <a:moveTo>
                  <a:pt x="11237" y="2555"/>
                </a:moveTo>
                <a:cubicBezTo>
                  <a:pt x="11267" y="2523"/>
                  <a:pt x="11375" y="2368"/>
                  <a:pt x="11435" y="2356"/>
                </a:cubicBezTo>
                <a:cubicBezTo>
                  <a:pt x="11539" y="2335"/>
                  <a:pt x="11578" y="2356"/>
                  <a:pt x="11584" y="2456"/>
                </a:cubicBezTo>
                <a:cubicBezTo>
                  <a:pt x="11588" y="2529"/>
                  <a:pt x="11582" y="2639"/>
                  <a:pt x="11559" y="2704"/>
                </a:cubicBezTo>
                <a:cubicBezTo>
                  <a:pt x="11526" y="2797"/>
                  <a:pt x="11458" y="2888"/>
                  <a:pt x="11410" y="2977"/>
                </a:cubicBezTo>
                <a:cubicBezTo>
                  <a:pt x="11379" y="3036"/>
                  <a:pt x="11351" y="3097"/>
                  <a:pt x="11311" y="3150"/>
                </a:cubicBezTo>
                <a:cubicBezTo>
                  <a:pt x="11267" y="3209"/>
                  <a:pt x="11258" y="3228"/>
                  <a:pt x="11286" y="3225"/>
                </a:cubicBezTo>
                <a:cubicBezTo>
                  <a:pt x="11427" y="3209"/>
                  <a:pt x="11573" y="3252"/>
                  <a:pt x="11708" y="3200"/>
                </a:cubicBezTo>
                <a:cubicBezTo>
                  <a:pt x="11724" y="3192"/>
                  <a:pt x="11741" y="3183"/>
                  <a:pt x="11757" y="3175"/>
                </a:cubicBezTo>
              </a:path>
              <a:path w="3672" h="943">
                <a:moveTo>
                  <a:pt x="11782" y="2530"/>
                </a:moveTo>
                <a:cubicBezTo>
                  <a:pt x="11830" y="2475"/>
                  <a:pt x="11869" y="2399"/>
                  <a:pt x="11931" y="2356"/>
                </a:cubicBezTo>
                <a:cubicBezTo>
                  <a:pt x="11988" y="2317"/>
                  <a:pt x="12064" y="2332"/>
                  <a:pt x="12129" y="2332"/>
                </a:cubicBezTo>
                <a:cubicBezTo>
                  <a:pt x="12129" y="2466"/>
                  <a:pt x="12111" y="2529"/>
                  <a:pt x="12055" y="2654"/>
                </a:cubicBezTo>
                <a:cubicBezTo>
                  <a:pt x="12021" y="2731"/>
                  <a:pt x="11984" y="2842"/>
                  <a:pt x="11931" y="2902"/>
                </a:cubicBezTo>
                <a:cubicBezTo>
                  <a:pt x="11883" y="2957"/>
                  <a:pt x="11844" y="3015"/>
                  <a:pt x="11807" y="3076"/>
                </a:cubicBezTo>
                <a:cubicBezTo>
                  <a:pt x="11773" y="3132"/>
                  <a:pt x="11763" y="3195"/>
                  <a:pt x="11733" y="3249"/>
                </a:cubicBezTo>
                <a:cubicBezTo>
                  <a:pt x="11787" y="3282"/>
                  <a:pt x="11838" y="3274"/>
                  <a:pt x="11906" y="3274"/>
                </a:cubicBezTo>
                <a:cubicBezTo>
                  <a:pt x="12005" y="3274"/>
                  <a:pt x="12083" y="3246"/>
                  <a:pt x="12179" y="3225"/>
                </a:cubicBezTo>
                <a:cubicBezTo>
                  <a:pt x="12187" y="3225"/>
                  <a:pt x="12196" y="3225"/>
                  <a:pt x="12204" y="3225"/>
                </a:cubicBezTo>
              </a:path>
              <a:path w="3672" h="943">
                <a:moveTo>
                  <a:pt x="12452" y="2505"/>
                </a:moveTo>
                <a:cubicBezTo>
                  <a:pt x="12506" y="2500"/>
                  <a:pt x="12598" y="2500"/>
                  <a:pt x="12650" y="2480"/>
                </a:cubicBezTo>
                <a:cubicBezTo>
                  <a:pt x="12687" y="2466"/>
                  <a:pt x="12754" y="2453"/>
                  <a:pt x="12774" y="2406"/>
                </a:cubicBezTo>
                <a:cubicBezTo>
                  <a:pt x="12774" y="2398"/>
                  <a:pt x="12774" y="2389"/>
                  <a:pt x="12774" y="2381"/>
                </a:cubicBezTo>
              </a:path>
              <a:path w="3672" h="943">
                <a:moveTo>
                  <a:pt x="12452" y="2381"/>
                </a:moveTo>
                <a:cubicBezTo>
                  <a:pt x="12394" y="2445"/>
                  <a:pt x="12312" y="2497"/>
                  <a:pt x="12378" y="2580"/>
                </a:cubicBezTo>
                <a:cubicBezTo>
                  <a:pt x="12418" y="2630"/>
                  <a:pt x="12484" y="2563"/>
                  <a:pt x="12526" y="2555"/>
                </a:cubicBezTo>
                <a:cubicBezTo>
                  <a:pt x="12589" y="2542"/>
                  <a:pt x="12656" y="2590"/>
                  <a:pt x="12700" y="2629"/>
                </a:cubicBezTo>
                <a:cubicBezTo>
                  <a:pt x="12762" y="2685"/>
                  <a:pt x="12787" y="2799"/>
                  <a:pt x="12799" y="2877"/>
                </a:cubicBezTo>
                <a:cubicBezTo>
                  <a:pt x="12808" y="2935"/>
                  <a:pt x="12783" y="3034"/>
                  <a:pt x="12750" y="3076"/>
                </a:cubicBezTo>
                <a:cubicBezTo>
                  <a:pt x="12707" y="3131"/>
                  <a:pt x="12682" y="3130"/>
                  <a:pt x="12626" y="3150"/>
                </a:cubicBezTo>
                <a:cubicBezTo>
                  <a:pt x="12564" y="3172"/>
                  <a:pt x="12521" y="3203"/>
                  <a:pt x="12502" y="3125"/>
                </a:cubicBezTo>
              </a:path>
              <a:path w="3672" h="943">
                <a:moveTo>
                  <a:pt x="12874" y="2828"/>
                </a:moveTo>
                <a:cubicBezTo>
                  <a:pt x="12951" y="2857"/>
                  <a:pt x="13012" y="2853"/>
                  <a:pt x="13097" y="2853"/>
                </a:cubicBezTo>
                <a:cubicBezTo>
                  <a:pt x="13183" y="2853"/>
                  <a:pt x="13274" y="2836"/>
                  <a:pt x="13345" y="28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Ink 5"/>
          <p:cNvSpPr/>
          <p:nvPr/>
        </p:nvSpPr>
        <p:spPr>
          <a:xfrm>
            <a:off x="5116680" y="795240"/>
            <a:ext cx="982440" cy="347760"/>
          </a:xfrm>
          <a:custGeom>
            <a:avLst/>
            <a:gdLst/>
            <a:ahLst/>
            <a:rect l="l" t="t" r="r" b="b"/>
            <a:pathLst>
              <a:path w="2730" h="968">
                <a:moveTo>
                  <a:pt x="14312" y="2208"/>
                </a:moveTo>
                <a:cubicBezTo>
                  <a:pt x="14351" y="2255"/>
                  <a:pt x="14379" y="2321"/>
                  <a:pt x="14387" y="2381"/>
                </a:cubicBezTo>
                <a:cubicBezTo>
                  <a:pt x="14400" y="2481"/>
                  <a:pt x="14362" y="2599"/>
                  <a:pt x="14362" y="2704"/>
                </a:cubicBezTo>
                <a:cubicBezTo>
                  <a:pt x="14362" y="2825"/>
                  <a:pt x="14366" y="2945"/>
                  <a:pt x="14387" y="3051"/>
                </a:cubicBezTo>
                <a:cubicBezTo>
                  <a:pt x="14387" y="3101"/>
                  <a:pt x="14387" y="3117"/>
                  <a:pt x="14436" y="3101"/>
                </a:cubicBezTo>
              </a:path>
              <a:path w="2730" h="968">
                <a:moveTo>
                  <a:pt x="14213" y="2604"/>
                </a:moveTo>
                <a:cubicBezTo>
                  <a:pt x="14327" y="2577"/>
                  <a:pt x="14397" y="2599"/>
                  <a:pt x="14511" y="2604"/>
                </a:cubicBezTo>
                <a:cubicBezTo>
                  <a:pt x="14593" y="2608"/>
                  <a:pt x="14649" y="2650"/>
                  <a:pt x="14734" y="2654"/>
                </a:cubicBezTo>
                <a:cubicBezTo>
                  <a:pt x="14779" y="2654"/>
                  <a:pt x="14792" y="2650"/>
                  <a:pt x="14808" y="2679"/>
                </a:cubicBezTo>
              </a:path>
              <a:path w="2730" h="968">
                <a:moveTo>
                  <a:pt x="15056" y="2629"/>
                </a:moveTo>
                <a:cubicBezTo>
                  <a:pt x="14935" y="2605"/>
                  <a:pt x="14987" y="2636"/>
                  <a:pt x="14883" y="2679"/>
                </a:cubicBezTo>
                <a:cubicBezTo>
                  <a:pt x="14766" y="2727"/>
                  <a:pt x="14680" y="2825"/>
                  <a:pt x="14635" y="2952"/>
                </a:cubicBezTo>
                <a:cubicBezTo>
                  <a:pt x="14611" y="3021"/>
                  <a:pt x="14640" y="3100"/>
                  <a:pt x="14684" y="3150"/>
                </a:cubicBezTo>
                <a:cubicBezTo>
                  <a:pt x="14739" y="3212"/>
                  <a:pt x="14804" y="3155"/>
                  <a:pt x="14858" y="3125"/>
                </a:cubicBezTo>
                <a:cubicBezTo>
                  <a:pt x="14974" y="3061"/>
                  <a:pt x="14973" y="3033"/>
                  <a:pt x="15032" y="2927"/>
                </a:cubicBezTo>
                <a:cubicBezTo>
                  <a:pt x="15073" y="2853"/>
                  <a:pt x="15081" y="2819"/>
                  <a:pt x="15081" y="2729"/>
                </a:cubicBezTo>
                <a:cubicBezTo>
                  <a:pt x="15002" y="2689"/>
                  <a:pt x="15011" y="2803"/>
                  <a:pt x="15007" y="2877"/>
                </a:cubicBezTo>
                <a:cubicBezTo>
                  <a:pt x="15003" y="2959"/>
                  <a:pt x="14992" y="3038"/>
                  <a:pt x="15056" y="3101"/>
                </a:cubicBezTo>
                <a:cubicBezTo>
                  <a:pt x="15102" y="3147"/>
                  <a:pt x="15156" y="3163"/>
                  <a:pt x="15205" y="3125"/>
                </a:cubicBezTo>
                <a:cubicBezTo>
                  <a:pt x="15230" y="3101"/>
                  <a:pt x="15239" y="3093"/>
                  <a:pt x="15255" y="3076"/>
                </a:cubicBezTo>
              </a:path>
              <a:path w="2730" h="968">
                <a:moveTo>
                  <a:pt x="15255" y="2753"/>
                </a:moveTo>
                <a:cubicBezTo>
                  <a:pt x="15255" y="2856"/>
                  <a:pt x="15244" y="2928"/>
                  <a:pt x="15230" y="3026"/>
                </a:cubicBezTo>
                <a:cubicBezTo>
                  <a:pt x="15222" y="3084"/>
                  <a:pt x="15247" y="3109"/>
                  <a:pt x="15280" y="3150"/>
                </a:cubicBezTo>
                <a:cubicBezTo>
                  <a:pt x="15288" y="3080"/>
                  <a:pt x="15304" y="3025"/>
                  <a:pt x="15304" y="2952"/>
                </a:cubicBezTo>
                <a:cubicBezTo>
                  <a:pt x="15304" y="2877"/>
                  <a:pt x="15317" y="2822"/>
                  <a:pt x="15329" y="2753"/>
                </a:cubicBezTo>
                <a:cubicBezTo>
                  <a:pt x="15347" y="2649"/>
                  <a:pt x="15354" y="2682"/>
                  <a:pt x="15478" y="2604"/>
                </a:cubicBezTo>
                <a:cubicBezTo>
                  <a:pt x="15531" y="2657"/>
                  <a:pt x="15584" y="2728"/>
                  <a:pt x="15602" y="2803"/>
                </a:cubicBezTo>
                <a:cubicBezTo>
                  <a:pt x="15625" y="2901"/>
                  <a:pt x="15602" y="3041"/>
                  <a:pt x="15577" y="3125"/>
                </a:cubicBezTo>
                <a:cubicBezTo>
                  <a:pt x="15577" y="3133"/>
                  <a:pt x="15577" y="3142"/>
                  <a:pt x="15577" y="3150"/>
                </a:cubicBezTo>
              </a:path>
              <a:path w="2730" h="968">
                <a:moveTo>
                  <a:pt x="15900" y="2381"/>
                </a:moveTo>
                <a:cubicBezTo>
                  <a:pt x="16064" y="2324"/>
                  <a:pt x="16072" y="2324"/>
                  <a:pt x="16222" y="2332"/>
                </a:cubicBezTo>
                <a:cubicBezTo>
                  <a:pt x="16239" y="2332"/>
                  <a:pt x="16255" y="2332"/>
                  <a:pt x="16272" y="2332"/>
                </a:cubicBezTo>
                <a:cubicBezTo>
                  <a:pt x="16272" y="2392"/>
                  <a:pt x="16284" y="2513"/>
                  <a:pt x="16222" y="2555"/>
                </a:cubicBezTo>
                <a:cubicBezTo>
                  <a:pt x="16178" y="2585"/>
                  <a:pt x="16120" y="2623"/>
                  <a:pt x="16073" y="2654"/>
                </a:cubicBezTo>
                <a:cubicBezTo>
                  <a:pt x="15994" y="2706"/>
                  <a:pt x="15942" y="2679"/>
                  <a:pt x="16073" y="2679"/>
                </a:cubicBezTo>
                <a:cubicBezTo>
                  <a:pt x="16136" y="2679"/>
                  <a:pt x="16242" y="2714"/>
                  <a:pt x="16272" y="2778"/>
                </a:cubicBezTo>
                <a:cubicBezTo>
                  <a:pt x="16299" y="2836"/>
                  <a:pt x="16299" y="2901"/>
                  <a:pt x="16272" y="2952"/>
                </a:cubicBezTo>
                <a:cubicBezTo>
                  <a:pt x="16225" y="3041"/>
                  <a:pt x="16187" y="3108"/>
                  <a:pt x="16073" y="3076"/>
                </a:cubicBezTo>
                <a:cubicBezTo>
                  <a:pt x="16025" y="3052"/>
                  <a:pt x="16009" y="3045"/>
                  <a:pt x="16024" y="3001"/>
                </a:cubicBezTo>
              </a:path>
              <a:path w="2730" h="968">
                <a:moveTo>
                  <a:pt x="16495" y="2480"/>
                </a:moveTo>
                <a:cubicBezTo>
                  <a:pt x="16529" y="2570"/>
                  <a:pt x="16513" y="2657"/>
                  <a:pt x="16495" y="2753"/>
                </a:cubicBezTo>
                <a:cubicBezTo>
                  <a:pt x="16476" y="2858"/>
                  <a:pt x="16470" y="2945"/>
                  <a:pt x="16470" y="3051"/>
                </a:cubicBezTo>
                <a:cubicBezTo>
                  <a:pt x="16470" y="3141"/>
                  <a:pt x="16505" y="3127"/>
                  <a:pt x="16570" y="3150"/>
                </a:cubicBezTo>
                <a:cubicBezTo>
                  <a:pt x="16645" y="3177"/>
                  <a:pt x="16671" y="3170"/>
                  <a:pt x="16743" y="3150"/>
                </a:cubicBezTo>
                <a:cubicBezTo>
                  <a:pt x="16863" y="3117"/>
                  <a:pt x="16873" y="3029"/>
                  <a:pt x="16917" y="2927"/>
                </a:cubicBezTo>
                <a:cubicBezTo>
                  <a:pt x="16946" y="2859"/>
                  <a:pt x="16962" y="2791"/>
                  <a:pt x="16917" y="2729"/>
                </a:cubicBezTo>
                <a:cubicBezTo>
                  <a:pt x="16849" y="2636"/>
                  <a:pt x="16831" y="2646"/>
                  <a:pt x="16718" y="2604"/>
                </a:cubicBezTo>
                <a:cubicBezTo>
                  <a:pt x="16702" y="2596"/>
                  <a:pt x="16685" y="2588"/>
                  <a:pt x="16669" y="25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Ink 6"/>
          <p:cNvSpPr/>
          <p:nvPr/>
        </p:nvSpPr>
        <p:spPr>
          <a:xfrm>
            <a:off x="6357960" y="1177920"/>
            <a:ext cx="187200" cy="125280"/>
          </a:xfrm>
          <a:custGeom>
            <a:avLst/>
            <a:gdLst/>
            <a:ahLst/>
            <a:rect l="l" t="t" r="r" b="b"/>
            <a:pathLst>
              <a:path w="522" h="348">
                <a:moveTo>
                  <a:pt x="17661" y="3274"/>
                </a:moveTo>
                <a:cubicBezTo>
                  <a:pt x="17818" y="3274"/>
                  <a:pt x="17975" y="3274"/>
                  <a:pt x="18132" y="3274"/>
                </a:cubicBezTo>
              </a:path>
              <a:path w="522" h="348">
                <a:moveTo>
                  <a:pt x="17760" y="3547"/>
                </a:moveTo>
                <a:cubicBezTo>
                  <a:pt x="17760" y="3564"/>
                  <a:pt x="17760" y="3580"/>
                  <a:pt x="17760" y="3597"/>
                </a:cubicBezTo>
                <a:cubicBezTo>
                  <a:pt x="17858" y="3597"/>
                  <a:pt x="17939" y="3617"/>
                  <a:pt x="18033" y="3621"/>
                </a:cubicBezTo>
                <a:cubicBezTo>
                  <a:pt x="18092" y="3624"/>
                  <a:pt x="18157" y="3633"/>
                  <a:pt x="18182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Ink 7"/>
          <p:cNvSpPr/>
          <p:nvPr/>
        </p:nvSpPr>
        <p:spPr>
          <a:xfrm>
            <a:off x="6750000" y="581040"/>
            <a:ext cx="1332000" cy="1347840"/>
          </a:xfrm>
          <a:custGeom>
            <a:avLst/>
            <a:gdLst/>
            <a:ahLst/>
            <a:rect l="l" t="t" r="r" b="b"/>
            <a:pathLst>
              <a:path w="3697" h="3747">
                <a:moveTo>
                  <a:pt x="19100" y="1960"/>
                </a:moveTo>
                <a:cubicBezTo>
                  <a:pt x="19100" y="2031"/>
                  <a:pt x="19113" y="2099"/>
                  <a:pt x="19124" y="2158"/>
                </a:cubicBezTo>
                <a:cubicBezTo>
                  <a:pt x="19140" y="2247"/>
                  <a:pt x="19104" y="2323"/>
                  <a:pt x="19100" y="2406"/>
                </a:cubicBezTo>
                <a:cubicBezTo>
                  <a:pt x="19096" y="2494"/>
                  <a:pt x="19093" y="2618"/>
                  <a:pt x="19075" y="2704"/>
                </a:cubicBezTo>
                <a:cubicBezTo>
                  <a:pt x="19056" y="2792"/>
                  <a:pt x="19026" y="2889"/>
                  <a:pt x="19000" y="2977"/>
                </a:cubicBezTo>
                <a:cubicBezTo>
                  <a:pt x="18970" y="3079"/>
                  <a:pt x="18955" y="3192"/>
                  <a:pt x="18951" y="3299"/>
                </a:cubicBezTo>
                <a:cubicBezTo>
                  <a:pt x="18950" y="3317"/>
                  <a:pt x="18898" y="3495"/>
                  <a:pt x="18951" y="3423"/>
                </a:cubicBezTo>
                <a:cubicBezTo>
                  <a:pt x="18959" y="3406"/>
                  <a:pt x="18968" y="3390"/>
                  <a:pt x="18976" y="3373"/>
                </a:cubicBezTo>
              </a:path>
              <a:path w="3697" h="3747">
                <a:moveTo>
                  <a:pt x="20241" y="2778"/>
                </a:moveTo>
                <a:cubicBezTo>
                  <a:pt x="20295" y="2811"/>
                  <a:pt x="20346" y="2803"/>
                  <a:pt x="20414" y="2803"/>
                </a:cubicBezTo>
                <a:cubicBezTo>
                  <a:pt x="20600" y="2803"/>
                  <a:pt x="20838" y="2763"/>
                  <a:pt x="21010" y="2828"/>
                </a:cubicBezTo>
              </a:path>
              <a:path w="3697" h="3747">
                <a:moveTo>
                  <a:pt x="21580" y="2034"/>
                </a:moveTo>
                <a:cubicBezTo>
                  <a:pt x="21580" y="2183"/>
                  <a:pt x="21580" y="2331"/>
                  <a:pt x="21580" y="2480"/>
                </a:cubicBezTo>
                <a:cubicBezTo>
                  <a:pt x="21580" y="2289"/>
                  <a:pt x="21572" y="2085"/>
                  <a:pt x="21605" y="1910"/>
                </a:cubicBezTo>
                <a:cubicBezTo>
                  <a:pt x="21622" y="1820"/>
                  <a:pt x="21637" y="1825"/>
                  <a:pt x="21704" y="1786"/>
                </a:cubicBezTo>
                <a:cubicBezTo>
                  <a:pt x="21769" y="1748"/>
                  <a:pt x="21792" y="1703"/>
                  <a:pt x="21878" y="1687"/>
                </a:cubicBezTo>
                <a:cubicBezTo>
                  <a:pt x="21974" y="1669"/>
                  <a:pt x="22075" y="1647"/>
                  <a:pt x="22175" y="1637"/>
                </a:cubicBezTo>
                <a:cubicBezTo>
                  <a:pt x="22244" y="1630"/>
                  <a:pt x="22442" y="1598"/>
                  <a:pt x="22374" y="1612"/>
                </a:cubicBezTo>
                <a:cubicBezTo>
                  <a:pt x="22349" y="1620"/>
                  <a:pt x="22324" y="1629"/>
                  <a:pt x="22299" y="1637"/>
                </a:cubicBezTo>
              </a:path>
              <a:path w="3697" h="3747">
                <a:moveTo>
                  <a:pt x="21952" y="1984"/>
                </a:moveTo>
                <a:cubicBezTo>
                  <a:pt x="22019" y="1975"/>
                  <a:pt x="22028" y="1959"/>
                  <a:pt x="22076" y="1910"/>
                </a:cubicBezTo>
                <a:cubicBezTo>
                  <a:pt x="22116" y="1870"/>
                  <a:pt x="22207" y="1835"/>
                  <a:pt x="22225" y="1935"/>
                </a:cubicBezTo>
                <a:cubicBezTo>
                  <a:pt x="22229" y="1957"/>
                  <a:pt x="22139" y="2089"/>
                  <a:pt x="22126" y="2108"/>
                </a:cubicBezTo>
                <a:cubicBezTo>
                  <a:pt x="22086" y="2166"/>
                  <a:pt x="22064" y="2197"/>
                  <a:pt x="22002" y="2232"/>
                </a:cubicBezTo>
                <a:cubicBezTo>
                  <a:pt x="22058" y="2204"/>
                  <a:pt x="22133" y="2157"/>
                  <a:pt x="22200" y="2183"/>
                </a:cubicBezTo>
                <a:cubicBezTo>
                  <a:pt x="22263" y="2208"/>
                  <a:pt x="22322" y="2315"/>
                  <a:pt x="22299" y="2381"/>
                </a:cubicBezTo>
                <a:cubicBezTo>
                  <a:pt x="22282" y="2428"/>
                  <a:pt x="22223" y="2443"/>
                  <a:pt x="22175" y="2456"/>
                </a:cubicBezTo>
                <a:cubicBezTo>
                  <a:pt x="22128" y="2469"/>
                  <a:pt x="22100" y="2473"/>
                  <a:pt x="22051" y="2480"/>
                </a:cubicBezTo>
              </a:path>
              <a:path w="3697" h="3747">
                <a:moveTo>
                  <a:pt x="21431" y="2654"/>
                </a:moveTo>
                <a:cubicBezTo>
                  <a:pt x="21491" y="2678"/>
                  <a:pt x="21534" y="2646"/>
                  <a:pt x="21605" y="2629"/>
                </a:cubicBezTo>
                <a:cubicBezTo>
                  <a:pt x="21717" y="2602"/>
                  <a:pt x="21813" y="2604"/>
                  <a:pt x="21927" y="2604"/>
                </a:cubicBezTo>
                <a:cubicBezTo>
                  <a:pt x="22021" y="2604"/>
                  <a:pt x="22106" y="2580"/>
                  <a:pt x="22200" y="2580"/>
                </a:cubicBezTo>
                <a:cubicBezTo>
                  <a:pt x="22224" y="2580"/>
                  <a:pt x="22457" y="2598"/>
                  <a:pt x="22448" y="2604"/>
                </a:cubicBezTo>
                <a:cubicBezTo>
                  <a:pt x="22432" y="2604"/>
                  <a:pt x="22415" y="2604"/>
                  <a:pt x="22399" y="2604"/>
                </a:cubicBezTo>
              </a:path>
              <a:path w="3697" h="3747">
                <a:moveTo>
                  <a:pt x="21754" y="2902"/>
                </a:moveTo>
                <a:cubicBezTo>
                  <a:pt x="21820" y="2884"/>
                  <a:pt x="21874" y="2843"/>
                  <a:pt x="21927" y="2828"/>
                </a:cubicBezTo>
                <a:cubicBezTo>
                  <a:pt x="22009" y="2805"/>
                  <a:pt x="22054" y="2804"/>
                  <a:pt x="22126" y="2853"/>
                </a:cubicBezTo>
                <a:cubicBezTo>
                  <a:pt x="22115" y="2928"/>
                  <a:pt x="22084" y="2944"/>
                  <a:pt x="22027" y="3001"/>
                </a:cubicBezTo>
                <a:cubicBezTo>
                  <a:pt x="21988" y="3040"/>
                  <a:pt x="21943" y="3062"/>
                  <a:pt x="21903" y="3101"/>
                </a:cubicBezTo>
                <a:cubicBezTo>
                  <a:pt x="21846" y="3158"/>
                  <a:pt x="21807" y="3125"/>
                  <a:pt x="21927" y="3125"/>
                </a:cubicBezTo>
                <a:cubicBezTo>
                  <a:pt x="21999" y="3125"/>
                  <a:pt x="22056" y="3093"/>
                  <a:pt x="22126" y="3125"/>
                </a:cubicBezTo>
                <a:cubicBezTo>
                  <a:pt x="22172" y="3146"/>
                  <a:pt x="22198" y="3213"/>
                  <a:pt x="22225" y="3249"/>
                </a:cubicBezTo>
                <a:cubicBezTo>
                  <a:pt x="22261" y="3297"/>
                  <a:pt x="22250" y="3355"/>
                  <a:pt x="22200" y="3398"/>
                </a:cubicBezTo>
                <a:cubicBezTo>
                  <a:pt x="22142" y="3448"/>
                  <a:pt x="22073" y="3448"/>
                  <a:pt x="22002" y="3448"/>
                </a:cubicBezTo>
                <a:cubicBezTo>
                  <a:pt x="21925" y="3448"/>
                  <a:pt x="21869" y="3473"/>
                  <a:pt x="21779" y="3473"/>
                </a:cubicBezTo>
                <a:cubicBezTo>
                  <a:pt x="21771" y="3473"/>
                  <a:pt x="21762" y="3473"/>
                  <a:pt x="21754" y="3473"/>
                </a:cubicBezTo>
              </a:path>
              <a:path w="3697" h="3747">
                <a:moveTo>
                  <a:pt x="18752" y="4093"/>
                </a:moveTo>
                <a:cubicBezTo>
                  <a:pt x="18781" y="4141"/>
                  <a:pt x="18793" y="4230"/>
                  <a:pt x="18802" y="4291"/>
                </a:cubicBezTo>
                <a:cubicBezTo>
                  <a:pt x="18825" y="4453"/>
                  <a:pt x="18797" y="4629"/>
                  <a:pt x="18777" y="4787"/>
                </a:cubicBezTo>
                <a:cubicBezTo>
                  <a:pt x="18764" y="4891"/>
                  <a:pt x="18777" y="5005"/>
                  <a:pt x="18777" y="5110"/>
                </a:cubicBezTo>
              </a:path>
              <a:path w="3697" h="3747">
                <a:moveTo>
                  <a:pt x="19794" y="4341"/>
                </a:moveTo>
                <a:cubicBezTo>
                  <a:pt x="19794" y="4425"/>
                  <a:pt x="19799" y="4493"/>
                  <a:pt x="19794" y="4564"/>
                </a:cubicBezTo>
                <a:cubicBezTo>
                  <a:pt x="19788" y="4650"/>
                  <a:pt x="19773" y="4712"/>
                  <a:pt x="19769" y="4787"/>
                </a:cubicBezTo>
                <a:cubicBezTo>
                  <a:pt x="19765" y="4848"/>
                  <a:pt x="19785" y="4909"/>
                  <a:pt x="19745" y="4936"/>
                </a:cubicBezTo>
              </a:path>
              <a:path w="3697" h="3747">
                <a:moveTo>
                  <a:pt x="19521" y="4688"/>
                </a:moveTo>
                <a:cubicBezTo>
                  <a:pt x="19698" y="4688"/>
                  <a:pt x="19873" y="4686"/>
                  <a:pt x="20042" y="4713"/>
                </a:cubicBezTo>
                <a:cubicBezTo>
                  <a:pt x="20113" y="4724"/>
                  <a:pt x="20192" y="4713"/>
                  <a:pt x="20265" y="4713"/>
                </a:cubicBezTo>
              </a:path>
              <a:path w="3697" h="3747">
                <a:moveTo>
                  <a:pt x="21010" y="4217"/>
                </a:moveTo>
                <a:cubicBezTo>
                  <a:pt x="20985" y="4306"/>
                  <a:pt x="20985" y="4372"/>
                  <a:pt x="20985" y="4465"/>
                </a:cubicBezTo>
                <a:cubicBezTo>
                  <a:pt x="20985" y="4536"/>
                  <a:pt x="21001" y="4574"/>
                  <a:pt x="21010" y="4638"/>
                </a:cubicBezTo>
                <a:cubicBezTo>
                  <a:pt x="20984" y="4569"/>
                  <a:pt x="20988" y="4479"/>
                  <a:pt x="20960" y="4415"/>
                </a:cubicBezTo>
                <a:cubicBezTo>
                  <a:pt x="20935" y="4357"/>
                  <a:pt x="20935" y="4312"/>
                  <a:pt x="20935" y="4242"/>
                </a:cubicBezTo>
                <a:cubicBezTo>
                  <a:pt x="20935" y="4169"/>
                  <a:pt x="20962" y="4142"/>
                  <a:pt x="21010" y="4093"/>
                </a:cubicBezTo>
                <a:cubicBezTo>
                  <a:pt x="21055" y="4048"/>
                  <a:pt x="21097" y="4018"/>
                  <a:pt x="21158" y="3994"/>
                </a:cubicBezTo>
                <a:cubicBezTo>
                  <a:pt x="21248" y="3959"/>
                  <a:pt x="21336" y="3969"/>
                  <a:pt x="21431" y="3969"/>
                </a:cubicBezTo>
                <a:cubicBezTo>
                  <a:pt x="21490" y="3969"/>
                  <a:pt x="21545" y="3950"/>
                  <a:pt x="21555" y="3969"/>
                </a:cubicBezTo>
              </a:path>
              <a:path w="3697" h="3747">
                <a:moveTo>
                  <a:pt x="21233" y="4167"/>
                </a:moveTo>
                <a:cubicBezTo>
                  <a:pt x="21270" y="4182"/>
                  <a:pt x="21350" y="4179"/>
                  <a:pt x="21406" y="4167"/>
                </a:cubicBezTo>
                <a:cubicBezTo>
                  <a:pt x="21501" y="4146"/>
                  <a:pt x="21512" y="4124"/>
                  <a:pt x="21580" y="4192"/>
                </a:cubicBezTo>
                <a:cubicBezTo>
                  <a:pt x="21531" y="4253"/>
                  <a:pt x="21503" y="4301"/>
                  <a:pt x="21431" y="4341"/>
                </a:cubicBezTo>
                <a:cubicBezTo>
                  <a:pt x="21384" y="4368"/>
                  <a:pt x="21350" y="4365"/>
                  <a:pt x="21307" y="4390"/>
                </a:cubicBezTo>
                <a:cubicBezTo>
                  <a:pt x="21387" y="4390"/>
                  <a:pt x="21456" y="4403"/>
                  <a:pt x="21530" y="4440"/>
                </a:cubicBezTo>
                <a:cubicBezTo>
                  <a:pt x="21592" y="4471"/>
                  <a:pt x="21610" y="4533"/>
                  <a:pt x="21580" y="4589"/>
                </a:cubicBezTo>
                <a:cubicBezTo>
                  <a:pt x="21564" y="4619"/>
                  <a:pt x="21439" y="4634"/>
                  <a:pt x="21406" y="4638"/>
                </a:cubicBezTo>
                <a:cubicBezTo>
                  <a:pt x="21315" y="4638"/>
                  <a:pt x="21274" y="4638"/>
                  <a:pt x="21208" y="4638"/>
                </a:cubicBezTo>
              </a:path>
              <a:path w="3697" h="3747">
                <a:moveTo>
                  <a:pt x="20861" y="4738"/>
                </a:moveTo>
                <a:cubicBezTo>
                  <a:pt x="20989" y="4738"/>
                  <a:pt x="21083" y="4718"/>
                  <a:pt x="21208" y="4713"/>
                </a:cubicBezTo>
                <a:cubicBezTo>
                  <a:pt x="21348" y="4708"/>
                  <a:pt x="21490" y="4713"/>
                  <a:pt x="21630" y="4713"/>
                </a:cubicBezTo>
              </a:path>
              <a:path w="3697" h="3747">
                <a:moveTo>
                  <a:pt x="21134" y="4911"/>
                </a:moveTo>
                <a:cubicBezTo>
                  <a:pt x="21219" y="4901"/>
                  <a:pt x="21292" y="4887"/>
                  <a:pt x="21382" y="4887"/>
                </a:cubicBezTo>
                <a:cubicBezTo>
                  <a:pt x="21433" y="4887"/>
                  <a:pt x="21451" y="4888"/>
                  <a:pt x="21481" y="4911"/>
                </a:cubicBezTo>
                <a:cubicBezTo>
                  <a:pt x="21433" y="4959"/>
                  <a:pt x="21392" y="5002"/>
                  <a:pt x="21332" y="5035"/>
                </a:cubicBezTo>
                <a:cubicBezTo>
                  <a:pt x="21275" y="5063"/>
                  <a:pt x="21252" y="5074"/>
                  <a:pt x="21208" y="5085"/>
                </a:cubicBezTo>
                <a:cubicBezTo>
                  <a:pt x="21262" y="5118"/>
                  <a:pt x="21355" y="5108"/>
                  <a:pt x="21406" y="5159"/>
                </a:cubicBezTo>
                <a:cubicBezTo>
                  <a:pt x="21455" y="5208"/>
                  <a:pt x="21496" y="5240"/>
                  <a:pt x="21506" y="5308"/>
                </a:cubicBezTo>
                <a:cubicBezTo>
                  <a:pt x="21407" y="5374"/>
                  <a:pt x="21367" y="5348"/>
                  <a:pt x="21258" y="5333"/>
                </a:cubicBezTo>
                <a:cubicBezTo>
                  <a:pt x="21187" y="5323"/>
                  <a:pt x="21125" y="5313"/>
                  <a:pt x="21059" y="5308"/>
                </a:cubicBezTo>
                <a:cubicBezTo>
                  <a:pt x="21051" y="5308"/>
                  <a:pt x="21042" y="5308"/>
                  <a:pt x="21034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Ink 8"/>
          <p:cNvSpPr/>
          <p:nvPr/>
        </p:nvSpPr>
        <p:spPr>
          <a:xfrm>
            <a:off x="4044960" y="1419120"/>
            <a:ext cx="54000" cy="366840"/>
          </a:xfrm>
          <a:custGeom>
            <a:avLst/>
            <a:gdLst/>
            <a:ahLst/>
            <a:rect l="l" t="t" r="r" b="b"/>
            <a:pathLst>
              <a:path w="149" h="1018">
                <a:moveTo>
                  <a:pt x="11237" y="3944"/>
                </a:moveTo>
                <a:cubicBezTo>
                  <a:pt x="11288" y="4009"/>
                  <a:pt x="11300" y="4083"/>
                  <a:pt x="11311" y="4167"/>
                </a:cubicBezTo>
                <a:cubicBezTo>
                  <a:pt x="11321" y="4243"/>
                  <a:pt x="11352" y="4318"/>
                  <a:pt x="11361" y="4390"/>
                </a:cubicBezTo>
                <a:cubicBezTo>
                  <a:pt x="11375" y="4498"/>
                  <a:pt x="11369" y="4609"/>
                  <a:pt x="11385" y="4713"/>
                </a:cubicBezTo>
                <a:cubicBezTo>
                  <a:pt x="11393" y="4764"/>
                  <a:pt x="11385" y="4968"/>
                  <a:pt x="11385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9"/>
          <p:cNvSpPr/>
          <p:nvPr/>
        </p:nvSpPr>
        <p:spPr>
          <a:xfrm>
            <a:off x="4375080" y="1473120"/>
            <a:ext cx="1938240" cy="295200"/>
          </a:xfrm>
          <a:custGeom>
            <a:avLst/>
            <a:gdLst/>
            <a:ahLst/>
            <a:rect l="l" t="t" r="r" b="b"/>
            <a:pathLst>
              <a:path w="5384" h="819">
                <a:moveTo>
                  <a:pt x="12353" y="4118"/>
                </a:moveTo>
                <a:cubicBezTo>
                  <a:pt x="12377" y="4234"/>
                  <a:pt x="12367" y="4285"/>
                  <a:pt x="12353" y="4390"/>
                </a:cubicBezTo>
                <a:cubicBezTo>
                  <a:pt x="12340" y="4485"/>
                  <a:pt x="12363" y="4584"/>
                  <a:pt x="12378" y="4663"/>
                </a:cubicBezTo>
                <a:cubicBezTo>
                  <a:pt x="12378" y="4680"/>
                  <a:pt x="12378" y="4696"/>
                  <a:pt x="12378" y="4713"/>
                </a:cubicBezTo>
              </a:path>
              <a:path w="5384" h="819">
                <a:moveTo>
                  <a:pt x="12154" y="4490"/>
                </a:moveTo>
                <a:cubicBezTo>
                  <a:pt x="12295" y="4490"/>
                  <a:pt x="12435" y="4490"/>
                  <a:pt x="12576" y="4490"/>
                </a:cubicBezTo>
              </a:path>
              <a:path w="5384" h="819">
                <a:moveTo>
                  <a:pt x="13072" y="4093"/>
                </a:moveTo>
                <a:cubicBezTo>
                  <a:pt x="13072" y="4254"/>
                  <a:pt x="13073" y="4411"/>
                  <a:pt x="13097" y="4564"/>
                </a:cubicBezTo>
                <a:cubicBezTo>
                  <a:pt x="13108" y="4636"/>
                  <a:pt x="13113" y="4726"/>
                  <a:pt x="13122" y="4787"/>
                </a:cubicBezTo>
                <a:cubicBezTo>
                  <a:pt x="13122" y="4812"/>
                  <a:pt x="13122" y="4837"/>
                  <a:pt x="13122" y="4862"/>
                </a:cubicBezTo>
              </a:path>
              <a:path w="5384" h="819">
                <a:moveTo>
                  <a:pt x="12898" y="4514"/>
                </a:moveTo>
                <a:cubicBezTo>
                  <a:pt x="12973" y="4514"/>
                  <a:pt x="13028" y="4501"/>
                  <a:pt x="13097" y="4490"/>
                </a:cubicBezTo>
                <a:cubicBezTo>
                  <a:pt x="13194" y="4474"/>
                  <a:pt x="13298" y="4479"/>
                  <a:pt x="13395" y="4465"/>
                </a:cubicBezTo>
                <a:cubicBezTo>
                  <a:pt x="13465" y="4455"/>
                  <a:pt x="13536" y="4424"/>
                  <a:pt x="13593" y="4390"/>
                </a:cubicBezTo>
                <a:cubicBezTo>
                  <a:pt x="13559" y="4450"/>
                  <a:pt x="13519" y="4489"/>
                  <a:pt x="13469" y="4539"/>
                </a:cubicBezTo>
                <a:cubicBezTo>
                  <a:pt x="13416" y="4592"/>
                  <a:pt x="13337" y="4826"/>
                  <a:pt x="13444" y="4887"/>
                </a:cubicBezTo>
                <a:cubicBezTo>
                  <a:pt x="13518" y="4929"/>
                  <a:pt x="13565" y="4825"/>
                  <a:pt x="13593" y="4787"/>
                </a:cubicBezTo>
                <a:cubicBezTo>
                  <a:pt x="13641" y="4723"/>
                  <a:pt x="13663" y="4671"/>
                  <a:pt x="13667" y="4589"/>
                </a:cubicBezTo>
                <a:cubicBezTo>
                  <a:pt x="13667" y="4544"/>
                  <a:pt x="13671" y="4531"/>
                  <a:pt x="13643" y="4514"/>
                </a:cubicBezTo>
                <a:cubicBezTo>
                  <a:pt x="13643" y="4605"/>
                  <a:pt x="13654" y="4678"/>
                  <a:pt x="13667" y="4762"/>
                </a:cubicBezTo>
                <a:cubicBezTo>
                  <a:pt x="13674" y="4802"/>
                  <a:pt x="13708" y="4891"/>
                  <a:pt x="13767" y="4887"/>
                </a:cubicBezTo>
                <a:cubicBezTo>
                  <a:pt x="13813" y="4884"/>
                  <a:pt x="13852" y="4840"/>
                  <a:pt x="13866" y="4812"/>
                </a:cubicBezTo>
              </a:path>
              <a:path w="5384" h="819">
                <a:moveTo>
                  <a:pt x="13866" y="4490"/>
                </a:moveTo>
                <a:cubicBezTo>
                  <a:pt x="13866" y="4601"/>
                  <a:pt x="13873" y="4673"/>
                  <a:pt x="13891" y="4762"/>
                </a:cubicBezTo>
                <a:cubicBezTo>
                  <a:pt x="13891" y="4814"/>
                  <a:pt x="13892" y="4832"/>
                  <a:pt x="13915" y="4862"/>
                </a:cubicBezTo>
                <a:cubicBezTo>
                  <a:pt x="13915" y="4761"/>
                  <a:pt x="13899" y="4656"/>
                  <a:pt x="13940" y="4564"/>
                </a:cubicBezTo>
                <a:cubicBezTo>
                  <a:pt x="13965" y="4507"/>
                  <a:pt x="14009" y="4469"/>
                  <a:pt x="14039" y="4415"/>
                </a:cubicBezTo>
                <a:cubicBezTo>
                  <a:pt x="14140" y="4477"/>
                  <a:pt x="14189" y="4513"/>
                  <a:pt x="14213" y="4638"/>
                </a:cubicBezTo>
                <a:cubicBezTo>
                  <a:pt x="14228" y="4718"/>
                  <a:pt x="14178" y="4822"/>
                  <a:pt x="14188" y="4887"/>
                </a:cubicBezTo>
                <a:cubicBezTo>
                  <a:pt x="14218" y="4916"/>
                  <a:pt x="14229" y="4918"/>
                  <a:pt x="14238" y="4862"/>
                </a:cubicBezTo>
              </a:path>
              <a:path w="5384" h="819">
                <a:moveTo>
                  <a:pt x="14312" y="4366"/>
                </a:moveTo>
                <a:cubicBezTo>
                  <a:pt x="14357" y="4321"/>
                  <a:pt x="14440" y="4209"/>
                  <a:pt x="14511" y="4192"/>
                </a:cubicBezTo>
                <a:cubicBezTo>
                  <a:pt x="14603" y="4170"/>
                  <a:pt x="14632" y="4243"/>
                  <a:pt x="14635" y="4316"/>
                </a:cubicBezTo>
                <a:cubicBezTo>
                  <a:pt x="14639" y="4415"/>
                  <a:pt x="14599" y="4525"/>
                  <a:pt x="14560" y="4614"/>
                </a:cubicBezTo>
                <a:cubicBezTo>
                  <a:pt x="14532" y="4677"/>
                  <a:pt x="14507" y="4729"/>
                  <a:pt x="14486" y="4787"/>
                </a:cubicBezTo>
                <a:cubicBezTo>
                  <a:pt x="14462" y="4835"/>
                  <a:pt x="14454" y="4850"/>
                  <a:pt x="14461" y="4887"/>
                </a:cubicBezTo>
                <a:cubicBezTo>
                  <a:pt x="14566" y="4948"/>
                  <a:pt x="14574" y="4882"/>
                  <a:pt x="14610" y="4787"/>
                </a:cubicBezTo>
              </a:path>
              <a:path w="5384" h="819">
                <a:moveTo>
                  <a:pt x="14734" y="4316"/>
                </a:moveTo>
                <a:cubicBezTo>
                  <a:pt x="14819" y="4231"/>
                  <a:pt x="14808" y="4257"/>
                  <a:pt x="14908" y="4217"/>
                </a:cubicBezTo>
                <a:cubicBezTo>
                  <a:pt x="14970" y="4192"/>
                  <a:pt x="15022" y="4230"/>
                  <a:pt x="15007" y="4316"/>
                </a:cubicBezTo>
                <a:cubicBezTo>
                  <a:pt x="14993" y="4395"/>
                  <a:pt x="14956" y="4483"/>
                  <a:pt x="14908" y="4539"/>
                </a:cubicBezTo>
                <a:cubicBezTo>
                  <a:pt x="14854" y="4603"/>
                  <a:pt x="14839" y="4674"/>
                  <a:pt x="14808" y="4738"/>
                </a:cubicBezTo>
                <a:cubicBezTo>
                  <a:pt x="14772" y="4811"/>
                  <a:pt x="14761" y="4898"/>
                  <a:pt x="14858" y="4911"/>
                </a:cubicBezTo>
                <a:cubicBezTo>
                  <a:pt x="14957" y="4924"/>
                  <a:pt x="14994" y="4875"/>
                  <a:pt x="15056" y="4812"/>
                </a:cubicBezTo>
              </a:path>
              <a:path w="5384" h="819">
                <a:moveTo>
                  <a:pt x="15230" y="4242"/>
                </a:moveTo>
                <a:cubicBezTo>
                  <a:pt x="15316" y="4242"/>
                  <a:pt x="15351" y="4210"/>
                  <a:pt x="15429" y="4192"/>
                </a:cubicBezTo>
                <a:cubicBezTo>
                  <a:pt x="15470" y="4183"/>
                  <a:pt x="15512" y="4175"/>
                  <a:pt x="15553" y="4167"/>
                </a:cubicBezTo>
              </a:path>
              <a:path w="5384" h="819">
                <a:moveTo>
                  <a:pt x="15280" y="4266"/>
                </a:moveTo>
                <a:cubicBezTo>
                  <a:pt x="15226" y="4332"/>
                  <a:pt x="15141" y="4423"/>
                  <a:pt x="15280" y="4440"/>
                </a:cubicBezTo>
                <a:cubicBezTo>
                  <a:pt x="15350" y="4448"/>
                  <a:pt x="15438" y="4437"/>
                  <a:pt x="15503" y="4465"/>
                </a:cubicBezTo>
                <a:cubicBezTo>
                  <a:pt x="15556" y="4488"/>
                  <a:pt x="15617" y="4638"/>
                  <a:pt x="15627" y="4688"/>
                </a:cubicBezTo>
                <a:cubicBezTo>
                  <a:pt x="15639" y="4749"/>
                  <a:pt x="15606" y="4849"/>
                  <a:pt x="15553" y="4887"/>
                </a:cubicBezTo>
                <a:cubicBezTo>
                  <a:pt x="15508" y="4918"/>
                  <a:pt x="15407" y="4925"/>
                  <a:pt x="15354" y="4911"/>
                </a:cubicBezTo>
                <a:cubicBezTo>
                  <a:pt x="15262" y="4886"/>
                  <a:pt x="15290" y="4862"/>
                  <a:pt x="15304" y="4787"/>
                </a:cubicBezTo>
              </a:path>
              <a:path w="5384" h="819">
                <a:moveTo>
                  <a:pt x="15875" y="4167"/>
                </a:moveTo>
                <a:cubicBezTo>
                  <a:pt x="15883" y="4261"/>
                  <a:pt x="15900" y="4344"/>
                  <a:pt x="15900" y="4440"/>
                </a:cubicBezTo>
                <a:cubicBezTo>
                  <a:pt x="15900" y="4569"/>
                  <a:pt x="15905" y="4691"/>
                  <a:pt x="15925" y="4812"/>
                </a:cubicBezTo>
                <a:cubicBezTo>
                  <a:pt x="15935" y="4872"/>
                  <a:pt x="15959" y="4939"/>
                  <a:pt x="15900" y="4862"/>
                </a:cubicBezTo>
              </a:path>
              <a:path w="5384" h="819">
                <a:moveTo>
                  <a:pt x="15726" y="4514"/>
                </a:moveTo>
                <a:cubicBezTo>
                  <a:pt x="15782" y="4478"/>
                  <a:pt x="15859" y="4451"/>
                  <a:pt x="15925" y="4440"/>
                </a:cubicBezTo>
                <a:cubicBezTo>
                  <a:pt x="15998" y="4428"/>
                  <a:pt x="16077" y="4399"/>
                  <a:pt x="16148" y="4390"/>
                </a:cubicBezTo>
                <a:cubicBezTo>
                  <a:pt x="16218" y="4381"/>
                  <a:pt x="16230" y="4370"/>
                  <a:pt x="16272" y="4390"/>
                </a:cubicBezTo>
                <a:cubicBezTo>
                  <a:pt x="16232" y="4477"/>
                  <a:pt x="16161" y="4527"/>
                  <a:pt x="16123" y="4614"/>
                </a:cubicBezTo>
                <a:cubicBezTo>
                  <a:pt x="16087" y="4696"/>
                  <a:pt x="16058" y="4763"/>
                  <a:pt x="16098" y="4837"/>
                </a:cubicBezTo>
                <a:cubicBezTo>
                  <a:pt x="16126" y="4889"/>
                  <a:pt x="16204" y="4893"/>
                  <a:pt x="16247" y="4837"/>
                </a:cubicBezTo>
                <a:cubicBezTo>
                  <a:pt x="16306" y="4760"/>
                  <a:pt x="16297" y="4680"/>
                  <a:pt x="16297" y="4589"/>
                </a:cubicBezTo>
                <a:cubicBezTo>
                  <a:pt x="16297" y="4539"/>
                  <a:pt x="16297" y="4523"/>
                  <a:pt x="16297" y="4490"/>
                </a:cubicBezTo>
                <a:cubicBezTo>
                  <a:pt x="16297" y="4570"/>
                  <a:pt x="16310" y="4638"/>
                  <a:pt x="16321" y="4713"/>
                </a:cubicBezTo>
                <a:cubicBezTo>
                  <a:pt x="16339" y="4829"/>
                  <a:pt x="16337" y="4820"/>
                  <a:pt x="16421" y="4862"/>
                </a:cubicBezTo>
                <a:cubicBezTo>
                  <a:pt x="16465" y="4884"/>
                  <a:pt x="16457" y="4889"/>
                  <a:pt x="16470" y="4837"/>
                </a:cubicBezTo>
              </a:path>
              <a:path w="5384" h="819">
                <a:moveTo>
                  <a:pt x="16470" y="4514"/>
                </a:moveTo>
                <a:cubicBezTo>
                  <a:pt x="16492" y="4615"/>
                  <a:pt x="16495" y="4708"/>
                  <a:pt x="16495" y="4812"/>
                </a:cubicBezTo>
                <a:cubicBezTo>
                  <a:pt x="16495" y="4862"/>
                  <a:pt x="16495" y="4878"/>
                  <a:pt x="16495" y="4911"/>
                </a:cubicBezTo>
                <a:cubicBezTo>
                  <a:pt x="16528" y="4857"/>
                  <a:pt x="16520" y="4806"/>
                  <a:pt x="16520" y="4738"/>
                </a:cubicBezTo>
                <a:cubicBezTo>
                  <a:pt x="16520" y="4656"/>
                  <a:pt x="16524" y="4563"/>
                  <a:pt x="16570" y="4490"/>
                </a:cubicBezTo>
                <a:cubicBezTo>
                  <a:pt x="16591" y="4456"/>
                  <a:pt x="16639" y="4420"/>
                  <a:pt x="16669" y="4390"/>
                </a:cubicBezTo>
                <a:cubicBezTo>
                  <a:pt x="16747" y="4440"/>
                  <a:pt x="16777" y="4481"/>
                  <a:pt x="16818" y="4564"/>
                </a:cubicBezTo>
                <a:cubicBezTo>
                  <a:pt x="16850" y="4630"/>
                  <a:pt x="16842" y="4690"/>
                  <a:pt x="16842" y="4762"/>
                </a:cubicBezTo>
                <a:cubicBezTo>
                  <a:pt x="16842" y="4828"/>
                  <a:pt x="16828" y="4861"/>
                  <a:pt x="16867" y="4887"/>
                </a:cubicBezTo>
              </a:path>
              <a:path w="5384" h="819">
                <a:moveTo>
                  <a:pt x="16892" y="4366"/>
                </a:moveTo>
                <a:cubicBezTo>
                  <a:pt x="16932" y="4320"/>
                  <a:pt x="16983" y="4215"/>
                  <a:pt x="17041" y="4192"/>
                </a:cubicBezTo>
                <a:cubicBezTo>
                  <a:pt x="17088" y="4173"/>
                  <a:pt x="17244" y="4129"/>
                  <a:pt x="17239" y="4242"/>
                </a:cubicBezTo>
                <a:cubicBezTo>
                  <a:pt x="17237" y="4290"/>
                  <a:pt x="17170" y="4402"/>
                  <a:pt x="17140" y="4440"/>
                </a:cubicBezTo>
                <a:cubicBezTo>
                  <a:pt x="17113" y="4475"/>
                  <a:pt x="17073" y="4507"/>
                  <a:pt x="17041" y="4539"/>
                </a:cubicBezTo>
                <a:cubicBezTo>
                  <a:pt x="17089" y="4491"/>
                  <a:pt x="17145" y="4458"/>
                  <a:pt x="17214" y="4514"/>
                </a:cubicBezTo>
                <a:cubicBezTo>
                  <a:pt x="17251" y="4544"/>
                  <a:pt x="17251" y="4671"/>
                  <a:pt x="17239" y="4713"/>
                </a:cubicBezTo>
                <a:cubicBezTo>
                  <a:pt x="17227" y="4757"/>
                  <a:pt x="17185" y="4840"/>
                  <a:pt x="17140" y="4862"/>
                </a:cubicBezTo>
                <a:cubicBezTo>
                  <a:pt x="17092" y="4885"/>
                  <a:pt x="16969" y="4916"/>
                  <a:pt x="16942" y="4837"/>
                </a:cubicBezTo>
                <a:cubicBezTo>
                  <a:pt x="16942" y="4820"/>
                  <a:pt x="16942" y="4804"/>
                  <a:pt x="16942" y="4787"/>
                </a:cubicBezTo>
              </a:path>
              <a:path w="5384" h="819">
                <a:moveTo>
                  <a:pt x="17413" y="4192"/>
                </a:moveTo>
                <a:cubicBezTo>
                  <a:pt x="17395" y="4331"/>
                  <a:pt x="17358" y="4455"/>
                  <a:pt x="17338" y="4589"/>
                </a:cubicBezTo>
                <a:cubicBezTo>
                  <a:pt x="17325" y="4674"/>
                  <a:pt x="17350" y="4736"/>
                  <a:pt x="17363" y="4812"/>
                </a:cubicBezTo>
                <a:cubicBezTo>
                  <a:pt x="17373" y="4874"/>
                  <a:pt x="17368" y="4868"/>
                  <a:pt x="17413" y="4911"/>
                </a:cubicBezTo>
                <a:cubicBezTo>
                  <a:pt x="17487" y="4856"/>
                  <a:pt x="17532" y="4809"/>
                  <a:pt x="17537" y="4713"/>
                </a:cubicBezTo>
                <a:cubicBezTo>
                  <a:pt x="17542" y="4622"/>
                  <a:pt x="17523" y="4547"/>
                  <a:pt x="17512" y="4465"/>
                </a:cubicBezTo>
                <a:cubicBezTo>
                  <a:pt x="17498" y="4356"/>
                  <a:pt x="17477" y="4399"/>
                  <a:pt x="17438" y="4316"/>
                </a:cubicBezTo>
                <a:cubicBezTo>
                  <a:pt x="17409" y="4254"/>
                  <a:pt x="17413" y="4207"/>
                  <a:pt x="17413" y="41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0"/>
          <p:cNvSpPr/>
          <p:nvPr/>
        </p:nvSpPr>
        <p:spPr>
          <a:xfrm>
            <a:off x="3081240" y="1946160"/>
            <a:ext cx="2463840" cy="741600"/>
          </a:xfrm>
          <a:custGeom>
            <a:avLst/>
            <a:gdLst/>
            <a:ahLst/>
            <a:rect l="l" t="t" r="r" b="b"/>
            <a:pathLst>
              <a:path w="6847" h="2060">
                <a:moveTo>
                  <a:pt x="9004" y="5507"/>
                </a:moveTo>
                <a:cubicBezTo>
                  <a:pt x="9040" y="5566"/>
                  <a:pt x="9029" y="5631"/>
                  <a:pt x="9029" y="5705"/>
                </a:cubicBezTo>
                <a:cubicBezTo>
                  <a:pt x="9029" y="5786"/>
                  <a:pt x="9051" y="5851"/>
                  <a:pt x="9054" y="5928"/>
                </a:cubicBezTo>
                <a:cubicBezTo>
                  <a:pt x="9060" y="6073"/>
                  <a:pt x="9041" y="6207"/>
                  <a:pt x="9029" y="6350"/>
                </a:cubicBezTo>
                <a:cubicBezTo>
                  <a:pt x="9019" y="6469"/>
                  <a:pt x="9021" y="6581"/>
                  <a:pt x="9004" y="6697"/>
                </a:cubicBezTo>
                <a:cubicBezTo>
                  <a:pt x="8984" y="6836"/>
                  <a:pt x="9004" y="7210"/>
                  <a:pt x="9004" y="7069"/>
                </a:cubicBezTo>
              </a:path>
              <a:path w="6847" h="2060">
                <a:moveTo>
                  <a:pt x="9575" y="6548"/>
                </a:moveTo>
                <a:cubicBezTo>
                  <a:pt x="9681" y="6548"/>
                  <a:pt x="9767" y="6535"/>
                  <a:pt x="9872" y="6524"/>
                </a:cubicBezTo>
                <a:cubicBezTo>
                  <a:pt x="9943" y="6516"/>
                  <a:pt x="10019" y="6548"/>
                  <a:pt x="10096" y="6548"/>
                </a:cubicBezTo>
                <a:cubicBezTo>
                  <a:pt x="10190" y="6548"/>
                  <a:pt x="10315" y="6569"/>
                  <a:pt x="10393" y="6524"/>
                </a:cubicBezTo>
              </a:path>
              <a:path w="6847" h="2060">
                <a:moveTo>
                  <a:pt x="10691" y="5755"/>
                </a:moveTo>
                <a:cubicBezTo>
                  <a:pt x="10691" y="5849"/>
                  <a:pt x="10675" y="5950"/>
                  <a:pt x="10716" y="6028"/>
                </a:cubicBezTo>
                <a:cubicBezTo>
                  <a:pt x="10740" y="6077"/>
                  <a:pt x="10748" y="6094"/>
                  <a:pt x="10765" y="6127"/>
                </a:cubicBezTo>
                <a:cubicBezTo>
                  <a:pt x="10765" y="6055"/>
                  <a:pt x="10744" y="6018"/>
                  <a:pt x="10740" y="5953"/>
                </a:cubicBezTo>
                <a:cubicBezTo>
                  <a:pt x="10735" y="5876"/>
                  <a:pt x="10720" y="5830"/>
                  <a:pt x="10716" y="5755"/>
                </a:cubicBezTo>
                <a:cubicBezTo>
                  <a:pt x="10712" y="5678"/>
                  <a:pt x="10742" y="5589"/>
                  <a:pt x="10790" y="5531"/>
                </a:cubicBezTo>
                <a:cubicBezTo>
                  <a:pt x="10843" y="5468"/>
                  <a:pt x="10883" y="5461"/>
                  <a:pt x="10964" y="5457"/>
                </a:cubicBezTo>
                <a:cubicBezTo>
                  <a:pt x="11039" y="5453"/>
                  <a:pt x="11101" y="5432"/>
                  <a:pt x="11187" y="5432"/>
                </a:cubicBezTo>
                <a:cubicBezTo>
                  <a:pt x="11267" y="5432"/>
                  <a:pt x="11320" y="5427"/>
                  <a:pt x="11385" y="5407"/>
                </a:cubicBezTo>
                <a:cubicBezTo>
                  <a:pt x="11393" y="5407"/>
                  <a:pt x="11402" y="5407"/>
                  <a:pt x="11410" y="5407"/>
                </a:cubicBezTo>
              </a:path>
              <a:path w="6847" h="2060">
                <a:moveTo>
                  <a:pt x="10988" y="5680"/>
                </a:moveTo>
                <a:cubicBezTo>
                  <a:pt x="11070" y="5670"/>
                  <a:pt x="11150" y="5607"/>
                  <a:pt x="11237" y="5631"/>
                </a:cubicBezTo>
                <a:cubicBezTo>
                  <a:pt x="11253" y="5639"/>
                  <a:pt x="11270" y="5647"/>
                  <a:pt x="11286" y="5655"/>
                </a:cubicBezTo>
                <a:cubicBezTo>
                  <a:pt x="11262" y="5720"/>
                  <a:pt x="11261" y="5755"/>
                  <a:pt x="11212" y="5804"/>
                </a:cubicBezTo>
                <a:cubicBezTo>
                  <a:pt x="11165" y="5851"/>
                  <a:pt x="11113" y="5864"/>
                  <a:pt x="11063" y="5904"/>
                </a:cubicBezTo>
                <a:cubicBezTo>
                  <a:pt x="11055" y="5912"/>
                  <a:pt x="11046" y="5920"/>
                  <a:pt x="11038" y="5928"/>
                </a:cubicBezTo>
                <a:cubicBezTo>
                  <a:pt x="11122" y="5940"/>
                  <a:pt x="11172" y="5969"/>
                  <a:pt x="11261" y="6003"/>
                </a:cubicBezTo>
                <a:cubicBezTo>
                  <a:pt x="11326" y="6025"/>
                  <a:pt x="11351" y="6023"/>
                  <a:pt x="11336" y="6077"/>
                </a:cubicBezTo>
                <a:cubicBezTo>
                  <a:pt x="11263" y="6114"/>
                  <a:pt x="11190" y="6140"/>
                  <a:pt x="11112" y="6152"/>
                </a:cubicBezTo>
                <a:cubicBezTo>
                  <a:pt x="11063" y="6152"/>
                  <a:pt x="11046" y="6152"/>
                  <a:pt x="11013" y="6152"/>
                </a:cubicBezTo>
              </a:path>
              <a:path w="6847" h="2060">
                <a:moveTo>
                  <a:pt x="10641" y="6226"/>
                </a:moveTo>
                <a:cubicBezTo>
                  <a:pt x="10931" y="6226"/>
                  <a:pt x="11226" y="6210"/>
                  <a:pt x="11509" y="6251"/>
                </a:cubicBezTo>
                <a:cubicBezTo>
                  <a:pt x="11551" y="6251"/>
                  <a:pt x="11576" y="6251"/>
                  <a:pt x="11534" y="6251"/>
                </a:cubicBezTo>
              </a:path>
              <a:path w="6847" h="2060">
                <a:moveTo>
                  <a:pt x="11038" y="6474"/>
                </a:moveTo>
                <a:cubicBezTo>
                  <a:pt x="11100" y="6451"/>
                  <a:pt x="11149" y="6428"/>
                  <a:pt x="11212" y="6424"/>
                </a:cubicBezTo>
                <a:cubicBezTo>
                  <a:pt x="11269" y="6421"/>
                  <a:pt x="11292" y="6422"/>
                  <a:pt x="11336" y="6449"/>
                </a:cubicBezTo>
                <a:cubicBezTo>
                  <a:pt x="11325" y="6534"/>
                  <a:pt x="11298" y="6561"/>
                  <a:pt x="11237" y="6623"/>
                </a:cubicBezTo>
                <a:cubicBezTo>
                  <a:pt x="11199" y="6661"/>
                  <a:pt x="11112" y="6776"/>
                  <a:pt x="11112" y="6722"/>
                </a:cubicBezTo>
                <a:cubicBezTo>
                  <a:pt x="11112" y="6673"/>
                  <a:pt x="11248" y="6691"/>
                  <a:pt x="11261" y="6697"/>
                </a:cubicBezTo>
                <a:cubicBezTo>
                  <a:pt x="11291" y="6711"/>
                  <a:pt x="11374" y="6758"/>
                  <a:pt x="11385" y="6796"/>
                </a:cubicBezTo>
                <a:cubicBezTo>
                  <a:pt x="11403" y="6860"/>
                  <a:pt x="11371" y="6921"/>
                  <a:pt x="11361" y="6970"/>
                </a:cubicBezTo>
                <a:cubicBezTo>
                  <a:pt x="11344" y="7056"/>
                  <a:pt x="11330" y="7041"/>
                  <a:pt x="11261" y="7094"/>
                </a:cubicBezTo>
                <a:cubicBezTo>
                  <a:pt x="11189" y="7149"/>
                  <a:pt x="11147" y="7158"/>
                  <a:pt x="11063" y="7119"/>
                </a:cubicBezTo>
                <a:cubicBezTo>
                  <a:pt x="11015" y="7095"/>
                  <a:pt x="10998" y="7089"/>
                  <a:pt x="11013" y="7045"/>
                </a:cubicBezTo>
              </a:path>
              <a:path w="6847" h="2060">
                <a:moveTo>
                  <a:pt x="11931" y="6598"/>
                </a:moveTo>
                <a:cubicBezTo>
                  <a:pt x="12014" y="6598"/>
                  <a:pt x="12076" y="6620"/>
                  <a:pt x="12154" y="6623"/>
                </a:cubicBezTo>
                <a:cubicBezTo>
                  <a:pt x="12212" y="6626"/>
                  <a:pt x="12270" y="6623"/>
                  <a:pt x="12328" y="6623"/>
                </a:cubicBezTo>
              </a:path>
              <a:path w="6847" h="2060">
                <a:moveTo>
                  <a:pt x="12750" y="5953"/>
                </a:moveTo>
                <a:cubicBezTo>
                  <a:pt x="12750" y="6085"/>
                  <a:pt x="12750" y="6218"/>
                  <a:pt x="12750" y="6350"/>
                </a:cubicBezTo>
                <a:cubicBezTo>
                  <a:pt x="12774" y="6267"/>
                  <a:pt x="12774" y="6190"/>
                  <a:pt x="12774" y="6102"/>
                </a:cubicBezTo>
                <a:cubicBezTo>
                  <a:pt x="12774" y="6039"/>
                  <a:pt x="12799" y="5999"/>
                  <a:pt x="12799" y="5928"/>
                </a:cubicBezTo>
                <a:cubicBezTo>
                  <a:pt x="12799" y="5862"/>
                  <a:pt x="12822" y="5790"/>
                  <a:pt x="12849" y="5730"/>
                </a:cubicBezTo>
                <a:cubicBezTo>
                  <a:pt x="12878" y="5664"/>
                  <a:pt x="12928" y="5562"/>
                  <a:pt x="12998" y="5531"/>
                </a:cubicBezTo>
                <a:cubicBezTo>
                  <a:pt x="13041" y="5512"/>
                  <a:pt x="13148" y="5488"/>
                  <a:pt x="13196" y="5482"/>
                </a:cubicBezTo>
                <a:cubicBezTo>
                  <a:pt x="13278" y="5471"/>
                  <a:pt x="13324" y="5497"/>
                  <a:pt x="13395" y="5507"/>
                </a:cubicBezTo>
              </a:path>
              <a:path w="6847" h="2060">
                <a:moveTo>
                  <a:pt x="13047" y="5755"/>
                </a:moveTo>
                <a:cubicBezTo>
                  <a:pt x="13100" y="5775"/>
                  <a:pt x="13158" y="5758"/>
                  <a:pt x="13221" y="5730"/>
                </a:cubicBezTo>
                <a:cubicBezTo>
                  <a:pt x="13262" y="5712"/>
                  <a:pt x="13354" y="5678"/>
                  <a:pt x="13370" y="5755"/>
                </a:cubicBezTo>
                <a:cubicBezTo>
                  <a:pt x="13387" y="5835"/>
                  <a:pt x="13315" y="5917"/>
                  <a:pt x="13246" y="5953"/>
                </a:cubicBezTo>
                <a:cubicBezTo>
                  <a:pt x="13194" y="5980"/>
                  <a:pt x="13122" y="6013"/>
                  <a:pt x="13072" y="6028"/>
                </a:cubicBezTo>
                <a:cubicBezTo>
                  <a:pt x="13064" y="6028"/>
                  <a:pt x="13055" y="6028"/>
                  <a:pt x="13047" y="6028"/>
                </a:cubicBezTo>
                <a:cubicBezTo>
                  <a:pt x="13119" y="6028"/>
                  <a:pt x="13195" y="6012"/>
                  <a:pt x="13246" y="6077"/>
                </a:cubicBezTo>
                <a:cubicBezTo>
                  <a:pt x="13282" y="6123"/>
                  <a:pt x="13361" y="6199"/>
                  <a:pt x="13295" y="6251"/>
                </a:cubicBezTo>
                <a:cubicBezTo>
                  <a:pt x="13236" y="6297"/>
                  <a:pt x="13142" y="6276"/>
                  <a:pt x="13072" y="6276"/>
                </a:cubicBezTo>
                <a:cubicBezTo>
                  <a:pt x="13022" y="6276"/>
                  <a:pt x="12989" y="6276"/>
                  <a:pt x="12948" y="6276"/>
                </a:cubicBezTo>
              </a:path>
              <a:path w="6847" h="2060">
                <a:moveTo>
                  <a:pt x="12675" y="6400"/>
                </a:moveTo>
                <a:cubicBezTo>
                  <a:pt x="12861" y="6400"/>
                  <a:pt x="13040" y="6408"/>
                  <a:pt x="13221" y="6424"/>
                </a:cubicBezTo>
                <a:cubicBezTo>
                  <a:pt x="13285" y="6430"/>
                  <a:pt x="13354" y="6424"/>
                  <a:pt x="13419" y="6424"/>
                </a:cubicBezTo>
              </a:path>
              <a:path w="6847" h="2060">
                <a:moveTo>
                  <a:pt x="12849" y="6623"/>
                </a:moveTo>
                <a:cubicBezTo>
                  <a:pt x="12928" y="6613"/>
                  <a:pt x="12988" y="6598"/>
                  <a:pt x="13072" y="6598"/>
                </a:cubicBezTo>
                <a:cubicBezTo>
                  <a:pt x="13124" y="6598"/>
                  <a:pt x="13142" y="6599"/>
                  <a:pt x="13171" y="6623"/>
                </a:cubicBezTo>
                <a:cubicBezTo>
                  <a:pt x="13143" y="6658"/>
                  <a:pt x="13117" y="6727"/>
                  <a:pt x="13072" y="6747"/>
                </a:cubicBezTo>
                <a:cubicBezTo>
                  <a:pt x="13039" y="6747"/>
                  <a:pt x="13023" y="6747"/>
                  <a:pt x="12998" y="6747"/>
                </a:cubicBezTo>
                <a:cubicBezTo>
                  <a:pt x="13076" y="6800"/>
                  <a:pt x="13133" y="6812"/>
                  <a:pt x="13196" y="6896"/>
                </a:cubicBezTo>
                <a:cubicBezTo>
                  <a:pt x="13233" y="6945"/>
                  <a:pt x="13267" y="6986"/>
                  <a:pt x="13271" y="7045"/>
                </a:cubicBezTo>
                <a:cubicBezTo>
                  <a:pt x="13277" y="7143"/>
                  <a:pt x="13212" y="7176"/>
                  <a:pt x="13122" y="7193"/>
                </a:cubicBezTo>
                <a:cubicBezTo>
                  <a:pt x="13069" y="7203"/>
                  <a:pt x="12941" y="7212"/>
                  <a:pt x="12898" y="7169"/>
                </a:cubicBezTo>
                <a:cubicBezTo>
                  <a:pt x="12898" y="7161"/>
                  <a:pt x="12898" y="7152"/>
                  <a:pt x="12898" y="7144"/>
                </a:cubicBezTo>
              </a:path>
              <a:path w="6847" h="2060">
                <a:moveTo>
                  <a:pt x="14213" y="6400"/>
                </a:moveTo>
                <a:cubicBezTo>
                  <a:pt x="14206" y="6536"/>
                  <a:pt x="14168" y="6638"/>
                  <a:pt x="14163" y="6772"/>
                </a:cubicBezTo>
                <a:cubicBezTo>
                  <a:pt x="14160" y="6847"/>
                  <a:pt x="14162" y="6902"/>
                  <a:pt x="14188" y="6970"/>
                </a:cubicBezTo>
              </a:path>
              <a:path w="6847" h="2060">
                <a:moveTo>
                  <a:pt x="13940" y="6648"/>
                </a:moveTo>
                <a:cubicBezTo>
                  <a:pt x="14056" y="6648"/>
                  <a:pt x="14172" y="6648"/>
                  <a:pt x="14288" y="6648"/>
                </a:cubicBezTo>
              </a:path>
              <a:path w="6847" h="2060">
                <a:moveTo>
                  <a:pt x="15081" y="5755"/>
                </a:moveTo>
                <a:cubicBezTo>
                  <a:pt x="15103" y="5883"/>
                  <a:pt x="15096" y="5938"/>
                  <a:pt x="15081" y="6052"/>
                </a:cubicBezTo>
                <a:cubicBezTo>
                  <a:pt x="15067" y="6156"/>
                  <a:pt x="15116" y="6285"/>
                  <a:pt x="15106" y="6375"/>
                </a:cubicBezTo>
                <a:cubicBezTo>
                  <a:pt x="15098" y="6391"/>
                  <a:pt x="15089" y="6408"/>
                  <a:pt x="15081" y="6424"/>
                </a:cubicBezTo>
              </a:path>
              <a:path w="6847" h="2060">
                <a:moveTo>
                  <a:pt x="14734" y="6449"/>
                </a:moveTo>
                <a:cubicBezTo>
                  <a:pt x="14837" y="6421"/>
                  <a:pt x="14879" y="6445"/>
                  <a:pt x="14982" y="6449"/>
                </a:cubicBezTo>
                <a:cubicBezTo>
                  <a:pt x="15122" y="6455"/>
                  <a:pt x="15264" y="6449"/>
                  <a:pt x="15404" y="6449"/>
                </a:cubicBezTo>
              </a:path>
              <a:path w="6847" h="2060">
                <a:moveTo>
                  <a:pt x="14982" y="6747"/>
                </a:moveTo>
                <a:cubicBezTo>
                  <a:pt x="15047" y="6738"/>
                  <a:pt x="15126" y="6705"/>
                  <a:pt x="15180" y="6697"/>
                </a:cubicBezTo>
                <a:cubicBezTo>
                  <a:pt x="15206" y="6693"/>
                  <a:pt x="15332" y="6714"/>
                  <a:pt x="15329" y="6772"/>
                </a:cubicBezTo>
                <a:cubicBezTo>
                  <a:pt x="15324" y="6870"/>
                  <a:pt x="15243" y="6897"/>
                  <a:pt x="15180" y="6945"/>
                </a:cubicBezTo>
                <a:cubicBezTo>
                  <a:pt x="15151" y="6975"/>
                  <a:pt x="15137" y="6987"/>
                  <a:pt x="15106" y="6995"/>
                </a:cubicBezTo>
                <a:cubicBezTo>
                  <a:pt x="15180" y="7028"/>
                  <a:pt x="15256" y="7047"/>
                  <a:pt x="15304" y="7119"/>
                </a:cubicBezTo>
                <a:cubicBezTo>
                  <a:pt x="15346" y="7182"/>
                  <a:pt x="15378" y="7249"/>
                  <a:pt x="15329" y="7317"/>
                </a:cubicBezTo>
                <a:cubicBezTo>
                  <a:pt x="15296" y="7363"/>
                  <a:pt x="15237" y="7451"/>
                  <a:pt x="15180" y="7466"/>
                </a:cubicBezTo>
                <a:cubicBezTo>
                  <a:pt x="15099" y="7488"/>
                  <a:pt x="15006" y="7441"/>
                  <a:pt x="14932" y="7417"/>
                </a:cubicBezTo>
              </a:path>
              <a:path w="6847" h="2060">
                <a:moveTo>
                  <a:pt x="8682" y="5680"/>
                </a:moveTo>
                <a:cubicBezTo>
                  <a:pt x="8733" y="5651"/>
                  <a:pt x="8796" y="5591"/>
                  <a:pt x="8855" y="5581"/>
                </a:cubicBezTo>
                <a:cubicBezTo>
                  <a:pt x="8943" y="5566"/>
                  <a:pt x="8990" y="5551"/>
                  <a:pt x="9079" y="5581"/>
                </a:cubicBezTo>
                <a:cubicBezTo>
                  <a:pt x="9057" y="5682"/>
                  <a:pt x="9029" y="5752"/>
                  <a:pt x="8954" y="5829"/>
                </a:cubicBezTo>
                <a:cubicBezTo>
                  <a:pt x="8919" y="5865"/>
                  <a:pt x="8900" y="5879"/>
                  <a:pt x="8855" y="5904"/>
                </a:cubicBezTo>
                <a:cubicBezTo>
                  <a:pt x="8944" y="5914"/>
                  <a:pt x="9021" y="5939"/>
                  <a:pt x="9103" y="5978"/>
                </a:cubicBezTo>
                <a:cubicBezTo>
                  <a:pt x="9120" y="5986"/>
                  <a:pt x="9136" y="5995"/>
                  <a:pt x="9153" y="6003"/>
                </a:cubicBezTo>
                <a:cubicBezTo>
                  <a:pt x="9088" y="6093"/>
                  <a:pt x="9044" y="6050"/>
                  <a:pt x="8954" y="6102"/>
                </a:cubicBezTo>
                <a:cubicBezTo>
                  <a:pt x="8913" y="6126"/>
                  <a:pt x="8879" y="6134"/>
                  <a:pt x="8830" y="6152"/>
                </a:cubicBezTo>
              </a:path>
              <a:path w="6847" h="2060">
                <a:moveTo>
                  <a:pt x="8558" y="6276"/>
                </a:moveTo>
                <a:cubicBezTo>
                  <a:pt x="8644" y="6252"/>
                  <a:pt x="8722" y="6246"/>
                  <a:pt x="8806" y="6226"/>
                </a:cubicBezTo>
                <a:cubicBezTo>
                  <a:pt x="8913" y="6201"/>
                  <a:pt x="9024" y="6168"/>
                  <a:pt x="9128" y="6152"/>
                </a:cubicBezTo>
                <a:cubicBezTo>
                  <a:pt x="9167" y="6146"/>
                  <a:pt x="9212" y="6152"/>
                  <a:pt x="9252" y="6152"/>
                </a:cubicBezTo>
              </a:path>
              <a:path w="6847" h="2060">
                <a:moveTo>
                  <a:pt x="8682" y="6449"/>
                </a:moveTo>
                <a:cubicBezTo>
                  <a:pt x="8719" y="6468"/>
                  <a:pt x="8796" y="6442"/>
                  <a:pt x="8855" y="6424"/>
                </a:cubicBezTo>
                <a:cubicBezTo>
                  <a:pt x="8883" y="6415"/>
                  <a:pt x="9033" y="6366"/>
                  <a:pt x="9029" y="6449"/>
                </a:cubicBezTo>
                <a:cubicBezTo>
                  <a:pt x="9026" y="6502"/>
                  <a:pt x="8975" y="6569"/>
                  <a:pt x="8930" y="6598"/>
                </a:cubicBezTo>
                <a:cubicBezTo>
                  <a:pt x="8880" y="6623"/>
                  <a:pt x="8863" y="6631"/>
                  <a:pt x="8830" y="6648"/>
                </a:cubicBezTo>
                <a:cubicBezTo>
                  <a:pt x="8916" y="6648"/>
                  <a:pt x="8978" y="6652"/>
                  <a:pt x="9054" y="6697"/>
                </a:cubicBezTo>
                <a:cubicBezTo>
                  <a:pt x="9091" y="6719"/>
                  <a:pt x="9161" y="6780"/>
                  <a:pt x="9153" y="6821"/>
                </a:cubicBezTo>
                <a:cubicBezTo>
                  <a:pt x="9139" y="6892"/>
                  <a:pt x="9022" y="6900"/>
                  <a:pt x="8979" y="6921"/>
                </a:cubicBezTo>
                <a:cubicBezTo>
                  <a:pt x="8929" y="6945"/>
                  <a:pt x="8843" y="6964"/>
                  <a:pt x="8781" y="6945"/>
                </a:cubicBezTo>
                <a:cubicBezTo>
                  <a:pt x="8758" y="6923"/>
                  <a:pt x="8753" y="6915"/>
                  <a:pt x="8731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1"/>
          <p:cNvSpPr/>
          <p:nvPr/>
        </p:nvSpPr>
        <p:spPr>
          <a:xfrm>
            <a:off x="6429240" y="1982880"/>
            <a:ext cx="2330640" cy="1374840"/>
          </a:xfrm>
          <a:custGeom>
            <a:avLst/>
            <a:gdLst/>
            <a:ahLst/>
            <a:rect l="l" t="t" r="r" b="b"/>
            <a:pathLst>
              <a:path w="6475" h="3821">
                <a:moveTo>
                  <a:pt x="17859" y="6449"/>
                </a:moveTo>
                <a:cubicBezTo>
                  <a:pt x="17967" y="6430"/>
                  <a:pt x="18049" y="6424"/>
                  <a:pt x="18157" y="6424"/>
                </a:cubicBezTo>
                <a:cubicBezTo>
                  <a:pt x="18279" y="6424"/>
                  <a:pt x="18383" y="6413"/>
                  <a:pt x="18504" y="6400"/>
                </a:cubicBezTo>
                <a:cubicBezTo>
                  <a:pt x="18589" y="6391"/>
                  <a:pt x="18664" y="6375"/>
                  <a:pt x="18752" y="6375"/>
                </a:cubicBezTo>
                <a:cubicBezTo>
                  <a:pt x="18874" y="6375"/>
                  <a:pt x="18979" y="6339"/>
                  <a:pt x="19100" y="6325"/>
                </a:cubicBezTo>
                <a:cubicBezTo>
                  <a:pt x="19199" y="6314"/>
                  <a:pt x="19299" y="6286"/>
                  <a:pt x="19397" y="6276"/>
                </a:cubicBezTo>
                <a:cubicBezTo>
                  <a:pt x="19521" y="6263"/>
                  <a:pt x="19645" y="6215"/>
                  <a:pt x="19769" y="6201"/>
                </a:cubicBezTo>
                <a:cubicBezTo>
                  <a:pt x="19878" y="6188"/>
                  <a:pt x="19987" y="6168"/>
                  <a:pt x="20092" y="6152"/>
                </a:cubicBezTo>
                <a:cubicBezTo>
                  <a:pt x="20139" y="6145"/>
                  <a:pt x="20194" y="6152"/>
                  <a:pt x="20241" y="6152"/>
                </a:cubicBezTo>
              </a:path>
              <a:path w="6475" h="3821">
                <a:moveTo>
                  <a:pt x="17859" y="5904"/>
                </a:moveTo>
                <a:cubicBezTo>
                  <a:pt x="17914" y="5936"/>
                  <a:pt x="17966" y="5928"/>
                  <a:pt x="18033" y="5928"/>
                </a:cubicBezTo>
                <a:cubicBezTo>
                  <a:pt x="18106" y="5928"/>
                  <a:pt x="18161" y="5907"/>
                  <a:pt x="18231" y="5904"/>
                </a:cubicBezTo>
                <a:cubicBezTo>
                  <a:pt x="18297" y="5901"/>
                  <a:pt x="18333" y="5926"/>
                  <a:pt x="18355" y="5904"/>
                </a:cubicBezTo>
              </a:path>
              <a:path w="6475" h="3821">
                <a:moveTo>
                  <a:pt x="18752" y="5531"/>
                </a:moveTo>
                <a:cubicBezTo>
                  <a:pt x="18860" y="5510"/>
                  <a:pt x="18837" y="5527"/>
                  <a:pt x="18926" y="5581"/>
                </a:cubicBezTo>
                <a:cubicBezTo>
                  <a:pt x="18948" y="5594"/>
                  <a:pt x="19078" y="5640"/>
                  <a:pt x="19075" y="5680"/>
                </a:cubicBezTo>
                <a:cubicBezTo>
                  <a:pt x="19069" y="5770"/>
                  <a:pt x="18972" y="5794"/>
                  <a:pt x="18926" y="5854"/>
                </a:cubicBezTo>
                <a:cubicBezTo>
                  <a:pt x="18877" y="5919"/>
                  <a:pt x="18843" y="5952"/>
                  <a:pt x="18777" y="6003"/>
                </a:cubicBezTo>
                <a:cubicBezTo>
                  <a:pt x="18725" y="6043"/>
                  <a:pt x="18721" y="6112"/>
                  <a:pt x="18678" y="6152"/>
                </a:cubicBezTo>
                <a:cubicBezTo>
                  <a:pt x="18647" y="6180"/>
                  <a:pt x="18610" y="6194"/>
                  <a:pt x="18579" y="6226"/>
                </a:cubicBezTo>
                <a:cubicBezTo>
                  <a:pt x="18637" y="6261"/>
                  <a:pt x="18680" y="6272"/>
                  <a:pt x="18752" y="6276"/>
                </a:cubicBezTo>
                <a:cubicBezTo>
                  <a:pt x="18810" y="6276"/>
                  <a:pt x="18835" y="6276"/>
                  <a:pt x="18876" y="6276"/>
                </a:cubicBezTo>
              </a:path>
              <a:path w="6475" h="3821">
                <a:moveTo>
                  <a:pt x="19124" y="5829"/>
                </a:moveTo>
                <a:cubicBezTo>
                  <a:pt x="19124" y="5917"/>
                  <a:pt x="19135" y="5981"/>
                  <a:pt x="19149" y="6052"/>
                </a:cubicBezTo>
                <a:cubicBezTo>
                  <a:pt x="19160" y="6104"/>
                  <a:pt x="19166" y="6123"/>
                  <a:pt x="19174" y="6176"/>
                </a:cubicBezTo>
                <a:cubicBezTo>
                  <a:pt x="19162" y="6152"/>
                  <a:pt x="19120" y="6025"/>
                  <a:pt x="19124" y="6003"/>
                </a:cubicBezTo>
                <a:cubicBezTo>
                  <a:pt x="19136" y="5943"/>
                  <a:pt x="19165" y="5848"/>
                  <a:pt x="19174" y="5779"/>
                </a:cubicBezTo>
                <a:cubicBezTo>
                  <a:pt x="19186" y="5689"/>
                  <a:pt x="19187" y="5692"/>
                  <a:pt x="19248" y="5631"/>
                </a:cubicBezTo>
                <a:cubicBezTo>
                  <a:pt x="19313" y="5566"/>
                  <a:pt x="19338" y="5580"/>
                  <a:pt x="19422" y="5556"/>
                </a:cubicBezTo>
                <a:cubicBezTo>
                  <a:pt x="19502" y="5533"/>
                  <a:pt x="19558" y="5531"/>
                  <a:pt x="19645" y="5531"/>
                </a:cubicBezTo>
                <a:cubicBezTo>
                  <a:pt x="19687" y="5531"/>
                  <a:pt x="19695" y="5531"/>
                  <a:pt x="19720" y="5531"/>
                </a:cubicBezTo>
              </a:path>
              <a:path w="6475" h="3821">
                <a:moveTo>
                  <a:pt x="19472" y="5680"/>
                </a:moveTo>
                <a:cubicBezTo>
                  <a:pt x="19536" y="5713"/>
                  <a:pt x="19605" y="5680"/>
                  <a:pt x="19670" y="5705"/>
                </a:cubicBezTo>
                <a:cubicBezTo>
                  <a:pt x="19693" y="5714"/>
                  <a:pt x="19727" y="5761"/>
                  <a:pt x="19745" y="5779"/>
                </a:cubicBezTo>
                <a:cubicBezTo>
                  <a:pt x="19710" y="5814"/>
                  <a:pt x="19672" y="5867"/>
                  <a:pt x="19621" y="5879"/>
                </a:cubicBezTo>
                <a:cubicBezTo>
                  <a:pt x="19576" y="5879"/>
                  <a:pt x="19563" y="5876"/>
                  <a:pt x="19546" y="5904"/>
                </a:cubicBezTo>
                <a:cubicBezTo>
                  <a:pt x="19628" y="5904"/>
                  <a:pt x="19653" y="5912"/>
                  <a:pt x="19720" y="5953"/>
                </a:cubicBezTo>
                <a:cubicBezTo>
                  <a:pt x="19793" y="5997"/>
                  <a:pt x="19808" y="6001"/>
                  <a:pt x="19769" y="6077"/>
                </a:cubicBezTo>
                <a:cubicBezTo>
                  <a:pt x="19727" y="6158"/>
                  <a:pt x="19660" y="6189"/>
                  <a:pt x="19571" y="6201"/>
                </a:cubicBezTo>
                <a:cubicBezTo>
                  <a:pt x="19506" y="6209"/>
                  <a:pt x="19412" y="6206"/>
                  <a:pt x="19348" y="6226"/>
                </a:cubicBezTo>
                <a:cubicBezTo>
                  <a:pt x="19340" y="6234"/>
                  <a:pt x="19331" y="6243"/>
                  <a:pt x="19323" y="6251"/>
                </a:cubicBezTo>
              </a:path>
              <a:path w="6475" h="3821">
                <a:moveTo>
                  <a:pt x="20117" y="8161"/>
                </a:moveTo>
                <a:cubicBezTo>
                  <a:pt x="20200" y="8161"/>
                  <a:pt x="20264" y="8149"/>
                  <a:pt x="20340" y="8136"/>
                </a:cubicBezTo>
                <a:cubicBezTo>
                  <a:pt x="20390" y="8128"/>
                  <a:pt x="20440" y="8155"/>
                  <a:pt x="20489" y="8161"/>
                </a:cubicBezTo>
              </a:path>
              <a:path w="6475" h="3821">
                <a:moveTo>
                  <a:pt x="20017" y="8285"/>
                </a:moveTo>
                <a:cubicBezTo>
                  <a:pt x="20084" y="8338"/>
                  <a:pt x="20115" y="8317"/>
                  <a:pt x="20191" y="8334"/>
                </a:cubicBezTo>
                <a:cubicBezTo>
                  <a:pt x="20279" y="8353"/>
                  <a:pt x="20348" y="8359"/>
                  <a:pt x="20439" y="8359"/>
                </a:cubicBezTo>
              </a:path>
              <a:path w="6475" h="3821">
                <a:moveTo>
                  <a:pt x="20811" y="7317"/>
                </a:moveTo>
                <a:cubicBezTo>
                  <a:pt x="20811" y="7408"/>
                  <a:pt x="20821" y="7489"/>
                  <a:pt x="20836" y="7565"/>
                </a:cubicBezTo>
                <a:cubicBezTo>
                  <a:pt x="20856" y="7663"/>
                  <a:pt x="20868" y="7668"/>
                  <a:pt x="20960" y="7714"/>
                </a:cubicBezTo>
                <a:cubicBezTo>
                  <a:pt x="21009" y="7738"/>
                  <a:pt x="21031" y="7739"/>
                  <a:pt x="21084" y="7739"/>
                </a:cubicBezTo>
              </a:path>
              <a:path w="6475" h="3821">
                <a:moveTo>
                  <a:pt x="21183" y="7243"/>
                </a:moveTo>
                <a:cubicBezTo>
                  <a:pt x="21154" y="7292"/>
                  <a:pt x="21143" y="7379"/>
                  <a:pt x="21134" y="7441"/>
                </a:cubicBezTo>
                <a:cubicBezTo>
                  <a:pt x="21105" y="7648"/>
                  <a:pt x="21134" y="7877"/>
                  <a:pt x="21134" y="8086"/>
                </a:cubicBezTo>
              </a:path>
              <a:path w="6475" h="3821">
                <a:moveTo>
                  <a:pt x="21208" y="7714"/>
                </a:moveTo>
                <a:cubicBezTo>
                  <a:pt x="21296" y="7706"/>
                  <a:pt x="21365" y="7689"/>
                  <a:pt x="21456" y="7689"/>
                </a:cubicBezTo>
                <a:cubicBezTo>
                  <a:pt x="21473" y="7689"/>
                  <a:pt x="21489" y="7689"/>
                  <a:pt x="21506" y="7689"/>
                </a:cubicBezTo>
              </a:path>
              <a:path w="6475" h="3821">
                <a:moveTo>
                  <a:pt x="21679" y="7417"/>
                </a:moveTo>
                <a:cubicBezTo>
                  <a:pt x="21729" y="7345"/>
                  <a:pt x="21754" y="7289"/>
                  <a:pt x="21853" y="7317"/>
                </a:cubicBezTo>
                <a:cubicBezTo>
                  <a:pt x="21925" y="7337"/>
                  <a:pt x="21991" y="7383"/>
                  <a:pt x="21977" y="7466"/>
                </a:cubicBezTo>
                <a:cubicBezTo>
                  <a:pt x="21968" y="7520"/>
                  <a:pt x="21926" y="7631"/>
                  <a:pt x="21878" y="7665"/>
                </a:cubicBezTo>
                <a:cubicBezTo>
                  <a:pt x="21810" y="7713"/>
                  <a:pt x="21793" y="7761"/>
                  <a:pt x="21754" y="7838"/>
                </a:cubicBezTo>
                <a:cubicBezTo>
                  <a:pt x="21721" y="7903"/>
                  <a:pt x="21704" y="7952"/>
                  <a:pt x="21729" y="8012"/>
                </a:cubicBezTo>
                <a:cubicBezTo>
                  <a:pt x="21767" y="8105"/>
                  <a:pt x="21877" y="8062"/>
                  <a:pt x="21952" y="8037"/>
                </a:cubicBezTo>
              </a:path>
              <a:path w="6475" h="3821">
                <a:moveTo>
                  <a:pt x="22151" y="7615"/>
                </a:moveTo>
                <a:cubicBezTo>
                  <a:pt x="22119" y="7700"/>
                  <a:pt x="22126" y="7769"/>
                  <a:pt x="22126" y="7863"/>
                </a:cubicBezTo>
                <a:cubicBezTo>
                  <a:pt x="22126" y="7946"/>
                  <a:pt x="22141" y="7989"/>
                  <a:pt x="22151" y="8062"/>
                </a:cubicBezTo>
                <a:cubicBezTo>
                  <a:pt x="22186" y="8002"/>
                  <a:pt x="22175" y="7937"/>
                  <a:pt x="22175" y="7863"/>
                </a:cubicBezTo>
                <a:cubicBezTo>
                  <a:pt x="22175" y="7781"/>
                  <a:pt x="22192" y="7714"/>
                  <a:pt x="22200" y="7640"/>
                </a:cubicBezTo>
                <a:cubicBezTo>
                  <a:pt x="22212" y="7529"/>
                  <a:pt x="22226" y="7467"/>
                  <a:pt x="22275" y="7367"/>
                </a:cubicBezTo>
                <a:cubicBezTo>
                  <a:pt x="22311" y="7293"/>
                  <a:pt x="22350" y="7280"/>
                  <a:pt x="22423" y="7243"/>
                </a:cubicBezTo>
                <a:cubicBezTo>
                  <a:pt x="22472" y="7218"/>
                  <a:pt x="22544" y="7154"/>
                  <a:pt x="22597" y="7144"/>
                </a:cubicBezTo>
                <a:cubicBezTo>
                  <a:pt x="22663" y="7144"/>
                  <a:pt x="22680" y="7144"/>
                  <a:pt x="22721" y="7144"/>
                </a:cubicBezTo>
              </a:path>
              <a:path w="6475" h="3821">
                <a:moveTo>
                  <a:pt x="22498" y="7417"/>
                </a:moveTo>
                <a:cubicBezTo>
                  <a:pt x="22592" y="7454"/>
                  <a:pt x="22686" y="7465"/>
                  <a:pt x="22771" y="7516"/>
                </a:cubicBezTo>
                <a:cubicBezTo>
                  <a:pt x="22797" y="7532"/>
                  <a:pt x="22823" y="7568"/>
                  <a:pt x="22845" y="7590"/>
                </a:cubicBezTo>
                <a:cubicBezTo>
                  <a:pt x="22810" y="7620"/>
                  <a:pt x="22741" y="7701"/>
                  <a:pt x="22696" y="7714"/>
                </a:cubicBezTo>
                <a:cubicBezTo>
                  <a:pt x="22656" y="7726"/>
                  <a:pt x="22548" y="7739"/>
                  <a:pt x="22622" y="7813"/>
                </a:cubicBezTo>
                <a:cubicBezTo>
                  <a:pt x="22680" y="7872"/>
                  <a:pt x="22768" y="7863"/>
                  <a:pt x="22796" y="7962"/>
                </a:cubicBezTo>
                <a:cubicBezTo>
                  <a:pt x="22811" y="8015"/>
                  <a:pt x="22721" y="8077"/>
                  <a:pt x="22671" y="8086"/>
                </a:cubicBezTo>
                <a:cubicBezTo>
                  <a:pt x="22603" y="8086"/>
                  <a:pt x="22584" y="8083"/>
                  <a:pt x="22547" y="8111"/>
                </a:cubicBezTo>
              </a:path>
              <a:path w="6475" h="3821">
                <a:moveTo>
                  <a:pt x="21382" y="8260"/>
                </a:moveTo>
                <a:cubicBezTo>
                  <a:pt x="21488" y="8300"/>
                  <a:pt x="21557" y="8306"/>
                  <a:pt x="21679" y="8310"/>
                </a:cubicBezTo>
                <a:cubicBezTo>
                  <a:pt x="21847" y="8315"/>
                  <a:pt x="22014" y="8311"/>
                  <a:pt x="22175" y="8334"/>
                </a:cubicBezTo>
                <a:cubicBezTo>
                  <a:pt x="22239" y="8343"/>
                  <a:pt x="22309" y="8334"/>
                  <a:pt x="22374" y="8334"/>
                </a:cubicBezTo>
              </a:path>
              <a:path w="6475" h="3821">
                <a:moveTo>
                  <a:pt x="21903" y="8483"/>
                </a:moveTo>
                <a:cubicBezTo>
                  <a:pt x="21962" y="8543"/>
                  <a:pt x="21989" y="8533"/>
                  <a:pt x="22076" y="8533"/>
                </a:cubicBezTo>
                <a:cubicBezTo>
                  <a:pt x="22101" y="8533"/>
                  <a:pt x="22202" y="8562"/>
                  <a:pt x="22200" y="8607"/>
                </a:cubicBezTo>
                <a:cubicBezTo>
                  <a:pt x="22196" y="8681"/>
                  <a:pt x="22107" y="8773"/>
                  <a:pt x="22051" y="8806"/>
                </a:cubicBezTo>
                <a:cubicBezTo>
                  <a:pt x="22008" y="8831"/>
                  <a:pt x="21987" y="8845"/>
                  <a:pt x="21952" y="8880"/>
                </a:cubicBezTo>
                <a:cubicBezTo>
                  <a:pt x="22026" y="8930"/>
                  <a:pt x="22096" y="8919"/>
                  <a:pt x="22175" y="8954"/>
                </a:cubicBezTo>
                <a:cubicBezTo>
                  <a:pt x="22265" y="8994"/>
                  <a:pt x="22347" y="9027"/>
                  <a:pt x="22275" y="9128"/>
                </a:cubicBezTo>
                <a:cubicBezTo>
                  <a:pt x="22231" y="9190"/>
                  <a:pt x="22110" y="9225"/>
                  <a:pt x="22051" y="9252"/>
                </a:cubicBezTo>
                <a:cubicBezTo>
                  <a:pt x="21985" y="9282"/>
                  <a:pt x="21940" y="9278"/>
                  <a:pt x="21878" y="9302"/>
                </a:cubicBezTo>
                <a:cubicBezTo>
                  <a:pt x="21855" y="9325"/>
                  <a:pt x="21851" y="9333"/>
                  <a:pt x="21828" y="9327"/>
                </a:cubicBezTo>
              </a:path>
              <a:path w="6475" h="3821">
                <a:moveTo>
                  <a:pt x="22994" y="8285"/>
                </a:moveTo>
                <a:cubicBezTo>
                  <a:pt x="22961" y="8317"/>
                  <a:pt x="22961" y="8343"/>
                  <a:pt x="22944" y="8310"/>
                </a:cubicBezTo>
              </a:path>
              <a:path w="6475" h="3821">
                <a:moveTo>
                  <a:pt x="23515" y="7317"/>
                </a:moveTo>
                <a:cubicBezTo>
                  <a:pt x="23545" y="7258"/>
                  <a:pt x="23567" y="7215"/>
                  <a:pt x="23614" y="7169"/>
                </a:cubicBezTo>
                <a:cubicBezTo>
                  <a:pt x="23646" y="7138"/>
                  <a:pt x="23788" y="7090"/>
                  <a:pt x="23837" y="7094"/>
                </a:cubicBezTo>
                <a:cubicBezTo>
                  <a:pt x="23897" y="7099"/>
                  <a:pt x="24025" y="7113"/>
                  <a:pt x="24011" y="7193"/>
                </a:cubicBezTo>
                <a:cubicBezTo>
                  <a:pt x="23999" y="7263"/>
                  <a:pt x="23934" y="7282"/>
                  <a:pt x="23887" y="7317"/>
                </a:cubicBezTo>
                <a:cubicBezTo>
                  <a:pt x="23843" y="7350"/>
                  <a:pt x="23821" y="7400"/>
                  <a:pt x="23788" y="7441"/>
                </a:cubicBezTo>
                <a:cubicBezTo>
                  <a:pt x="23841" y="7474"/>
                  <a:pt x="23901" y="7471"/>
                  <a:pt x="23961" y="7491"/>
                </a:cubicBezTo>
                <a:cubicBezTo>
                  <a:pt x="24043" y="7519"/>
                  <a:pt x="24063" y="7553"/>
                  <a:pt x="24110" y="7615"/>
                </a:cubicBezTo>
                <a:cubicBezTo>
                  <a:pt x="24161" y="7683"/>
                  <a:pt x="24085" y="7702"/>
                  <a:pt x="24036" y="7739"/>
                </a:cubicBezTo>
                <a:cubicBezTo>
                  <a:pt x="23976" y="7784"/>
                  <a:pt x="23910" y="7823"/>
                  <a:pt x="23837" y="7838"/>
                </a:cubicBezTo>
              </a:path>
              <a:path w="6475" h="3821">
                <a:moveTo>
                  <a:pt x="23465" y="8210"/>
                </a:moveTo>
                <a:cubicBezTo>
                  <a:pt x="23651" y="8210"/>
                  <a:pt x="23830" y="8210"/>
                  <a:pt x="24011" y="8186"/>
                </a:cubicBezTo>
                <a:cubicBezTo>
                  <a:pt x="24103" y="8174"/>
                  <a:pt x="24204" y="8176"/>
                  <a:pt x="24284" y="8161"/>
                </a:cubicBezTo>
                <a:cubicBezTo>
                  <a:pt x="24300" y="8161"/>
                  <a:pt x="24317" y="8161"/>
                  <a:pt x="24333" y="8161"/>
                </a:cubicBezTo>
              </a:path>
              <a:path w="6475" h="3821">
                <a:moveTo>
                  <a:pt x="23812" y="8384"/>
                </a:moveTo>
                <a:cubicBezTo>
                  <a:pt x="23842" y="8473"/>
                  <a:pt x="23869" y="8414"/>
                  <a:pt x="23961" y="8409"/>
                </a:cubicBezTo>
                <a:cubicBezTo>
                  <a:pt x="24042" y="8404"/>
                  <a:pt x="24138" y="8391"/>
                  <a:pt x="24209" y="8434"/>
                </a:cubicBezTo>
                <a:cubicBezTo>
                  <a:pt x="24279" y="8477"/>
                  <a:pt x="24197" y="8597"/>
                  <a:pt x="24160" y="8632"/>
                </a:cubicBezTo>
                <a:cubicBezTo>
                  <a:pt x="24104" y="8684"/>
                  <a:pt x="24051" y="8757"/>
                  <a:pt x="23986" y="8806"/>
                </a:cubicBezTo>
                <a:cubicBezTo>
                  <a:pt x="23921" y="8855"/>
                  <a:pt x="23892" y="8898"/>
                  <a:pt x="23837" y="8954"/>
                </a:cubicBezTo>
                <a:cubicBezTo>
                  <a:pt x="23799" y="8992"/>
                  <a:pt x="23726" y="9046"/>
                  <a:pt x="23713" y="9103"/>
                </a:cubicBezTo>
                <a:cubicBezTo>
                  <a:pt x="23713" y="9120"/>
                  <a:pt x="23713" y="9136"/>
                  <a:pt x="23713" y="9153"/>
                </a:cubicBezTo>
                <a:cubicBezTo>
                  <a:pt x="23757" y="9179"/>
                  <a:pt x="23830" y="9194"/>
                  <a:pt x="23887" y="9178"/>
                </a:cubicBezTo>
                <a:cubicBezTo>
                  <a:pt x="23961" y="9158"/>
                  <a:pt x="24186" y="9153"/>
                  <a:pt x="24110" y="9153"/>
                </a:cubicBezTo>
                <a:cubicBezTo>
                  <a:pt x="23995" y="9153"/>
                  <a:pt x="24107" y="9153"/>
                  <a:pt x="24135" y="9153"/>
                </a:cubicBezTo>
              </a:path>
              <a:path w="6475" h="3821">
                <a:moveTo>
                  <a:pt x="21530" y="9327"/>
                </a:moveTo>
                <a:cubicBezTo>
                  <a:pt x="21562" y="9277"/>
                  <a:pt x="21604" y="9164"/>
                  <a:pt x="21654" y="9128"/>
                </a:cubicBezTo>
                <a:cubicBezTo>
                  <a:pt x="21715" y="9084"/>
                  <a:pt x="21767" y="9023"/>
                  <a:pt x="21828" y="8979"/>
                </a:cubicBezTo>
                <a:cubicBezTo>
                  <a:pt x="21916" y="8916"/>
                  <a:pt x="22014" y="8864"/>
                  <a:pt x="22101" y="8806"/>
                </a:cubicBezTo>
                <a:cubicBezTo>
                  <a:pt x="22157" y="8769"/>
                  <a:pt x="22202" y="8725"/>
                  <a:pt x="22250" y="8682"/>
                </a:cubicBezTo>
                <a:cubicBezTo>
                  <a:pt x="22302" y="8636"/>
                  <a:pt x="22316" y="8615"/>
                  <a:pt x="22374" y="8582"/>
                </a:cubicBezTo>
              </a:path>
              <a:path w="6475" h="3821">
                <a:moveTo>
                  <a:pt x="23341" y="7764"/>
                </a:moveTo>
                <a:cubicBezTo>
                  <a:pt x="23412" y="7681"/>
                  <a:pt x="23465" y="7631"/>
                  <a:pt x="23540" y="7565"/>
                </a:cubicBezTo>
                <a:cubicBezTo>
                  <a:pt x="23608" y="7505"/>
                  <a:pt x="23651" y="7457"/>
                  <a:pt x="23713" y="7392"/>
                </a:cubicBezTo>
                <a:cubicBezTo>
                  <a:pt x="23789" y="7312"/>
                  <a:pt x="23894" y="7260"/>
                  <a:pt x="23961" y="7193"/>
                </a:cubicBezTo>
                <a:cubicBezTo>
                  <a:pt x="24011" y="7143"/>
                  <a:pt x="24042" y="7104"/>
                  <a:pt x="24110" y="7069"/>
                </a:cubicBezTo>
                <a:cubicBezTo>
                  <a:pt x="24163" y="7041"/>
                  <a:pt x="24192" y="7012"/>
                  <a:pt x="24234" y="6970"/>
                </a:cubicBezTo>
                <a:cubicBezTo>
                  <a:pt x="24242" y="6962"/>
                  <a:pt x="24251" y="6953"/>
                  <a:pt x="24259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Ink 12"/>
          <p:cNvSpPr/>
          <p:nvPr/>
        </p:nvSpPr>
        <p:spPr>
          <a:xfrm>
            <a:off x="6054840" y="2009880"/>
            <a:ext cx="1143000" cy="1670040"/>
          </a:xfrm>
          <a:custGeom>
            <a:avLst/>
            <a:gdLst/>
            <a:ahLst/>
            <a:rect l="l" t="t" r="r" b="b"/>
            <a:pathLst>
              <a:path w="3176" h="4640">
                <a:moveTo>
                  <a:pt x="18083" y="8260"/>
                </a:moveTo>
                <a:cubicBezTo>
                  <a:pt x="18083" y="8277"/>
                  <a:pt x="18083" y="8293"/>
                  <a:pt x="18083" y="8310"/>
                </a:cubicBezTo>
                <a:cubicBezTo>
                  <a:pt x="18012" y="8343"/>
                  <a:pt x="18111" y="8244"/>
                  <a:pt x="18132" y="8210"/>
                </a:cubicBezTo>
                <a:cubicBezTo>
                  <a:pt x="18177" y="8136"/>
                  <a:pt x="18185" y="8091"/>
                  <a:pt x="18281" y="8136"/>
                </a:cubicBezTo>
                <a:cubicBezTo>
                  <a:pt x="18365" y="8175"/>
                  <a:pt x="18377" y="8222"/>
                  <a:pt x="18380" y="8310"/>
                </a:cubicBezTo>
                <a:cubicBezTo>
                  <a:pt x="18385" y="8437"/>
                  <a:pt x="18373" y="8523"/>
                  <a:pt x="18306" y="8632"/>
                </a:cubicBezTo>
                <a:cubicBezTo>
                  <a:pt x="18251" y="8723"/>
                  <a:pt x="18225" y="8781"/>
                  <a:pt x="18132" y="8806"/>
                </a:cubicBezTo>
                <a:cubicBezTo>
                  <a:pt x="18037" y="8831"/>
                  <a:pt x="17991" y="8811"/>
                  <a:pt x="17909" y="8756"/>
                </a:cubicBezTo>
                <a:cubicBezTo>
                  <a:pt x="18002" y="8766"/>
                  <a:pt x="18085" y="8781"/>
                  <a:pt x="18182" y="8781"/>
                </a:cubicBezTo>
                <a:cubicBezTo>
                  <a:pt x="18304" y="8781"/>
                  <a:pt x="18475" y="8808"/>
                  <a:pt x="18579" y="8756"/>
                </a:cubicBezTo>
              </a:path>
              <a:path w="3176" h="4640">
                <a:moveTo>
                  <a:pt x="17661" y="9054"/>
                </a:moveTo>
                <a:cubicBezTo>
                  <a:pt x="17853" y="9045"/>
                  <a:pt x="18036" y="9013"/>
                  <a:pt x="18231" y="9004"/>
                </a:cubicBezTo>
                <a:cubicBezTo>
                  <a:pt x="18420" y="8995"/>
                  <a:pt x="18612" y="9004"/>
                  <a:pt x="18802" y="9004"/>
                </a:cubicBezTo>
              </a:path>
              <a:path w="3176" h="4640">
                <a:moveTo>
                  <a:pt x="18083" y="9351"/>
                </a:moveTo>
                <a:cubicBezTo>
                  <a:pt x="18155" y="9351"/>
                  <a:pt x="18239" y="9313"/>
                  <a:pt x="18306" y="9327"/>
                </a:cubicBezTo>
                <a:cubicBezTo>
                  <a:pt x="18390" y="9344"/>
                  <a:pt x="18425" y="9390"/>
                  <a:pt x="18405" y="9475"/>
                </a:cubicBezTo>
                <a:cubicBezTo>
                  <a:pt x="18379" y="9585"/>
                  <a:pt x="18307" y="9647"/>
                  <a:pt x="18231" y="9723"/>
                </a:cubicBezTo>
                <a:cubicBezTo>
                  <a:pt x="18178" y="9777"/>
                  <a:pt x="18232" y="9854"/>
                  <a:pt x="18281" y="9897"/>
                </a:cubicBezTo>
                <a:cubicBezTo>
                  <a:pt x="18351" y="9959"/>
                  <a:pt x="18445" y="9963"/>
                  <a:pt x="18479" y="10071"/>
                </a:cubicBezTo>
                <a:cubicBezTo>
                  <a:pt x="18506" y="10158"/>
                  <a:pt x="18369" y="10210"/>
                  <a:pt x="18306" y="10220"/>
                </a:cubicBezTo>
                <a:cubicBezTo>
                  <a:pt x="18199" y="10237"/>
                  <a:pt x="18025" y="10170"/>
                  <a:pt x="17934" y="10120"/>
                </a:cubicBezTo>
                <a:cubicBezTo>
                  <a:pt x="17901" y="10095"/>
                  <a:pt x="17868" y="10071"/>
                  <a:pt x="17835" y="10046"/>
                </a:cubicBezTo>
              </a:path>
              <a:path w="3176" h="4640">
                <a:moveTo>
                  <a:pt x="16818" y="7863"/>
                </a:moveTo>
                <a:cubicBezTo>
                  <a:pt x="16910" y="7829"/>
                  <a:pt x="16992" y="7827"/>
                  <a:pt x="17090" y="7813"/>
                </a:cubicBezTo>
                <a:cubicBezTo>
                  <a:pt x="17334" y="7777"/>
                  <a:pt x="17588" y="7729"/>
                  <a:pt x="17835" y="7714"/>
                </a:cubicBezTo>
                <a:cubicBezTo>
                  <a:pt x="18107" y="7698"/>
                  <a:pt x="18381" y="7705"/>
                  <a:pt x="18653" y="7689"/>
                </a:cubicBezTo>
                <a:cubicBezTo>
                  <a:pt x="18924" y="7673"/>
                  <a:pt x="19177" y="7684"/>
                  <a:pt x="19447" y="7689"/>
                </a:cubicBezTo>
                <a:cubicBezTo>
                  <a:pt x="19601" y="7692"/>
                  <a:pt x="19911" y="7698"/>
                  <a:pt x="19968" y="7665"/>
                </a:cubicBezTo>
                <a:cubicBezTo>
                  <a:pt x="19960" y="7665"/>
                  <a:pt x="19951" y="7665"/>
                  <a:pt x="19943" y="7665"/>
                </a:cubicBezTo>
              </a:path>
              <a:path w="3176" h="4640">
                <a:moveTo>
                  <a:pt x="17090" y="5631"/>
                </a:moveTo>
                <a:cubicBezTo>
                  <a:pt x="17120" y="5680"/>
                  <a:pt x="17116" y="5747"/>
                  <a:pt x="17090" y="5804"/>
                </a:cubicBezTo>
                <a:cubicBezTo>
                  <a:pt x="17076" y="5834"/>
                  <a:pt x="17029" y="5929"/>
                  <a:pt x="17090" y="5953"/>
                </a:cubicBezTo>
                <a:cubicBezTo>
                  <a:pt x="17150" y="5976"/>
                  <a:pt x="17219" y="5935"/>
                  <a:pt x="17264" y="5928"/>
                </a:cubicBezTo>
                <a:cubicBezTo>
                  <a:pt x="17335" y="5917"/>
                  <a:pt x="17356" y="5937"/>
                  <a:pt x="17413" y="5904"/>
                </a:cubicBezTo>
              </a:path>
              <a:path w="3176" h="4640">
                <a:moveTo>
                  <a:pt x="17438" y="5581"/>
                </a:moveTo>
                <a:cubicBezTo>
                  <a:pt x="17412" y="5651"/>
                  <a:pt x="17413" y="5703"/>
                  <a:pt x="17413" y="5779"/>
                </a:cubicBezTo>
                <a:cubicBezTo>
                  <a:pt x="17413" y="5972"/>
                  <a:pt x="17390" y="6199"/>
                  <a:pt x="17438" y="6375"/>
                </a:cubicBezTo>
                <a:cubicBezTo>
                  <a:pt x="17438" y="6383"/>
                  <a:pt x="17438" y="6392"/>
                  <a:pt x="17438" y="6400"/>
                </a:cubicBezTo>
              </a:path>
              <a:path w="3176" h="4640">
                <a:moveTo>
                  <a:pt x="16892" y="6548"/>
                </a:moveTo>
                <a:cubicBezTo>
                  <a:pt x="17069" y="6548"/>
                  <a:pt x="17244" y="6550"/>
                  <a:pt x="17413" y="6524"/>
                </a:cubicBezTo>
                <a:cubicBezTo>
                  <a:pt x="17501" y="6510"/>
                  <a:pt x="17601" y="6510"/>
                  <a:pt x="17686" y="6499"/>
                </a:cubicBezTo>
                <a:cubicBezTo>
                  <a:pt x="17776" y="6487"/>
                  <a:pt x="17855" y="6498"/>
                  <a:pt x="17934" y="6474"/>
                </a:cubicBezTo>
                <a:cubicBezTo>
                  <a:pt x="17942" y="6474"/>
                  <a:pt x="17951" y="6474"/>
                  <a:pt x="17959" y="6474"/>
                </a:cubicBezTo>
              </a:path>
              <a:path w="3176" h="4640">
                <a:moveTo>
                  <a:pt x="17512" y="6697"/>
                </a:moveTo>
                <a:cubicBezTo>
                  <a:pt x="17584" y="6688"/>
                  <a:pt x="17638" y="6652"/>
                  <a:pt x="17711" y="6648"/>
                </a:cubicBezTo>
                <a:cubicBezTo>
                  <a:pt x="17784" y="6644"/>
                  <a:pt x="17825" y="6653"/>
                  <a:pt x="17884" y="6697"/>
                </a:cubicBezTo>
                <a:cubicBezTo>
                  <a:pt x="17892" y="6705"/>
                  <a:pt x="17901" y="6714"/>
                  <a:pt x="17909" y="6722"/>
                </a:cubicBezTo>
                <a:cubicBezTo>
                  <a:pt x="17871" y="6769"/>
                  <a:pt x="17846" y="6823"/>
                  <a:pt x="17810" y="6871"/>
                </a:cubicBezTo>
                <a:cubicBezTo>
                  <a:pt x="17790" y="6898"/>
                  <a:pt x="17759" y="6922"/>
                  <a:pt x="17735" y="6945"/>
                </a:cubicBezTo>
                <a:cubicBezTo>
                  <a:pt x="17822" y="6945"/>
                  <a:pt x="17911" y="6934"/>
                  <a:pt x="17983" y="6970"/>
                </a:cubicBezTo>
                <a:cubicBezTo>
                  <a:pt x="18054" y="7006"/>
                  <a:pt x="18050" y="7076"/>
                  <a:pt x="18008" y="7144"/>
                </a:cubicBezTo>
                <a:cubicBezTo>
                  <a:pt x="17963" y="7218"/>
                  <a:pt x="17884" y="7256"/>
                  <a:pt x="17810" y="7293"/>
                </a:cubicBezTo>
                <a:cubicBezTo>
                  <a:pt x="17744" y="7326"/>
                  <a:pt x="17677" y="7359"/>
                  <a:pt x="17611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nk 13"/>
          <p:cNvSpPr/>
          <p:nvPr/>
        </p:nvSpPr>
        <p:spPr>
          <a:xfrm>
            <a:off x="5715000" y="277668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15875" y="7764"/>
                </a:moveTo>
                <a:cubicBezTo>
                  <a:pt x="15964" y="7739"/>
                  <a:pt x="16055" y="7717"/>
                  <a:pt x="16148" y="7714"/>
                </a:cubicBezTo>
                <a:cubicBezTo>
                  <a:pt x="16255" y="7714"/>
                  <a:pt x="16297" y="7714"/>
                  <a:pt x="16371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Ink 14"/>
          <p:cNvSpPr/>
          <p:nvPr/>
        </p:nvSpPr>
        <p:spPr>
          <a:xfrm>
            <a:off x="5724360" y="2938320"/>
            <a:ext cx="61920" cy="1800"/>
          </a:xfrm>
          <a:custGeom>
            <a:avLst/>
            <a:gdLst/>
            <a:ahLst/>
            <a:rect l="l" t="t" r="r" b="b"/>
            <a:pathLst>
              <a:path w="174" h="1">
                <a:moveTo>
                  <a:pt x="15900" y="8161"/>
                </a:moveTo>
                <a:cubicBezTo>
                  <a:pt x="15982" y="8161"/>
                  <a:pt x="16015" y="8161"/>
                  <a:pt x="16073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nk 15"/>
          <p:cNvSpPr/>
          <p:nvPr/>
        </p:nvSpPr>
        <p:spPr>
          <a:xfrm>
            <a:off x="3170160" y="2840040"/>
            <a:ext cx="2367000" cy="768240"/>
          </a:xfrm>
          <a:custGeom>
            <a:avLst/>
            <a:gdLst/>
            <a:ahLst/>
            <a:rect l="l" t="t" r="r" b="b"/>
            <a:pathLst>
              <a:path w="6574" h="2134">
                <a:moveTo>
                  <a:pt x="9401" y="8012"/>
                </a:moveTo>
                <a:cubicBezTo>
                  <a:pt x="9391" y="8081"/>
                  <a:pt x="9376" y="8132"/>
                  <a:pt x="9376" y="8210"/>
                </a:cubicBezTo>
                <a:cubicBezTo>
                  <a:pt x="9376" y="8313"/>
                  <a:pt x="9372" y="8456"/>
                  <a:pt x="9351" y="8558"/>
                </a:cubicBezTo>
                <a:cubicBezTo>
                  <a:pt x="9333" y="8649"/>
                  <a:pt x="9327" y="8732"/>
                  <a:pt x="9327" y="8830"/>
                </a:cubicBezTo>
                <a:cubicBezTo>
                  <a:pt x="9327" y="8926"/>
                  <a:pt x="9306" y="9009"/>
                  <a:pt x="9302" y="9103"/>
                </a:cubicBezTo>
                <a:cubicBezTo>
                  <a:pt x="9296" y="9226"/>
                  <a:pt x="9302" y="9351"/>
                  <a:pt x="9302" y="9475"/>
                </a:cubicBezTo>
              </a:path>
              <a:path w="6574" h="2134">
                <a:moveTo>
                  <a:pt x="9550" y="8781"/>
                </a:moveTo>
                <a:cubicBezTo>
                  <a:pt x="9600" y="8751"/>
                  <a:pt x="9688" y="8734"/>
                  <a:pt x="9748" y="8731"/>
                </a:cubicBezTo>
                <a:cubicBezTo>
                  <a:pt x="9837" y="8727"/>
                  <a:pt x="9888" y="8710"/>
                  <a:pt x="9971" y="8706"/>
                </a:cubicBezTo>
                <a:cubicBezTo>
                  <a:pt x="10051" y="8702"/>
                  <a:pt x="10119" y="8686"/>
                  <a:pt x="10195" y="8682"/>
                </a:cubicBezTo>
                <a:cubicBezTo>
                  <a:pt x="10239" y="8682"/>
                  <a:pt x="10253" y="8685"/>
                  <a:pt x="10269" y="8657"/>
                </a:cubicBezTo>
              </a:path>
              <a:path w="6574" h="2134">
                <a:moveTo>
                  <a:pt x="10691" y="8483"/>
                </a:moveTo>
                <a:cubicBezTo>
                  <a:pt x="10698" y="8537"/>
                  <a:pt x="10709" y="8578"/>
                  <a:pt x="10716" y="8632"/>
                </a:cubicBezTo>
                <a:cubicBezTo>
                  <a:pt x="10741" y="8590"/>
                  <a:pt x="10758" y="8510"/>
                  <a:pt x="10765" y="8458"/>
                </a:cubicBezTo>
                <a:cubicBezTo>
                  <a:pt x="10781" y="8333"/>
                  <a:pt x="10762" y="8195"/>
                  <a:pt x="10740" y="8086"/>
                </a:cubicBezTo>
                <a:cubicBezTo>
                  <a:pt x="10730" y="8035"/>
                  <a:pt x="10723" y="8014"/>
                  <a:pt x="10716" y="7962"/>
                </a:cubicBezTo>
                <a:cubicBezTo>
                  <a:pt x="10815" y="7962"/>
                  <a:pt x="10849" y="7997"/>
                  <a:pt x="10939" y="8012"/>
                </a:cubicBezTo>
                <a:cubicBezTo>
                  <a:pt x="11030" y="8027"/>
                  <a:pt x="11119" y="8049"/>
                  <a:pt x="11212" y="8062"/>
                </a:cubicBezTo>
                <a:cubicBezTo>
                  <a:pt x="11284" y="8072"/>
                  <a:pt x="11378" y="8072"/>
                  <a:pt x="11435" y="8037"/>
                </a:cubicBezTo>
              </a:path>
              <a:path w="6574" h="2134">
                <a:moveTo>
                  <a:pt x="10988" y="8310"/>
                </a:moveTo>
                <a:cubicBezTo>
                  <a:pt x="11050" y="8275"/>
                  <a:pt x="11116" y="8225"/>
                  <a:pt x="11187" y="8210"/>
                </a:cubicBezTo>
                <a:cubicBezTo>
                  <a:pt x="11247" y="8197"/>
                  <a:pt x="11314" y="8207"/>
                  <a:pt x="11361" y="8235"/>
                </a:cubicBezTo>
                <a:cubicBezTo>
                  <a:pt x="11349" y="8317"/>
                  <a:pt x="11299" y="8367"/>
                  <a:pt x="11237" y="8434"/>
                </a:cubicBezTo>
                <a:cubicBezTo>
                  <a:pt x="11200" y="8473"/>
                  <a:pt x="11074" y="8571"/>
                  <a:pt x="11112" y="8533"/>
                </a:cubicBezTo>
                <a:cubicBezTo>
                  <a:pt x="11168" y="8477"/>
                  <a:pt x="11200" y="8475"/>
                  <a:pt x="11261" y="8508"/>
                </a:cubicBezTo>
                <a:cubicBezTo>
                  <a:pt x="11291" y="8524"/>
                  <a:pt x="11374" y="8567"/>
                  <a:pt x="11385" y="8607"/>
                </a:cubicBezTo>
                <a:cubicBezTo>
                  <a:pt x="11411" y="8702"/>
                  <a:pt x="11310" y="8742"/>
                  <a:pt x="11237" y="8756"/>
                </a:cubicBezTo>
                <a:cubicBezTo>
                  <a:pt x="11162" y="8770"/>
                  <a:pt x="11104" y="8740"/>
                  <a:pt x="11038" y="8731"/>
                </a:cubicBezTo>
              </a:path>
              <a:path w="6574" h="2134">
                <a:moveTo>
                  <a:pt x="10716" y="8756"/>
                </a:moveTo>
                <a:cubicBezTo>
                  <a:pt x="10833" y="8756"/>
                  <a:pt x="10946" y="8777"/>
                  <a:pt x="11063" y="8781"/>
                </a:cubicBezTo>
                <a:cubicBezTo>
                  <a:pt x="11178" y="8785"/>
                  <a:pt x="11273" y="8792"/>
                  <a:pt x="11385" y="8806"/>
                </a:cubicBezTo>
                <a:cubicBezTo>
                  <a:pt x="11450" y="8814"/>
                  <a:pt x="11515" y="8781"/>
                  <a:pt x="11584" y="8781"/>
                </a:cubicBezTo>
              </a:path>
              <a:path w="6574" h="2134">
                <a:moveTo>
                  <a:pt x="11038" y="8954"/>
                </a:moveTo>
                <a:cubicBezTo>
                  <a:pt x="11005" y="9020"/>
                  <a:pt x="11095" y="8938"/>
                  <a:pt x="11137" y="8930"/>
                </a:cubicBezTo>
                <a:cubicBezTo>
                  <a:pt x="11210" y="8916"/>
                  <a:pt x="11302" y="8926"/>
                  <a:pt x="11361" y="8954"/>
                </a:cubicBezTo>
                <a:cubicBezTo>
                  <a:pt x="11313" y="9037"/>
                  <a:pt x="11308" y="9018"/>
                  <a:pt x="11237" y="9054"/>
                </a:cubicBezTo>
                <a:cubicBezTo>
                  <a:pt x="11185" y="9080"/>
                  <a:pt x="11036" y="9101"/>
                  <a:pt x="11088" y="9128"/>
                </a:cubicBezTo>
                <a:cubicBezTo>
                  <a:pt x="11138" y="9154"/>
                  <a:pt x="11208" y="9124"/>
                  <a:pt x="11261" y="9153"/>
                </a:cubicBezTo>
                <a:cubicBezTo>
                  <a:pt x="11341" y="9196"/>
                  <a:pt x="11336" y="9202"/>
                  <a:pt x="11361" y="9277"/>
                </a:cubicBezTo>
                <a:cubicBezTo>
                  <a:pt x="11385" y="9346"/>
                  <a:pt x="11364" y="9412"/>
                  <a:pt x="11286" y="9451"/>
                </a:cubicBezTo>
                <a:cubicBezTo>
                  <a:pt x="11244" y="9472"/>
                  <a:pt x="11162" y="9488"/>
                  <a:pt x="11112" y="9475"/>
                </a:cubicBezTo>
                <a:cubicBezTo>
                  <a:pt x="11051" y="9459"/>
                  <a:pt x="10993" y="9391"/>
                  <a:pt x="10939" y="9376"/>
                </a:cubicBezTo>
                <a:cubicBezTo>
                  <a:pt x="10922" y="9376"/>
                  <a:pt x="10906" y="9376"/>
                  <a:pt x="10889" y="9376"/>
                </a:cubicBezTo>
              </a:path>
              <a:path w="6574" h="2134">
                <a:moveTo>
                  <a:pt x="12278" y="8607"/>
                </a:moveTo>
                <a:cubicBezTo>
                  <a:pt x="12264" y="8691"/>
                  <a:pt x="12233" y="8816"/>
                  <a:pt x="12254" y="8905"/>
                </a:cubicBezTo>
                <a:cubicBezTo>
                  <a:pt x="12265" y="8951"/>
                  <a:pt x="12281" y="8992"/>
                  <a:pt x="12303" y="9029"/>
                </a:cubicBezTo>
              </a:path>
              <a:path w="6574" h="2134">
                <a:moveTo>
                  <a:pt x="12055" y="8806"/>
                </a:moveTo>
                <a:cubicBezTo>
                  <a:pt x="12167" y="8806"/>
                  <a:pt x="12268" y="8826"/>
                  <a:pt x="12378" y="8830"/>
                </a:cubicBezTo>
                <a:cubicBezTo>
                  <a:pt x="12403" y="8830"/>
                  <a:pt x="12427" y="8830"/>
                  <a:pt x="12452" y="8830"/>
                </a:cubicBezTo>
              </a:path>
              <a:path w="6574" h="2134">
                <a:moveTo>
                  <a:pt x="12849" y="8657"/>
                </a:moveTo>
                <a:cubicBezTo>
                  <a:pt x="12835" y="8790"/>
                  <a:pt x="12793" y="8862"/>
                  <a:pt x="12849" y="8954"/>
                </a:cubicBezTo>
                <a:cubicBezTo>
                  <a:pt x="12878" y="8867"/>
                  <a:pt x="12896" y="8751"/>
                  <a:pt x="12874" y="8657"/>
                </a:cubicBezTo>
                <a:cubicBezTo>
                  <a:pt x="12855" y="8579"/>
                  <a:pt x="12849" y="8518"/>
                  <a:pt x="12849" y="8434"/>
                </a:cubicBezTo>
                <a:cubicBezTo>
                  <a:pt x="12849" y="8364"/>
                  <a:pt x="12832" y="8303"/>
                  <a:pt x="12898" y="8260"/>
                </a:cubicBezTo>
                <a:cubicBezTo>
                  <a:pt x="12974" y="8211"/>
                  <a:pt x="13084" y="8235"/>
                  <a:pt x="13171" y="8235"/>
                </a:cubicBezTo>
                <a:cubicBezTo>
                  <a:pt x="13246" y="8235"/>
                  <a:pt x="13310" y="8246"/>
                  <a:pt x="13370" y="8210"/>
                </a:cubicBezTo>
              </a:path>
              <a:path w="6574" h="2134">
                <a:moveTo>
                  <a:pt x="13122" y="8384"/>
                </a:moveTo>
                <a:cubicBezTo>
                  <a:pt x="13097" y="8409"/>
                  <a:pt x="13089" y="8417"/>
                  <a:pt x="13122" y="8434"/>
                </a:cubicBezTo>
                <a:cubicBezTo>
                  <a:pt x="13158" y="8397"/>
                  <a:pt x="13201" y="8368"/>
                  <a:pt x="13246" y="8359"/>
                </a:cubicBezTo>
                <a:cubicBezTo>
                  <a:pt x="13296" y="8349"/>
                  <a:pt x="13400" y="8354"/>
                  <a:pt x="13395" y="8434"/>
                </a:cubicBezTo>
                <a:cubicBezTo>
                  <a:pt x="13391" y="8497"/>
                  <a:pt x="13350" y="8579"/>
                  <a:pt x="13320" y="8632"/>
                </a:cubicBezTo>
                <a:cubicBezTo>
                  <a:pt x="13293" y="8680"/>
                  <a:pt x="13245" y="8725"/>
                  <a:pt x="13196" y="8756"/>
                </a:cubicBezTo>
                <a:cubicBezTo>
                  <a:pt x="13179" y="8764"/>
                  <a:pt x="13163" y="8773"/>
                  <a:pt x="13146" y="8781"/>
                </a:cubicBezTo>
                <a:cubicBezTo>
                  <a:pt x="13156" y="8712"/>
                  <a:pt x="13184" y="8667"/>
                  <a:pt x="13271" y="8682"/>
                </a:cubicBezTo>
                <a:cubicBezTo>
                  <a:pt x="13351" y="8695"/>
                  <a:pt x="13426" y="8792"/>
                  <a:pt x="13395" y="8880"/>
                </a:cubicBezTo>
                <a:cubicBezTo>
                  <a:pt x="13364" y="8970"/>
                  <a:pt x="13259" y="9006"/>
                  <a:pt x="13171" y="8979"/>
                </a:cubicBezTo>
                <a:cubicBezTo>
                  <a:pt x="13146" y="8954"/>
                  <a:pt x="13138" y="8946"/>
                  <a:pt x="13122" y="8930"/>
                </a:cubicBezTo>
              </a:path>
              <a:path w="6574" h="2134">
                <a:moveTo>
                  <a:pt x="12824" y="8930"/>
                </a:moveTo>
                <a:cubicBezTo>
                  <a:pt x="12901" y="8955"/>
                  <a:pt x="12988" y="8965"/>
                  <a:pt x="13072" y="8954"/>
                </a:cubicBezTo>
                <a:cubicBezTo>
                  <a:pt x="13179" y="8940"/>
                  <a:pt x="13295" y="8939"/>
                  <a:pt x="13395" y="8905"/>
                </a:cubicBezTo>
                <a:cubicBezTo>
                  <a:pt x="13420" y="8897"/>
                  <a:pt x="13444" y="8888"/>
                  <a:pt x="13469" y="8880"/>
                </a:cubicBezTo>
              </a:path>
              <a:path w="6574" h="2134">
                <a:moveTo>
                  <a:pt x="13097" y="9277"/>
                </a:moveTo>
                <a:cubicBezTo>
                  <a:pt x="13153" y="9240"/>
                  <a:pt x="13205" y="9207"/>
                  <a:pt x="13271" y="9203"/>
                </a:cubicBezTo>
                <a:cubicBezTo>
                  <a:pt x="13372" y="9197"/>
                  <a:pt x="13489" y="9275"/>
                  <a:pt x="13395" y="9376"/>
                </a:cubicBezTo>
                <a:cubicBezTo>
                  <a:pt x="13358" y="9416"/>
                  <a:pt x="13297" y="9465"/>
                  <a:pt x="13246" y="9475"/>
                </a:cubicBezTo>
                <a:cubicBezTo>
                  <a:pt x="13229" y="9475"/>
                  <a:pt x="13213" y="9475"/>
                  <a:pt x="13196" y="9475"/>
                </a:cubicBezTo>
                <a:cubicBezTo>
                  <a:pt x="13320" y="9415"/>
                  <a:pt x="13278" y="9459"/>
                  <a:pt x="13345" y="9525"/>
                </a:cubicBezTo>
                <a:cubicBezTo>
                  <a:pt x="13407" y="9586"/>
                  <a:pt x="13444" y="9616"/>
                  <a:pt x="13419" y="9723"/>
                </a:cubicBezTo>
                <a:cubicBezTo>
                  <a:pt x="13410" y="9764"/>
                  <a:pt x="13344" y="9848"/>
                  <a:pt x="13295" y="9847"/>
                </a:cubicBezTo>
                <a:cubicBezTo>
                  <a:pt x="13177" y="9844"/>
                  <a:pt x="13164" y="9816"/>
                  <a:pt x="13097" y="9748"/>
                </a:cubicBezTo>
              </a:path>
              <a:path w="6574" h="2134">
                <a:moveTo>
                  <a:pt x="13915" y="9004"/>
                </a:moveTo>
                <a:cubicBezTo>
                  <a:pt x="14018" y="9004"/>
                  <a:pt x="14111" y="9025"/>
                  <a:pt x="14213" y="9029"/>
                </a:cubicBezTo>
                <a:cubicBezTo>
                  <a:pt x="14265" y="9029"/>
                  <a:pt x="14283" y="9028"/>
                  <a:pt x="14312" y="9004"/>
                </a:cubicBezTo>
              </a:path>
              <a:path w="6574" h="2134">
                <a:moveTo>
                  <a:pt x="14908" y="8260"/>
                </a:moveTo>
                <a:cubicBezTo>
                  <a:pt x="14908" y="8382"/>
                  <a:pt x="14916" y="8489"/>
                  <a:pt x="14932" y="8607"/>
                </a:cubicBezTo>
                <a:cubicBezTo>
                  <a:pt x="14942" y="8680"/>
                  <a:pt x="14959" y="8762"/>
                  <a:pt x="14982" y="8830"/>
                </a:cubicBezTo>
                <a:cubicBezTo>
                  <a:pt x="15002" y="8871"/>
                  <a:pt x="15011" y="8877"/>
                  <a:pt x="15007" y="8905"/>
                </a:cubicBezTo>
              </a:path>
              <a:path w="6574" h="2134">
                <a:moveTo>
                  <a:pt x="14759" y="9079"/>
                </a:moveTo>
                <a:cubicBezTo>
                  <a:pt x="14823" y="9027"/>
                  <a:pt x="14901" y="9015"/>
                  <a:pt x="14982" y="9004"/>
                </a:cubicBezTo>
                <a:cubicBezTo>
                  <a:pt x="15062" y="8993"/>
                  <a:pt x="15150" y="9004"/>
                  <a:pt x="15230" y="9004"/>
                </a:cubicBezTo>
              </a:path>
              <a:path w="6574" h="2134">
                <a:moveTo>
                  <a:pt x="14932" y="9277"/>
                </a:moveTo>
                <a:cubicBezTo>
                  <a:pt x="14987" y="9310"/>
                  <a:pt x="15043" y="9298"/>
                  <a:pt x="15106" y="9277"/>
                </a:cubicBezTo>
                <a:cubicBezTo>
                  <a:pt x="15165" y="9257"/>
                  <a:pt x="15254" y="9217"/>
                  <a:pt x="15304" y="9277"/>
                </a:cubicBezTo>
                <a:cubicBezTo>
                  <a:pt x="15361" y="9345"/>
                  <a:pt x="15262" y="9416"/>
                  <a:pt x="15205" y="9451"/>
                </a:cubicBezTo>
                <a:cubicBezTo>
                  <a:pt x="15133" y="9495"/>
                  <a:pt x="14921" y="9491"/>
                  <a:pt x="14982" y="9550"/>
                </a:cubicBezTo>
                <a:cubicBezTo>
                  <a:pt x="14999" y="9566"/>
                  <a:pt x="15142" y="9513"/>
                  <a:pt x="15180" y="9525"/>
                </a:cubicBezTo>
                <a:cubicBezTo>
                  <a:pt x="15281" y="9557"/>
                  <a:pt x="15320" y="9684"/>
                  <a:pt x="15354" y="9773"/>
                </a:cubicBezTo>
                <a:cubicBezTo>
                  <a:pt x="15391" y="9869"/>
                  <a:pt x="15365" y="9915"/>
                  <a:pt x="15304" y="9971"/>
                </a:cubicBezTo>
                <a:cubicBezTo>
                  <a:pt x="15239" y="10031"/>
                  <a:pt x="15189" y="10002"/>
                  <a:pt x="15106" y="9996"/>
                </a:cubicBezTo>
                <a:cubicBezTo>
                  <a:pt x="15038" y="9996"/>
                  <a:pt x="15019" y="9999"/>
                  <a:pt x="14982" y="9971"/>
                </a:cubicBezTo>
              </a:path>
              <a:path w="6574" h="2134">
                <a:moveTo>
                  <a:pt x="9004" y="8136"/>
                </a:moveTo>
                <a:cubicBezTo>
                  <a:pt x="8983" y="8095"/>
                  <a:pt x="9003" y="8070"/>
                  <a:pt x="9054" y="8037"/>
                </a:cubicBezTo>
                <a:cubicBezTo>
                  <a:pt x="9092" y="8012"/>
                  <a:pt x="9183" y="7944"/>
                  <a:pt x="9227" y="7938"/>
                </a:cubicBezTo>
                <a:cubicBezTo>
                  <a:pt x="9278" y="7931"/>
                  <a:pt x="9405" y="7939"/>
                  <a:pt x="9426" y="8012"/>
                </a:cubicBezTo>
                <a:cubicBezTo>
                  <a:pt x="9442" y="8069"/>
                  <a:pt x="9382" y="8165"/>
                  <a:pt x="9351" y="8210"/>
                </a:cubicBezTo>
                <a:cubicBezTo>
                  <a:pt x="9320" y="8255"/>
                  <a:pt x="9251" y="8275"/>
                  <a:pt x="9203" y="8285"/>
                </a:cubicBezTo>
                <a:cubicBezTo>
                  <a:pt x="9278" y="8285"/>
                  <a:pt x="9333" y="8280"/>
                  <a:pt x="9401" y="8310"/>
                </a:cubicBezTo>
                <a:cubicBezTo>
                  <a:pt x="9486" y="8347"/>
                  <a:pt x="9487" y="8377"/>
                  <a:pt x="9451" y="8458"/>
                </a:cubicBezTo>
                <a:cubicBezTo>
                  <a:pt x="9436" y="8491"/>
                  <a:pt x="9367" y="8571"/>
                  <a:pt x="9327" y="8582"/>
                </a:cubicBezTo>
                <a:cubicBezTo>
                  <a:pt x="9271" y="8598"/>
                  <a:pt x="9207" y="8599"/>
                  <a:pt x="9153" y="8607"/>
                </a:cubicBezTo>
              </a:path>
              <a:path w="6574" h="2134">
                <a:moveTo>
                  <a:pt x="8806" y="8781"/>
                </a:moveTo>
                <a:cubicBezTo>
                  <a:pt x="8923" y="8741"/>
                  <a:pt x="9054" y="8753"/>
                  <a:pt x="9178" y="8731"/>
                </a:cubicBezTo>
                <a:cubicBezTo>
                  <a:pt x="9273" y="8714"/>
                  <a:pt x="9383" y="8726"/>
                  <a:pt x="9475" y="8706"/>
                </a:cubicBezTo>
                <a:cubicBezTo>
                  <a:pt x="9505" y="8699"/>
                  <a:pt x="9596" y="8662"/>
                  <a:pt x="9550" y="8706"/>
                </a:cubicBezTo>
              </a:path>
              <a:path w="6574" h="2134">
                <a:moveTo>
                  <a:pt x="9079" y="8979"/>
                </a:moveTo>
                <a:cubicBezTo>
                  <a:pt x="9141" y="8943"/>
                  <a:pt x="9178" y="8909"/>
                  <a:pt x="9252" y="8905"/>
                </a:cubicBezTo>
                <a:cubicBezTo>
                  <a:pt x="9333" y="8900"/>
                  <a:pt x="9372" y="8928"/>
                  <a:pt x="9376" y="9004"/>
                </a:cubicBezTo>
                <a:cubicBezTo>
                  <a:pt x="9382" y="9102"/>
                  <a:pt x="9331" y="9162"/>
                  <a:pt x="9252" y="9203"/>
                </a:cubicBezTo>
                <a:cubicBezTo>
                  <a:pt x="9215" y="9222"/>
                  <a:pt x="9144" y="9295"/>
                  <a:pt x="9178" y="9227"/>
                </a:cubicBezTo>
                <a:cubicBezTo>
                  <a:pt x="9246" y="9227"/>
                  <a:pt x="9302" y="9219"/>
                  <a:pt x="9351" y="9277"/>
                </a:cubicBezTo>
                <a:cubicBezTo>
                  <a:pt x="9395" y="9329"/>
                  <a:pt x="9496" y="9403"/>
                  <a:pt x="9500" y="9475"/>
                </a:cubicBezTo>
                <a:cubicBezTo>
                  <a:pt x="9507" y="9605"/>
                  <a:pt x="9443" y="9564"/>
                  <a:pt x="9351" y="9624"/>
                </a:cubicBezTo>
                <a:cubicBezTo>
                  <a:pt x="9262" y="9682"/>
                  <a:pt x="9218" y="9665"/>
                  <a:pt x="9128" y="9649"/>
                </a:cubicBezTo>
                <a:cubicBezTo>
                  <a:pt x="9087" y="9649"/>
                  <a:pt x="9063" y="9649"/>
                  <a:pt x="9103" y="9649"/>
                </a:cubicBezTo>
              </a:path>
              <a:path w="6574" h="2134">
                <a:moveTo>
                  <a:pt x="10096" y="9550"/>
                </a:moveTo>
                <a:cubicBezTo>
                  <a:pt x="10125" y="9403"/>
                  <a:pt x="10141" y="9450"/>
                  <a:pt x="10220" y="9327"/>
                </a:cubicBezTo>
                <a:cubicBezTo>
                  <a:pt x="10295" y="9209"/>
                  <a:pt x="10383" y="9117"/>
                  <a:pt x="10468" y="9004"/>
                </a:cubicBezTo>
                <a:cubicBezTo>
                  <a:pt x="10588" y="8845"/>
                  <a:pt x="10742" y="8720"/>
                  <a:pt x="10864" y="8558"/>
                </a:cubicBezTo>
                <a:cubicBezTo>
                  <a:pt x="10957" y="8435"/>
                  <a:pt x="11061" y="8344"/>
                  <a:pt x="11162" y="8235"/>
                </a:cubicBezTo>
                <a:cubicBezTo>
                  <a:pt x="11222" y="8170"/>
                  <a:pt x="11285" y="8076"/>
                  <a:pt x="11336" y="8012"/>
                </a:cubicBezTo>
                <a:cubicBezTo>
                  <a:pt x="11370" y="7970"/>
                  <a:pt x="11398" y="7930"/>
                  <a:pt x="11435" y="7888"/>
                </a:cubicBezTo>
              </a:path>
              <a:path w="6574" h="2134">
                <a:moveTo>
                  <a:pt x="12005" y="9748"/>
                </a:moveTo>
                <a:cubicBezTo>
                  <a:pt x="12108" y="9646"/>
                  <a:pt x="12204" y="9535"/>
                  <a:pt x="12303" y="9451"/>
                </a:cubicBezTo>
                <a:cubicBezTo>
                  <a:pt x="12441" y="9333"/>
                  <a:pt x="12555" y="9188"/>
                  <a:pt x="12675" y="9054"/>
                </a:cubicBezTo>
                <a:cubicBezTo>
                  <a:pt x="12756" y="8964"/>
                  <a:pt x="12848" y="8876"/>
                  <a:pt x="12923" y="8781"/>
                </a:cubicBezTo>
                <a:cubicBezTo>
                  <a:pt x="12988" y="8698"/>
                  <a:pt x="13084" y="8554"/>
                  <a:pt x="13122" y="8458"/>
                </a:cubicBezTo>
                <a:cubicBezTo>
                  <a:pt x="13136" y="8423"/>
                  <a:pt x="13163" y="8309"/>
                  <a:pt x="13196" y="8285"/>
                </a:cubicBezTo>
                <a:cubicBezTo>
                  <a:pt x="13272" y="8230"/>
                  <a:pt x="13218" y="8307"/>
                  <a:pt x="13221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Ink 16"/>
          <p:cNvSpPr/>
          <p:nvPr/>
        </p:nvSpPr>
        <p:spPr>
          <a:xfrm>
            <a:off x="6966000" y="3490920"/>
            <a:ext cx="1222200" cy="519120"/>
          </a:xfrm>
          <a:custGeom>
            <a:avLst/>
            <a:gdLst/>
            <a:ahLst/>
            <a:rect l="l" t="t" r="r" b="b"/>
            <a:pathLst>
              <a:path w="3399" h="1439">
                <a:moveTo>
                  <a:pt x="19372" y="10790"/>
                </a:moveTo>
                <a:cubicBezTo>
                  <a:pt x="19480" y="10790"/>
                  <a:pt x="19587" y="10790"/>
                  <a:pt x="19695" y="10790"/>
                </a:cubicBezTo>
              </a:path>
              <a:path w="3399" h="1439">
                <a:moveTo>
                  <a:pt x="19348" y="11112"/>
                </a:moveTo>
                <a:cubicBezTo>
                  <a:pt x="19427" y="11112"/>
                  <a:pt x="19470" y="11092"/>
                  <a:pt x="19546" y="11088"/>
                </a:cubicBezTo>
                <a:cubicBezTo>
                  <a:pt x="19598" y="11088"/>
                  <a:pt x="19616" y="11089"/>
                  <a:pt x="19645" y="11112"/>
                </a:cubicBezTo>
              </a:path>
              <a:path w="3399" h="1439">
                <a:moveTo>
                  <a:pt x="20092" y="10368"/>
                </a:moveTo>
                <a:cubicBezTo>
                  <a:pt x="20092" y="10352"/>
                  <a:pt x="20092" y="10335"/>
                  <a:pt x="20092" y="10319"/>
                </a:cubicBezTo>
                <a:cubicBezTo>
                  <a:pt x="20084" y="10375"/>
                  <a:pt x="20085" y="10461"/>
                  <a:pt x="20067" y="10517"/>
                </a:cubicBezTo>
                <a:cubicBezTo>
                  <a:pt x="20048" y="10578"/>
                  <a:pt x="20021" y="10648"/>
                  <a:pt x="20017" y="10716"/>
                </a:cubicBezTo>
                <a:cubicBezTo>
                  <a:pt x="20011" y="10822"/>
                  <a:pt x="20094" y="10793"/>
                  <a:pt x="20166" y="10765"/>
                </a:cubicBezTo>
                <a:cubicBezTo>
                  <a:pt x="20231" y="10740"/>
                  <a:pt x="20265" y="10740"/>
                  <a:pt x="20315" y="10691"/>
                </a:cubicBezTo>
              </a:path>
              <a:path w="3399" h="1439">
                <a:moveTo>
                  <a:pt x="20464" y="10096"/>
                </a:moveTo>
                <a:cubicBezTo>
                  <a:pt x="20464" y="10201"/>
                  <a:pt x="20443" y="10273"/>
                  <a:pt x="20439" y="10368"/>
                </a:cubicBezTo>
                <a:cubicBezTo>
                  <a:pt x="20436" y="10435"/>
                  <a:pt x="20432" y="10526"/>
                  <a:pt x="20414" y="10592"/>
                </a:cubicBezTo>
                <a:cubicBezTo>
                  <a:pt x="20395" y="10664"/>
                  <a:pt x="20376" y="10742"/>
                  <a:pt x="20365" y="10815"/>
                </a:cubicBezTo>
                <a:cubicBezTo>
                  <a:pt x="20355" y="10883"/>
                  <a:pt x="20326" y="10956"/>
                  <a:pt x="20315" y="11013"/>
                </a:cubicBezTo>
                <a:cubicBezTo>
                  <a:pt x="20307" y="11051"/>
                  <a:pt x="20315" y="11098"/>
                  <a:pt x="20315" y="11137"/>
                </a:cubicBezTo>
              </a:path>
              <a:path w="3399" h="1439">
                <a:moveTo>
                  <a:pt x="20662" y="10641"/>
                </a:moveTo>
                <a:cubicBezTo>
                  <a:pt x="20768" y="10641"/>
                  <a:pt x="20822" y="10621"/>
                  <a:pt x="20910" y="10616"/>
                </a:cubicBezTo>
                <a:cubicBezTo>
                  <a:pt x="20979" y="10612"/>
                  <a:pt x="21015" y="10610"/>
                  <a:pt x="21084" y="10592"/>
                </a:cubicBezTo>
              </a:path>
              <a:path w="3399" h="1439">
                <a:moveTo>
                  <a:pt x="21332" y="10096"/>
                </a:moveTo>
                <a:cubicBezTo>
                  <a:pt x="21456" y="9927"/>
                  <a:pt x="21425" y="9963"/>
                  <a:pt x="21555" y="9897"/>
                </a:cubicBezTo>
                <a:cubicBezTo>
                  <a:pt x="21619" y="9865"/>
                  <a:pt x="21645" y="9868"/>
                  <a:pt x="21704" y="9922"/>
                </a:cubicBezTo>
                <a:cubicBezTo>
                  <a:pt x="21809" y="10019"/>
                  <a:pt x="21776" y="10120"/>
                  <a:pt x="21729" y="10244"/>
                </a:cubicBezTo>
                <a:cubicBezTo>
                  <a:pt x="21703" y="10314"/>
                  <a:pt x="21670" y="10406"/>
                  <a:pt x="21630" y="10468"/>
                </a:cubicBezTo>
                <a:cubicBezTo>
                  <a:pt x="21579" y="10548"/>
                  <a:pt x="21513" y="10590"/>
                  <a:pt x="21456" y="10666"/>
                </a:cubicBezTo>
                <a:cubicBezTo>
                  <a:pt x="21403" y="10736"/>
                  <a:pt x="21390" y="10765"/>
                  <a:pt x="21307" y="10815"/>
                </a:cubicBezTo>
                <a:cubicBezTo>
                  <a:pt x="21259" y="10839"/>
                  <a:pt x="21245" y="10848"/>
                  <a:pt x="21208" y="10840"/>
                </a:cubicBezTo>
                <a:cubicBezTo>
                  <a:pt x="21213" y="10788"/>
                  <a:pt x="21199" y="10722"/>
                  <a:pt x="21258" y="10691"/>
                </a:cubicBezTo>
                <a:cubicBezTo>
                  <a:pt x="21331" y="10652"/>
                  <a:pt x="21365" y="10631"/>
                  <a:pt x="21431" y="10666"/>
                </a:cubicBezTo>
                <a:cubicBezTo>
                  <a:pt x="21496" y="10701"/>
                  <a:pt x="21527" y="10715"/>
                  <a:pt x="21530" y="10790"/>
                </a:cubicBezTo>
                <a:cubicBezTo>
                  <a:pt x="21532" y="10856"/>
                  <a:pt x="21530" y="10922"/>
                  <a:pt x="21530" y="10988"/>
                </a:cubicBezTo>
              </a:path>
              <a:path w="3399" h="1439">
                <a:moveTo>
                  <a:pt x="21903" y="10393"/>
                </a:moveTo>
                <a:cubicBezTo>
                  <a:pt x="21903" y="10410"/>
                  <a:pt x="21903" y="10426"/>
                  <a:pt x="21903" y="10443"/>
                </a:cubicBezTo>
              </a:path>
              <a:path w="3399" h="1439">
                <a:moveTo>
                  <a:pt x="21977" y="10765"/>
                </a:moveTo>
                <a:cubicBezTo>
                  <a:pt x="21977" y="10815"/>
                  <a:pt x="21977" y="10831"/>
                  <a:pt x="21977" y="10864"/>
                </a:cubicBezTo>
                <a:cubicBezTo>
                  <a:pt x="21950" y="10794"/>
                  <a:pt x="21952" y="10742"/>
                  <a:pt x="21952" y="10666"/>
                </a:cubicBezTo>
                <a:cubicBezTo>
                  <a:pt x="21952" y="10549"/>
                  <a:pt x="21990" y="10437"/>
                  <a:pt x="22002" y="10319"/>
                </a:cubicBezTo>
                <a:cubicBezTo>
                  <a:pt x="22011" y="10228"/>
                  <a:pt x="22047" y="10148"/>
                  <a:pt x="22101" y="10071"/>
                </a:cubicBezTo>
                <a:cubicBezTo>
                  <a:pt x="22141" y="10015"/>
                  <a:pt x="22158" y="9949"/>
                  <a:pt x="22200" y="9897"/>
                </a:cubicBezTo>
                <a:cubicBezTo>
                  <a:pt x="22247" y="9839"/>
                  <a:pt x="22304" y="9802"/>
                  <a:pt x="22349" y="9748"/>
                </a:cubicBezTo>
                <a:cubicBezTo>
                  <a:pt x="22386" y="9704"/>
                  <a:pt x="22491" y="9703"/>
                  <a:pt x="22547" y="9699"/>
                </a:cubicBezTo>
                <a:cubicBezTo>
                  <a:pt x="22555" y="9699"/>
                  <a:pt x="22564" y="9699"/>
                  <a:pt x="22572" y="9699"/>
                </a:cubicBezTo>
              </a:path>
              <a:path w="3399" h="1439">
                <a:moveTo>
                  <a:pt x="22299" y="10071"/>
                </a:moveTo>
                <a:cubicBezTo>
                  <a:pt x="22371" y="10053"/>
                  <a:pt x="22470" y="10025"/>
                  <a:pt x="22547" y="10046"/>
                </a:cubicBezTo>
                <a:cubicBezTo>
                  <a:pt x="22619" y="10066"/>
                  <a:pt x="22652" y="10095"/>
                  <a:pt x="22696" y="10145"/>
                </a:cubicBezTo>
                <a:cubicBezTo>
                  <a:pt x="22660" y="10218"/>
                  <a:pt x="22622" y="10262"/>
                  <a:pt x="22572" y="10319"/>
                </a:cubicBezTo>
                <a:cubicBezTo>
                  <a:pt x="22509" y="10390"/>
                  <a:pt x="22476" y="10416"/>
                  <a:pt x="22399" y="10468"/>
                </a:cubicBezTo>
                <a:cubicBezTo>
                  <a:pt x="22310" y="10529"/>
                  <a:pt x="22374" y="10495"/>
                  <a:pt x="22448" y="10492"/>
                </a:cubicBezTo>
                <a:cubicBezTo>
                  <a:pt x="22552" y="10488"/>
                  <a:pt x="22610" y="10505"/>
                  <a:pt x="22696" y="10567"/>
                </a:cubicBezTo>
                <a:cubicBezTo>
                  <a:pt x="22753" y="10608"/>
                  <a:pt x="22763" y="10702"/>
                  <a:pt x="22746" y="10765"/>
                </a:cubicBezTo>
                <a:cubicBezTo>
                  <a:pt x="22735" y="10807"/>
                  <a:pt x="22628" y="10904"/>
                  <a:pt x="22597" y="10939"/>
                </a:cubicBezTo>
                <a:cubicBezTo>
                  <a:pt x="22529" y="11007"/>
                  <a:pt x="22512" y="11029"/>
                  <a:pt x="22448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Ink 17"/>
          <p:cNvSpPr/>
          <p:nvPr/>
        </p:nvSpPr>
        <p:spPr>
          <a:xfrm>
            <a:off x="7296120" y="4017960"/>
            <a:ext cx="731880" cy="500040"/>
          </a:xfrm>
          <a:custGeom>
            <a:avLst/>
            <a:gdLst/>
            <a:ahLst/>
            <a:rect l="l" t="t" r="r" b="b"/>
            <a:pathLst>
              <a:path w="2035" h="1390">
                <a:moveTo>
                  <a:pt x="20265" y="11261"/>
                </a:moveTo>
                <a:cubicBezTo>
                  <a:pt x="20343" y="11201"/>
                  <a:pt x="20397" y="11227"/>
                  <a:pt x="20489" y="11212"/>
                </a:cubicBezTo>
                <a:cubicBezTo>
                  <a:pt x="20588" y="11195"/>
                  <a:pt x="20662" y="11187"/>
                  <a:pt x="20762" y="11187"/>
                </a:cubicBezTo>
                <a:cubicBezTo>
                  <a:pt x="20865" y="11187"/>
                  <a:pt x="20957" y="11166"/>
                  <a:pt x="21059" y="11162"/>
                </a:cubicBezTo>
                <a:cubicBezTo>
                  <a:pt x="21276" y="11154"/>
                  <a:pt x="21488" y="11174"/>
                  <a:pt x="21704" y="11187"/>
                </a:cubicBezTo>
                <a:cubicBezTo>
                  <a:pt x="21815" y="11193"/>
                  <a:pt x="21923" y="11198"/>
                  <a:pt x="22027" y="11212"/>
                </a:cubicBezTo>
                <a:cubicBezTo>
                  <a:pt x="22114" y="11223"/>
                  <a:pt x="22195" y="11191"/>
                  <a:pt x="22275" y="11237"/>
                </a:cubicBezTo>
                <a:cubicBezTo>
                  <a:pt x="22283" y="11245"/>
                  <a:pt x="22291" y="11253"/>
                  <a:pt x="22299" y="11261"/>
                </a:cubicBezTo>
              </a:path>
              <a:path w="2035" h="1390">
                <a:moveTo>
                  <a:pt x="21059" y="11658"/>
                </a:moveTo>
                <a:cubicBezTo>
                  <a:pt x="21088" y="11585"/>
                  <a:pt x="21104" y="11562"/>
                  <a:pt x="21158" y="11509"/>
                </a:cubicBezTo>
                <a:cubicBezTo>
                  <a:pt x="21192" y="11476"/>
                  <a:pt x="21226" y="11416"/>
                  <a:pt x="21282" y="11435"/>
                </a:cubicBezTo>
                <a:cubicBezTo>
                  <a:pt x="21323" y="11449"/>
                  <a:pt x="21395" y="11516"/>
                  <a:pt x="21406" y="11559"/>
                </a:cubicBezTo>
                <a:cubicBezTo>
                  <a:pt x="21429" y="11647"/>
                  <a:pt x="21372" y="11725"/>
                  <a:pt x="21357" y="11807"/>
                </a:cubicBezTo>
                <a:cubicBezTo>
                  <a:pt x="21341" y="11896"/>
                  <a:pt x="21269" y="12018"/>
                  <a:pt x="21233" y="12105"/>
                </a:cubicBezTo>
                <a:cubicBezTo>
                  <a:pt x="21206" y="12171"/>
                  <a:pt x="21146" y="12219"/>
                  <a:pt x="21109" y="12278"/>
                </a:cubicBezTo>
                <a:cubicBezTo>
                  <a:pt x="21075" y="12332"/>
                  <a:pt x="21040" y="12388"/>
                  <a:pt x="20985" y="12427"/>
                </a:cubicBezTo>
                <a:cubicBezTo>
                  <a:pt x="20934" y="12463"/>
                  <a:pt x="20871" y="12534"/>
                  <a:pt x="20811" y="12551"/>
                </a:cubicBezTo>
                <a:cubicBezTo>
                  <a:pt x="20779" y="12560"/>
                  <a:pt x="20676" y="12563"/>
                  <a:pt x="20662" y="12526"/>
                </a:cubicBezTo>
                <a:cubicBezTo>
                  <a:pt x="20638" y="12464"/>
                  <a:pt x="20673" y="12396"/>
                  <a:pt x="20712" y="12353"/>
                </a:cubicBezTo>
                <a:cubicBezTo>
                  <a:pt x="20758" y="12302"/>
                  <a:pt x="20821" y="12282"/>
                  <a:pt x="20886" y="12278"/>
                </a:cubicBezTo>
                <a:cubicBezTo>
                  <a:pt x="20953" y="12274"/>
                  <a:pt x="21026" y="12267"/>
                  <a:pt x="21084" y="12303"/>
                </a:cubicBezTo>
                <a:cubicBezTo>
                  <a:pt x="21139" y="12337"/>
                  <a:pt x="21180" y="12394"/>
                  <a:pt x="21183" y="12452"/>
                </a:cubicBezTo>
                <a:cubicBezTo>
                  <a:pt x="21183" y="12493"/>
                  <a:pt x="21183" y="12501"/>
                  <a:pt x="21183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Ink 18"/>
          <p:cNvSpPr/>
          <p:nvPr/>
        </p:nvSpPr>
        <p:spPr>
          <a:xfrm>
            <a:off x="6912000" y="4473720"/>
            <a:ext cx="1490760" cy="893520"/>
          </a:xfrm>
          <a:custGeom>
            <a:avLst/>
            <a:gdLst/>
            <a:ahLst/>
            <a:rect l="l" t="t" r="r" b="b"/>
            <a:pathLst>
              <a:path w="4143" h="2482">
                <a:moveTo>
                  <a:pt x="19199" y="13196"/>
                </a:moveTo>
                <a:cubicBezTo>
                  <a:pt x="19252" y="13249"/>
                  <a:pt x="19272" y="13246"/>
                  <a:pt x="19348" y="13246"/>
                </a:cubicBezTo>
                <a:cubicBezTo>
                  <a:pt x="19422" y="13246"/>
                  <a:pt x="19486" y="13259"/>
                  <a:pt x="19546" y="13271"/>
                </a:cubicBezTo>
                <a:cubicBezTo>
                  <a:pt x="19608" y="13283"/>
                  <a:pt x="19601" y="13275"/>
                  <a:pt x="19645" y="13320"/>
                </a:cubicBezTo>
              </a:path>
              <a:path w="4143" h="2482">
                <a:moveTo>
                  <a:pt x="19298" y="13568"/>
                </a:moveTo>
                <a:cubicBezTo>
                  <a:pt x="19348" y="13519"/>
                  <a:pt x="19404" y="13505"/>
                  <a:pt x="19472" y="13494"/>
                </a:cubicBezTo>
                <a:cubicBezTo>
                  <a:pt x="19527" y="13485"/>
                  <a:pt x="19582" y="13532"/>
                  <a:pt x="19621" y="13568"/>
                </a:cubicBezTo>
                <a:cubicBezTo>
                  <a:pt x="19649" y="13597"/>
                  <a:pt x="19657" y="13610"/>
                  <a:pt x="19645" y="13643"/>
                </a:cubicBezTo>
              </a:path>
              <a:path w="4143" h="2482">
                <a:moveTo>
                  <a:pt x="20315" y="13271"/>
                </a:moveTo>
                <a:cubicBezTo>
                  <a:pt x="20315" y="13320"/>
                  <a:pt x="20315" y="13337"/>
                  <a:pt x="20315" y="13370"/>
                </a:cubicBezTo>
                <a:cubicBezTo>
                  <a:pt x="20324" y="13297"/>
                  <a:pt x="20312" y="13300"/>
                  <a:pt x="20365" y="13246"/>
                </a:cubicBezTo>
                <a:cubicBezTo>
                  <a:pt x="20404" y="13206"/>
                  <a:pt x="20427" y="13162"/>
                  <a:pt x="20464" y="13122"/>
                </a:cubicBezTo>
                <a:cubicBezTo>
                  <a:pt x="20503" y="13080"/>
                  <a:pt x="20551" y="13048"/>
                  <a:pt x="20613" y="13072"/>
                </a:cubicBezTo>
                <a:cubicBezTo>
                  <a:pt x="20670" y="13094"/>
                  <a:pt x="20684" y="13172"/>
                  <a:pt x="20687" y="13221"/>
                </a:cubicBezTo>
                <a:cubicBezTo>
                  <a:pt x="20693" y="13327"/>
                  <a:pt x="20675" y="13421"/>
                  <a:pt x="20662" y="13519"/>
                </a:cubicBezTo>
                <a:cubicBezTo>
                  <a:pt x="20648" y="13625"/>
                  <a:pt x="20610" y="13717"/>
                  <a:pt x="20563" y="13816"/>
                </a:cubicBezTo>
                <a:cubicBezTo>
                  <a:pt x="20528" y="13890"/>
                  <a:pt x="20501" y="13966"/>
                  <a:pt x="20464" y="14039"/>
                </a:cubicBezTo>
                <a:cubicBezTo>
                  <a:pt x="20424" y="14118"/>
                  <a:pt x="20349" y="14198"/>
                  <a:pt x="20290" y="14263"/>
                </a:cubicBezTo>
                <a:cubicBezTo>
                  <a:pt x="20238" y="14321"/>
                  <a:pt x="20213" y="14352"/>
                  <a:pt x="20141" y="14362"/>
                </a:cubicBezTo>
                <a:cubicBezTo>
                  <a:pt x="20109" y="14307"/>
                  <a:pt x="20117" y="14255"/>
                  <a:pt x="20117" y="14188"/>
                </a:cubicBezTo>
                <a:cubicBezTo>
                  <a:pt x="20117" y="14126"/>
                  <a:pt x="20128" y="14061"/>
                  <a:pt x="20166" y="14015"/>
                </a:cubicBezTo>
                <a:cubicBezTo>
                  <a:pt x="20197" y="13977"/>
                  <a:pt x="20287" y="13901"/>
                  <a:pt x="20340" y="13891"/>
                </a:cubicBezTo>
                <a:cubicBezTo>
                  <a:pt x="20421" y="13877"/>
                  <a:pt x="20440" y="13915"/>
                  <a:pt x="20489" y="13965"/>
                </a:cubicBezTo>
                <a:cubicBezTo>
                  <a:pt x="20524" y="14001"/>
                  <a:pt x="20568" y="14045"/>
                  <a:pt x="20588" y="14089"/>
                </a:cubicBezTo>
                <a:cubicBezTo>
                  <a:pt x="20611" y="14156"/>
                  <a:pt x="20612" y="14177"/>
                  <a:pt x="20662" y="14188"/>
                </a:cubicBezTo>
              </a:path>
              <a:path w="4143" h="2482">
                <a:moveTo>
                  <a:pt x="20960" y="13618"/>
                </a:moveTo>
                <a:cubicBezTo>
                  <a:pt x="21034" y="13618"/>
                  <a:pt x="21088" y="13597"/>
                  <a:pt x="21158" y="13593"/>
                </a:cubicBezTo>
                <a:cubicBezTo>
                  <a:pt x="21218" y="13590"/>
                  <a:pt x="21228" y="13574"/>
                  <a:pt x="21282" y="13543"/>
                </a:cubicBezTo>
              </a:path>
              <a:path w="4143" h="2482">
                <a:moveTo>
                  <a:pt x="21530" y="13320"/>
                </a:moveTo>
                <a:cubicBezTo>
                  <a:pt x="21555" y="13411"/>
                  <a:pt x="21576" y="13522"/>
                  <a:pt x="21555" y="13618"/>
                </a:cubicBezTo>
                <a:cubicBezTo>
                  <a:pt x="21532" y="13723"/>
                  <a:pt x="21510" y="13827"/>
                  <a:pt x="21506" y="13940"/>
                </a:cubicBezTo>
                <a:cubicBezTo>
                  <a:pt x="21506" y="13998"/>
                  <a:pt x="21506" y="14023"/>
                  <a:pt x="21506" y="14064"/>
                </a:cubicBezTo>
                <a:cubicBezTo>
                  <a:pt x="21490" y="14002"/>
                  <a:pt x="21481" y="13942"/>
                  <a:pt x="21481" y="13866"/>
                </a:cubicBezTo>
                <a:cubicBezTo>
                  <a:pt x="21481" y="13779"/>
                  <a:pt x="21506" y="13705"/>
                  <a:pt x="21506" y="13618"/>
                </a:cubicBezTo>
                <a:cubicBezTo>
                  <a:pt x="21506" y="13525"/>
                  <a:pt x="21543" y="13437"/>
                  <a:pt x="21555" y="13345"/>
                </a:cubicBezTo>
                <a:cubicBezTo>
                  <a:pt x="21563" y="13279"/>
                  <a:pt x="21589" y="13150"/>
                  <a:pt x="21630" y="13097"/>
                </a:cubicBezTo>
                <a:cubicBezTo>
                  <a:pt x="21676" y="13038"/>
                  <a:pt x="21728" y="12994"/>
                  <a:pt x="21779" y="12948"/>
                </a:cubicBezTo>
                <a:cubicBezTo>
                  <a:pt x="21835" y="12898"/>
                  <a:pt x="21856" y="12893"/>
                  <a:pt x="21927" y="12874"/>
                </a:cubicBezTo>
                <a:cubicBezTo>
                  <a:pt x="22016" y="12851"/>
                  <a:pt x="22111" y="12806"/>
                  <a:pt x="22200" y="12774"/>
                </a:cubicBezTo>
                <a:cubicBezTo>
                  <a:pt x="22281" y="12745"/>
                  <a:pt x="22388" y="12730"/>
                  <a:pt x="22473" y="12725"/>
                </a:cubicBezTo>
                <a:cubicBezTo>
                  <a:pt x="22535" y="12722"/>
                  <a:pt x="22571" y="12719"/>
                  <a:pt x="22622" y="12700"/>
                </a:cubicBezTo>
              </a:path>
              <a:path w="4143" h="2482">
                <a:moveTo>
                  <a:pt x="22200" y="13072"/>
                </a:moveTo>
                <a:cubicBezTo>
                  <a:pt x="22175" y="13072"/>
                  <a:pt x="22151" y="13072"/>
                  <a:pt x="22126" y="13072"/>
                </a:cubicBezTo>
                <a:cubicBezTo>
                  <a:pt x="22201" y="13061"/>
                  <a:pt x="22265" y="13026"/>
                  <a:pt x="22349" y="13022"/>
                </a:cubicBezTo>
                <a:cubicBezTo>
                  <a:pt x="22423" y="13018"/>
                  <a:pt x="22464" y="13027"/>
                  <a:pt x="22523" y="13072"/>
                </a:cubicBezTo>
                <a:cubicBezTo>
                  <a:pt x="22557" y="13098"/>
                  <a:pt x="22524" y="13164"/>
                  <a:pt x="22498" y="13196"/>
                </a:cubicBezTo>
                <a:cubicBezTo>
                  <a:pt x="22457" y="13247"/>
                  <a:pt x="22413" y="13294"/>
                  <a:pt x="22374" y="13345"/>
                </a:cubicBezTo>
                <a:cubicBezTo>
                  <a:pt x="22336" y="13394"/>
                  <a:pt x="22407" y="13327"/>
                  <a:pt x="22473" y="13345"/>
                </a:cubicBezTo>
                <a:cubicBezTo>
                  <a:pt x="22530" y="13361"/>
                  <a:pt x="22604" y="13405"/>
                  <a:pt x="22647" y="13444"/>
                </a:cubicBezTo>
                <a:cubicBezTo>
                  <a:pt x="22707" y="13499"/>
                  <a:pt x="22717" y="13509"/>
                  <a:pt x="22721" y="13593"/>
                </a:cubicBezTo>
                <a:cubicBezTo>
                  <a:pt x="22725" y="13667"/>
                  <a:pt x="22658" y="13703"/>
                  <a:pt x="22622" y="13767"/>
                </a:cubicBezTo>
                <a:cubicBezTo>
                  <a:pt x="22575" y="13851"/>
                  <a:pt x="22523" y="13854"/>
                  <a:pt x="22448" y="13915"/>
                </a:cubicBezTo>
                <a:cubicBezTo>
                  <a:pt x="22394" y="13959"/>
                  <a:pt x="22351" y="14026"/>
                  <a:pt x="22275" y="14039"/>
                </a:cubicBezTo>
                <a:cubicBezTo>
                  <a:pt x="22213" y="14039"/>
                  <a:pt x="22198" y="14048"/>
                  <a:pt x="22175" y="14015"/>
                </a:cubicBezTo>
              </a:path>
              <a:path w="4143" h="2482">
                <a:moveTo>
                  <a:pt x="22969" y="12750"/>
                </a:moveTo>
                <a:cubicBezTo>
                  <a:pt x="22902" y="12696"/>
                  <a:pt x="22830" y="12617"/>
                  <a:pt x="22746" y="12576"/>
                </a:cubicBezTo>
                <a:cubicBezTo>
                  <a:pt x="22703" y="12555"/>
                  <a:pt x="22616" y="12541"/>
                  <a:pt x="22572" y="12526"/>
                </a:cubicBezTo>
                <a:cubicBezTo>
                  <a:pt x="22490" y="12499"/>
                  <a:pt x="22405" y="12494"/>
                  <a:pt x="22324" y="12477"/>
                </a:cubicBezTo>
                <a:cubicBezTo>
                  <a:pt x="22248" y="12461"/>
                  <a:pt x="22154" y="12435"/>
                  <a:pt x="22076" y="12427"/>
                </a:cubicBezTo>
                <a:cubicBezTo>
                  <a:pt x="21771" y="12396"/>
                  <a:pt x="21448" y="12446"/>
                  <a:pt x="21158" y="12502"/>
                </a:cubicBezTo>
                <a:cubicBezTo>
                  <a:pt x="21067" y="12520"/>
                  <a:pt x="20974" y="12541"/>
                  <a:pt x="20886" y="12576"/>
                </a:cubicBezTo>
                <a:cubicBezTo>
                  <a:pt x="20746" y="12631"/>
                  <a:pt x="20616" y="12708"/>
                  <a:pt x="20489" y="12774"/>
                </a:cubicBezTo>
                <a:cubicBezTo>
                  <a:pt x="20398" y="12821"/>
                  <a:pt x="20323" y="12862"/>
                  <a:pt x="20241" y="12923"/>
                </a:cubicBezTo>
                <a:cubicBezTo>
                  <a:pt x="20175" y="12972"/>
                  <a:pt x="20089" y="13036"/>
                  <a:pt x="20042" y="13097"/>
                </a:cubicBezTo>
                <a:cubicBezTo>
                  <a:pt x="19995" y="13159"/>
                  <a:pt x="19931" y="13228"/>
                  <a:pt x="19893" y="13295"/>
                </a:cubicBezTo>
                <a:cubicBezTo>
                  <a:pt x="19854" y="13364"/>
                  <a:pt x="19815" y="13452"/>
                  <a:pt x="19794" y="13519"/>
                </a:cubicBezTo>
                <a:cubicBezTo>
                  <a:pt x="19761" y="13624"/>
                  <a:pt x="19718" y="13784"/>
                  <a:pt x="19720" y="13891"/>
                </a:cubicBezTo>
                <a:cubicBezTo>
                  <a:pt x="19722" y="13956"/>
                  <a:pt x="19735" y="14071"/>
                  <a:pt x="19745" y="14139"/>
                </a:cubicBezTo>
                <a:cubicBezTo>
                  <a:pt x="19755" y="14207"/>
                  <a:pt x="19782" y="14301"/>
                  <a:pt x="19819" y="14362"/>
                </a:cubicBezTo>
                <a:cubicBezTo>
                  <a:pt x="19865" y="14438"/>
                  <a:pt x="19898" y="14525"/>
                  <a:pt x="19943" y="14585"/>
                </a:cubicBezTo>
                <a:cubicBezTo>
                  <a:pt x="20016" y="14684"/>
                  <a:pt x="20103" y="14734"/>
                  <a:pt x="20191" y="14784"/>
                </a:cubicBezTo>
                <a:cubicBezTo>
                  <a:pt x="20255" y="14820"/>
                  <a:pt x="20321" y="14839"/>
                  <a:pt x="20389" y="14858"/>
                </a:cubicBezTo>
                <a:cubicBezTo>
                  <a:pt x="20476" y="14882"/>
                  <a:pt x="20569" y="14902"/>
                  <a:pt x="20662" y="14908"/>
                </a:cubicBezTo>
                <a:cubicBezTo>
                  <a:pt x="20769" y="14915"/>
                  <a:pt x="20880" y="14897"/>
                  <a:pt x="20985" y="14883"/>
                </a:cubicBezTo>
                <a:cubicBezTo>
                  <a:pt x="21082" y="14870"/>
                  <a:pt x="21186" y="14851"/>
                  <a:pt x="21282" y="14833"/>
                </a:cubicBezTo>
                <a:cubicBezTo>
                  <a:pt x="21372" y="14816"/>
                  <a:pt x="21464" y="14799"/>
                  <a:pt x="21555" y="14784"/>
                </a:cubicBezTo>
                <a:cubicBezTo>
                  <a:pt x="21702" y="14759"/>
                  <a:pt x="21809" y="14726"/>
                  <a:pt x="21952" y="14660"/>
                </a:cubicBezTo>
                <a:cubicBezTo>
                  <a:pt x="22083" y="14600"/>
                  <a:pt x="22222" y="14559"/>
                  <a:pt x="22349" y="14486"/>
                </a:cubicBezTo>
                <a:cubicBezTo>
                  <a:pt x="22452" y="14427"/>
                  <a:pt x="22548" y="14347"/>
                  <a:pt x="22647" y="14288"/>
                </a:cubicBezTo>
                <a:cubicBezTo>
                  <a:pt x="22785" y="14206"/>
                  <a:pt x="22876" y="14103"/>
                  <a:pt x="22994" y="13990"/>
                </a:cubicBezTo>
                <a:cubicBezTo>
                  <a:pt x="23068" y="13919"/>
                  <a:pt x="23134" y="13849"/>
                  <a:pt x="23192" y="13767"/>
                </a:cubicBezTo>
                <a:cubicBezTo>
                  <a:pt x="23265" y="13665"/>
                  <a:pt x="23287" y="13605"/>
                  <a:pt x="23316" y="13494"/>
                </a:cubicBezTo>
                <a:cubicBezTo>
                  <a:pt x="23335" y="13423"/>
                  <a:pt x="23354" y="13349"/>
                  <a:pt x="23341" y="13271"/>
                </a:cubicBezTo>
                <a:cubicBezTo>
                  <a:pt x="23324" y="13173"/>
                  <a:pt x="23282" y="13108"/>
                  <a:pt x="23242" y="13022"/>
                </a:cubicBezTo>
                <a:cubicBezTo>
                  <a:pt x="23211" y="12955"/>
                  <a:pt x="23184" y="12888"/>
                  <a:pt x="23143" y="12824"/>
                </a:cubicBezTo>
                <a:cubicBezTo>
                  <a:pt x="23102" y="12761"/>
                  <a:pt x="23036" y="12712"/>
                  <a:pt x="22994" y="12650"/>
                </a:cubicBezTo>
                <a:cubicBezTo>
                  <a:pt x="22931" y="12556"/>
                  <a:pt x="22940" y="12567"/>
                  <a:pt x="22845" y="12526"/>
                </a:cubicBezTo>
                <a:cubicBezTo>
                  <a:pt x="22746" y="12483"/>
                  <a:pt x="22741" y="12491"/>
                  <a:pt x="22622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Ink 19"/>
          <p:cNvSpPr/>
          <p:nvPr/>
        </p:nvSpPr>
        <p:spPr>
          <a:xfrm>
            <a:off x="285840" y="1839960"/>
            <a:ext cx="2679480" cy="1571400"/>
          </a:xfrm>
          <a:custGeom>
            <a:avLst/>
            <a:gdLst/>
            <a:ahLst/>
            <a:rect l="l" t="t" r="r" b="b"/>
            <a:pathLst>
              <a:path w="7442" h="4366">
                <a:moveTo>
                  <a:pt x="1364" y="5978"/>
                </a:moveTo>
                <a:lnTo>
                  <a:pt x="1364" y="5978"/>
                </a:lnTo>
              </a:path>
              <a:path w="7442" h="4366">
                <a:moveTo>
                  <a:pt x="1364" y="5978"/>
                </a:moveTo>
                <a:cubicBezTo>
                  <a:pt x="1372" y="6003"/>
                  <a:pt x="1381" y="6027"/>
                  <a:pt x="1389" y="6052"/>
                </a:cubicBezTo>
              </a:path>
              <a:path w="7442" h="4366">
                <a:moveTo>
                  <a:pt x="1389" y="6052"/>
                </a:moveTo>
                <a:cubicBezTo>
                  <a:pt x="1380" y="6122"/>
                  <a:pt x="1364" y="6177"/>
                  <a:pt x="1364" y="6251"/>
                </a:cubicBezTo>
                <a:cubicBezTo>
                  <a:pt x="1364" y="6443"/>
                  <a:pt x="1370" y="6637"/>
                  <a:pt x="1339" y="6821"/>
                </a:cubicBezTo>
                <a:cubicBezTo>
                  <a:pt x="1331" y="6867"/>
                  <a:pt x="1339" y="6923"/>
                  <a:pt x="1339" y="6970"/>
                </a:cubicBezTo>
              </a:path>
              <a:path w="7442" h="4366">
                <a:moveTo>
                  <a:pt x="1588" y="6573"/>
                </a:moveTo>
                <a:cubicBezTo>
                  <a:pt x="1737" y="6573"/>
                  <a:pt x="1885" y="6573"/>
                  <a:pt x="2034" y="6573"/>
                </a:cubicBezTo>
              </a:path>
              <a:path w="7442" h="4366">
                <a:moveTo>
                  <a:pt x="2356" y="6102"/>
                </a:moveTo>
                <a:cubicBezTo>
                  <a:pt x="2356" y="6209"/>
                  <a:pt x="2356" y="6317"/>
                  <a:pt x="2356" y="6424"/>
                </a:cubicBezTo>
                <a:cubicBezTo>
                  <a:pt x="2356" y="6234"/>
                  <a:pt x="2346" y="6028"/>
                  <a:pt x="2381" y="5854"/>
                </a:cubicBezTo>
                <a:cubicBezTo>
                  <a:pt x="2396" y="5781"/>
                  <a:pt x="2410" y="5747"/>
                  <a:pt x="2480" y="5705"/>
                </a:cubicBezTo>
                <a:cubicBezTo>
                  <a:pt x="2554" y="5662"/>
                  <a:pt x="2646" y="5680"/>
                  <a:pt x="2729" y="5680"/>
                </a:cubicBezTo>
                <a:cubicBezTo>
                  <a:pt x="2808" y="5680"/>
                  <a:pt x="3017" y="5654"/>
                  <a:pt x="3051" y="5705"/>
                </a:cubicBezTo>
              </a:path>
              <a:path w="7442" h="4366">
                <a:moveTo>
                  <a:pt x="2654" y="6003"/>
                </a:moveTo>
                <a:cubicBezTo>
                  <a:pt x="2708" y="5995"/>
                  <a:pt x="2802" y="5946"/>
                  <a:pt x="2853" y="5953"/>
                </a:cubicBezTo>
                <a:cubicBezTo>
                  <a:pt x="2881" y="5982"/>
                  <a:pt x="2894" y="5990"/>
                  <a:pt x="2927" y="5978"/>
                </a:cubicBezTo>
                <a:cubicBezTo>
                  <a:pt x="2918" y="6042"/>
                  <a:pt x="2916" y="6097"/>
                  <a:pt x="2853" y="6127"/>
                </a:cubicBezTo>
                <a:cubicBezTo>
                  <a:pt x="2783" y="6160"/>
                  <a:pt x="2777" y="6152"/>
                  <a:pt x="2729" y="6201"/>
                </a:cubicBezTo>
                <a:cubicBezTo>
                  <a:pt x="2774" y="6208"/>
                  <a:pt x="2866" y="6215"/>
                  <a:pt x="2902" y="6251"/>
                </a:cubicBezTo>
                <a:cubicBezTo>
                  <a:pt x="2960" y="6309"/>
                  <a:pt x="2924" y="6383"/>
                  <a:pt x="2853" y="6400"/>
                </a:cubicBezTo>
                <a:cubicBezTo>
                  <a:pt x="2802" y="6412"/>
                  <a:pt x="2732" y="6400"/>
                  <a:pt x="2679" y="6400"/>
                </a:cubicBezTo>
              </a:path>
              <a:path w="7442" h="4366">
                <a:moveTo>
                  <a:pt x="2307" y="6548"/>
                </a:moveTo>
                <a:cubicBezTo>
                  <a:pt x="2388" y="6548"/>
                  <a:pt x="2453" y="6528"/>
                  <a:pt x="2530" y="6524"/>
                </a:cubicBezTo>
                <a:cubicBezTo>
                  <a:pt x="2686" y="6516"/>
                  <a:pt x="2845" y="6524"/>
                  <a:pt x="3001" y="6524"/>
                </a:cubicBezTo>
              </a:path>
              <a:path w="7442" h="4366">
                <a:moveTo>
                  <a:pt x="2555" y="6747"/>
                </a:moveTo>
                <a:cubicBezTo>
                  <a:pt x="2624" y="6737"/>
                  <a:pt x="2676" y="6700"/>
                  <a:pt x="2753" y="6697"/>
                </a:cubicBezTo>
                <a:cubicBezTo>
                  <a:pt x="2815" y="6697"/>
                  <a:pt x="2830" y="6688"/>
                  <a:pt x="2853" y="6722"/>
                </a:cubicBezTo>
                <a:cubicBezTo>
                  <a:pt x="2819" y="6781"/>
                  <a:pt x="2766" y="6815"/>
                  <a:pt x="2729" y="6871"/>
                </a:cubicBezTo>
                <a:cubicBezTo>
                  <a:pt x="2690" y="6931"/>
                  <a:pt x="2685" y="6912"/>
                  <a:pt x="2629" y="6945"/>
                </a:cubicBezTo>
                <a:cubicBezTo>
                  <a:pt x="2702" y="6945"/>
                  <a:pt x="2785" y="6948"/>
                  <a:pt x="2853" y="6970"/>
                </a:cubicBezTo>
                <a:cubicBezTo>
                  <a:pt x="2925" y="6993"/>
                  <a:pt x="2948" y="7036"/>
                  <a:pt x="2902" y="7094"/>
                </a:cubicBezTo>
                <a:cubicBezTo>
                  <a:pt x="2858" y="7149"/>
                  <a:pt x="2788" y="7103"/>
                  <a:pt x="2729" y="7119"/>
                </a:cubicBezTo>
                <a:cubicBezTo>
                  <a:pt x="2654" y="7140"/>
                  <a:pt x="2586" y="7144"/>
                  <a:pt x="2505" y="7144"/>
                </a:cubicBezTo>
              </a:path>
              <a:path w="7442" h="4366">
                <a:moveTo>
                  <a:pt x="1017" y="7342"/>
                </a:moveTo>
                <a:cubicBezTo>
                  <a:pt x="1124" y="7372"/>
                  <a:pt x="1205" y="7350"/>
                  <a:pt x="1315" y="7367"/>
                </a:cubicBezTo>
                <a:cubicBezTo>
                  <a:pt x="1432" y="7385"/>
                  <a:pt x="1542" y="7383"/>
                  <a:pt x="1662" y="7392"/>
                </a:cubicBezTo>
                <a:cubicBezTo>
                  <a:pt x="1881" y="7409"/>
                  <a:pt x="2088" y="7417"/>
                  <a:pt x="2307" y="7417"/>
                </a:cubicBezTo>
                <a:cubicBezTo>
                  <a:pt x="2491" y="7417"/>
                  <a:pt x="2670" y="7437"/>
                  <a:pt x="2853" y="7441"/>
                </a:cubicBezTo>
                <a:cubicBezTo>
                  <a:pt x="3043" y="7445"/>
                  <a:pt x="3233" y="7441"/>
                  <a:pt x="3423" y="7441"/>
                </a:cubicBezTo>
              </a:path>
              <a:path w="7442" h="4366">
                <a:moveTo>
                  <a:pt x="1290" y="7863"/>
                </a:moveTo>
                <a:cubicBezTo>
                  <a:pt x="1282" y="7927"/>
                  <a:pt x="1279" y="7998"/>
                  <a:pt x="1265" y="8062"/>
                </a:cubicBezTo>
                <a:cubicBezTo>
                  <a:pt x="1246" y="8150"/>
                  <a:pt x="1225" y="8245"/>
                  <a:pt x="1215" y="8334"/>
                </a:cubicBezTo>
                <a:cubicBezTo>
                  <a:pt x="1203" y="8439"/>
                  <a:pt x="1200" y="8554"/>
                  <a:pt x="1191" y="8657"/>
                </a:cubicBezTo>
                <a:cubicBezTo>
                  <a:pt x="1180" y="8784"/>
                  <a:pt x="1183" y="8905"/>
                  <a:pt x="1166" y="9029"/>
                </a:cubicBezTo>
                <a:cubicBezTo>
                  <a:pt x="1166" y="9079"/>
                  <a:pt x="1166" y="9096"/>
                  <a:pt x="1166" y="9029"/>
                </a:cubicBezTo>
              </a:path>
              <a:path w="7442" h="4366">
                <a:moveTo>
                  <a:pt x="1860" y="8260"/>
                </a:moveTo>
                <a:cubicBezTo>
                  <a:pt x="1860" y="8369"/>
                  <a:pt x="1840" y="8451"/>
                  <a:pt x="1836" y="8558"/>
                </a:cubicBezTo>
                <a:cubicBezTo>
                  <a:pt x="1832" y="8645"/>
                  <a:pt x="1877" y="8810"/>
                  <a:pt x="1860" y="8880"/>
                </a:cubicBezTo>
                <a:cubicBezTo>
                  <a:pt x="1852" y="8880"/>
                  <a:pt x="1844" y="8880"/>
                  <a:pt x="1836" y="8880"/>
                </a:cubicBezTo>
              </a:path>
              <a:path w="7442" h="4366">
                <a:moveTo>
                  <a:pt x="1488" y="8434"/>
                </a:moveTo>
                <a:cubicBezTo>
                  <a:pt x="1575" y="8434"/>
                  <a:pt x="1651" y="8455"/>
                  <a:pt x="1736" y="8458"/>
                </a:cubicBezTo>
                <a:cubicBezTo>
                  <a:pt x="1838" y="8462"/>
                  <a:pt x="1929" y="8483"/>
                  <a:pt x="2034" y="8483"/>
                </a:cubicBezTo>
                <a:cubicBezTo>
                  <a:pt x="2102" y="8483"/>
                  <a:pt x="2121" y="8486"/>
                  <a:pt x="2158" y="8458"/>
                </a:cubicBezTo>
              </a:path>
              <a:path w="7442" h="4366">
                <a:moveTo>
                  <a:pt x="2356" y="7987"/>
                </a:moveTo>
                <a:cubicBezTo>
                  <a:pt x="2356" y="8059"/>
                  <a:pt x="2377" y="8096"/>
                  <a:pt x="2381" y="8161"/>
                </a:cubicBezTo>
                <a:cubicBezTo>
                  <a:pt x="2384" y="8210"/>
                  <a:pt x="2381" y="8261"/>
                  <a:pt x="2381" y="8310"/>
                </a:cubicBezTo>
                <a:cubicBezTo>
                  <a:pt x="2381" y="8233"/>
                  <a:pt x="2393" y="8174"/>
                  <a:pt x="2406" y="8111"/>
                </a:cubicBezTo>
                <a:cubicBezTo>
                  <a:pt x="2419" y="8047"/>
                  <a:pt x="2420" y="7968"/>
                  <a:pt x="2431" y="7913"/>
                </a:cubicBezTo>
                <a:cubicBezTo>
                  <a:pt x="2436" y="7887"/>
                  <a:pt x="2495" y="7779"/>
                  <a:pt x="2530" y="7764"/>
                </a:cubicBezTo>
                <a:cubicBezTo>
                  <a:pt x="2581" y="7742"/>
                  <a:pt x="2796" y="7658"/>
                  <a:pt x="2877" y="7689"/>
                </a:cubicBezTo>
                <a:cubicBezTo>
                  <a:pt x="2885" y="7697"/>
                  <a:pt x="2894" y="7706"/>
                  <a:pt x="2902" y="7714"/>
                </a:cubicBezTo>
              </a:path>
              <a:path w="7442" h="4366">
                <a:moveTo>
                  <a:pt x="2629" y="7913"/>
                </a:moveTo>
                <a:cubicBezTo>
                  <a:pt x="2701" y="7913"/>
                  <a:pt x="2738" y="7892"/>
                  <a:pt x="2803" y="7888"/>
                </a:cubicBezTo>
                <a:cubicBezTo>
                  <a:pt x="2865" y="7884"/>
                  <a:pt x="2945" y="7909"/>
                  <a:pt x="2927" y="7987"/>
                </a:cubicBezTo>
                <a:cubicBezTo>
                  <a:pt x="2908" y="8068"/>
                  <a:pt x="2861" y="8093"/>
                  <a:pt x="2803" y="8136"/>
                </a:cubicBezTo>
                <a:cubicBezTo>
                  <a:pt x="2724" y="8195"/>
                  <a:pt x="2672" y="8155"/>
                  <a:pt x="2729" y="8186"/>
                </a:cubicBezTo>
                <a:cubicBezTo>
                  <a:pt x="2784" y="8216"/>
                  <a:pt x="2847" y="8215"/>
                  <a:pt x="2902" y="8260"/>
                </a:cubicBezTo>
                <a:cubicBezTo>
                  <a:pt x="2910" y="8268"/>
                  <a:pt x="2919" y="8277"/>
                  <a:pt x="2927" y="8285"/>
                </a:cubicBezTo>
                <a:cubicBezTo>
                  <a:pt x="2862" y="8337"/>
                  <a:pt x="2836" y="8356"/>
                  <a:pt x="2753" y="8359"/>
                </a:cubicBezTo>
                <a:cubicBezTo>
                  <a:pt x="2680" y="8362"/>
                  <a:pt x="2652" y="8384"/>
                  <a:pt x="2580" y="8384"/>
                </a:cubicBezTo>
              </a:path>
              <a:path w="7442" h="4366">
                <a:moveTo>
                  <a:pt x="2307" y="8434"/>
                </a:moveTo>
                <a:cubicBezTo>
                  <a:pt x="2509" y="8434"/>
                  <a:pt x="2904" y="8359"/>
                  <a:pt x="3076" y="8458"/>
                </a:cubicBezTo>
              </a:path>
              <a:path w="7442" h="4366">
                <a:moveTo>
                  <a:pt x="2604" y="8706"/>
                </a:moveTo>
                <a:cubicBezTo>
                  <a:pt x="2579" y="8786"/>
                  <a:pt x="2657" y="8693"/>
                  <a:pt x="2704" y="8682"/>
                </a:cubicBezTo>
                <a:cubicBezTo>
                  <a:pt x="2779" y="8665"/>
                  <a:pt x="2834" y="8648"/>
                  <a:pt x="2902" y="8682"/>
                </a:cubicBezTo>
                <a:cubicBezTo>
                  <a:pt x="2894" y="8734"/>
                  <a:pt x="2865" y="8810"/>
                  <a:pt x="2803" y="8830"/>
                </a:cubicBezTo>
                <a:cubicBezTo>
                  <a:pt x="2758" y="8830"/>
                  <a:pt x="2745" y="8826"/>
                  <a:pt x="2729" y="8855"/>
                </a:cubicBezTo>
                <a:cubicBezTo>
                  <a:pt x="2780" y="8886"/>
                  <a:pt x="2845" y="8898"/>
                  <a:pt x="2902" y="8930"/>
                </a:cubicBezTo>
                <a:cubicBezTo>
                  <a:pt x="2966" y="8965"/>
                  <a:pt x="3048" y="8983"/>
                  <a:pt x="3026" y="9079"/>
                </a:cubicBezTo>
                <a:cubicBezTo>
                  <a:pt x="3008" y="9160"/>
                  <a:pt x="2960" y="9184"/>
                  <a:pt x="2902" y="9227"/>
                </a:cubicBezTo>
                <a:cubicBezTo>
                  <a:pt x="2851" y="9265"/>
                  <a:pt x="2820" y="9291"/>
                  <a:pt x="2753" y="9302"/>
                </a:cubicBezTo>
                <a:cubicBezTo>
                  <a:pt x="2710" y="9309"/>
                  <a:pt x="2627" y="9267"/>
                  <a:pt x="2604" y="9227"/>
                </a:cubicBezTo>
                <a:cubicBezTo>
                  <a:pt x="2604" y="9219"/>
                  <a:pt x="2604" y="9211"/>
                  <a:pt x="2604" y="9203"/>
                </a:cubicBezTo>
              </a:path>
              <a:path w="7442" h="4366">
                <a:moveTo>
                  <a:pt x="1017" y="7714"/>
                </a:moveTo>
                <a:cubicBezTo>
                  <a:pt x="981" y="7821"/>
                  <a:pt x="953" y="7930"/>
                  <a:pt x="918" y="8037"/>
                </a:cubicBezTo>
                <a:cubicBezTo>
                  <a:pt x="874" y="8174"/>
                  <a:pt x="846" y="8297"/>
                  <a:pt x="819" y="8434"/>
                </a:cubicBezTo>
                <a:cubicBezTo>
                  <a:pt x="794" y="8561"/>
                  <a:pt x="803" y="8630"/>
                  <a:pt x="819" y="8756"/>
                </a:cubicBezTo>
                <a:cubicBezTo>
                  <a:pt x="831" y="8848"/>
                  <a:pt x="902" y="8934"/>
                  <a:pt x="967" y="9004"/>
                </a:cubicBezTo>
                <a:cubicBezTo>
                  <a:pt x="1014" y="9051"/>
                  <a:pt x="1026" y="9065"/>
                  <a:pt x="1067" y="9079"/>
                </a:cubicBezTo>
              </a:path>
              <a:path w="7442" h="4366">
                <a:moveTo>
                  <a:pt x="3274" y="7739"/>
                </a:moveTo>
                <a:cubicBezTo>
                  <a:pt x="3305" y="7816"/>
                  <a:pt x="3367" y="7844"/>
                  <a:pt x="3398" y="7913"/>
                </a:cubicBezTo>
                <a:cubicBezTo>
                  <a:pt x="3451" y="8033"/>
                  <a:pt x="3486" y="8185"/>
                  <a:pt x="3522" y="8310"/>
                </a:cubicBezTo>
                <a:cubicBezTo>
                  <a:pt x="3552" y="8414"/>
                  <a:pt x="3585" y="8574"/>
                  <a:pt x="3572" y="8682"/>
                </a:cubicBezTo>
                <a:cubicBezTo>
                  <a:pt x="3560" y="8777"/>
                  <a:pt x="3517" y="8919"/>
                  <a:pt x="3473" y="9004"/>
                </a:cubicBezTo>
                <a:cubicBezTo>
                  <a:pt x="3421" y="9105"/>
                  <a:pt x="3353" y="9155"/>
                  <a:pt x="3274" y="9227"/>
                </a:cubicBezTo>
                <a:cubicBezTo>
                  <a:pt x="3229" y="9268"/>
                  <a:pt x="3195" y="9344"/>
                  <a:pt x="3125" y="9327"/>
                </a:cubicBezTo>
                <a:cubicBezTo>
                  <a:pt x="3070" y="9299"/>
                  <a:pt x="3054" y="9284"/>
                  <a:pt x="3076" y="9227"/>
                </a:cubicBezTo>
              </a:path>
              <a:path w="7442" h="4366">
                <a:moveTo>
                  <a:pt x="1265" y="5779"/>
                </a:moveTo>
                <a:cubicBezTo>
                  <a:pt x="1256" y="5842"/>
                  <a:pt x="1226" y="5889"/>
                  <a:pt x="1215" y="5953"/>
                </a:cubicBezTo>
                <a:cubicBezTo>
                  <a:pt x="1202" y="6033"/>
                  <a:pt x="1170" y="6098"/>
                  <a:pt x="1141" y="6176"/>
                </a:cubicBezTo>
                <a:cubicBezTo>
                  <a:pt x="1092" y="6307"/>
                  <a:pt x="1048" y="6434"/>
                  <a:pt x="1042" y="6573"/>
                </a:cubicBezTo>
                <a:cubicBezTo>
                  <a:pt x="1036" y="6724"/>
                  <a:pt x="1031" y="6875"/>
                  <a:pt x="1067" y="7020"/>
                </a:cubicBezTo>
                <a:cubicBezTo>
                  <a:pt x="1088" y="7105"/>
                  <a:pt x="1137" y="7220"/>
                  <a:pt x="1191" y="7293"/>
                </a:cubicBezTo>
                <a:cubicBezTo>
                  <a:pt x="1231" y="7348"/>
                  <a:pt x="1309" y="7381"/>
                  <a:pt x="1364" y="7417"/>
                </a:cubicBezTo>
              </a:path>
              <a:path w="7442" h="4366">
                <a:moveTo>
                  <a:pt x="3299" y="5482"/>
                </a:moveTo>
                <a:cubicBezTo>
                  <a:pt x="3322" y="5556"/>
                  <a:pt x="3336" y="5639"/>
                  <a:pt x="3373" y="5705"/>
                </a:cubicBezTo>
                <a:cubicBezTo>
                  <a:pt x="3430" y="5806"/>
                  <a:pt x="3478" y="5883"/>
                  <a:pt x="3497" y="6003"/>
                </a:cubicBezTo>
                <a:cubicBezTo>
                  <a:pt x="3525" y="6180"/>
                  <a:pt x="3552" y="6319"/>
                  <a:pt x="3522" y="6499"/>
                </a:cubicBezTo>
                <a:cubicBezTo>
                  <a:pt x="3508" y="6584"/>
                  <a:pt x="3442" y="6719"/>
                  <a:pt x="3373" y="6772"/>
                </a:cubicBezTo>
                <a:cubicBezTo>
                  <a:pt x="3324" y="6796"/>
                  <a:pt x="3307" y="6805"/>
                  <a:pt x="3299" y="6846"/>
                </a:cubicBezTo>
              </a:path>
              <a:path w="7442" h="4366">
                <a:moveTo>
                  <a:pt x="3969" y="7466"/>
                </a:moveTo>
                <a:cubicBezTo>
                  <a:pt x="3927" y="7508"/>
                  <a:pt x="3902" y="7516"/>
                  <a:pt x="3944" y="7541"/>
                </a:cubicBezTo>
                <a:cubicBezTo>
                  <a:pt x="3987" y="7535"/>
                  <a:pt x="4074" y="7441"/>
                  <a:pt x="3994" y="7441"/>
                </a:cubicBezTo>
                <a:cubicBezTo>
                  <a:pt x="3950" y="7463"/>
                  <a:pt x="3938" y="7466"/>
                  <a:pt x="3919" y="7491"/>
                </a:cubicBezTo>
              </a:path>
              <a:path w="7442" h="4366">
                <a:moveTo>
                  <a:pt x="4614" y="7466"/>
                </a:moveTo>
                <a:cubicBezTo>
                  <a:pt x="4577" y="7530"/>
                  <a:pt x="4569" y="7574"/>
                  <a:pt x="4539" y="7640"/>
                </a:cubicBezTo>
                <a:cubicBezTo>
                  <a:pt x="4499" y="7728"/>
                  <a:pt x="4430" y="7815"/>
                  <a:pt x="4415" y="7913"/>
                </a:cubicBezTo>
                <a:cubicBezTo>
                  <a:pt x="4393" y="8051"/>
                  <a:pt x="4354" y="8196"/>
                  <a:pt x="4341" y="8334"/>
                </a:cubicBezTo>
                <a:cubicBezTo>
                  <a:pt x="4329" y="8470"/>
                  <a:pt x="4333" y="8601"/>
                  <a:pt x="4341" y="8731"/>
                </a:cubicBezTo>
                <a:cubicBezTo>
                  <a:pt x="4348" y="8840"/>
                  <a:pt x="4359" y="8950"/>
                  <a:pt x="4390" y="9054"/>
                </a:cubicBezTo>
                <a:cubicBezTo>
                  <a:pt x="4423" y="9164"/>
                  <a:pt x="4470" y="9254"/>
                  <a:pt x="4564" y="9327"/>
                </a:cubicBezTo>
                <a:cubicBezTo>
                  <a:pt x="4572" y="9327"/>
                  <a:pt x="4581" y="9327"/>
                  <a:pt x="4589" y="9327"/>
                </a:cubicBezTo>
              </a:path>
              <a:path w="7442" h="4366">
                <a:moveTo>
                  <a:pt x="7094" y="7590"/>
                </a:moveTo>
                <a:cubicBezTo>
                  <a:pt x="7094" y="7680"/>
                  <a:pt x="7095" y="7778"/>
                  <a:pt x="7119" y="7863"/>
                </a:cubicBezTo>
                <a:cubicBezTo>
                  <a:pt x="7151" y="7974"/>
                  <a:pt x="7171" y="8075"/>
                  <a:pt x="7193" y="8186"/>
                </a:cubicBezTo>
                <a:cubicBezTo>
                  <a:pt x="7218" y="8310"/>
                  <a:pt x="7258" y="8452"/>
                  <a:pt x="7243" y="8582"/>
                </a:cubicBezTo>
                <a:cubicBezTo>
                  <a:pt x="7227" y="8714"/>
                  <a:pt x="7200" y="8847"/>
                  <a:pt x="7169" y="8979"/>
                </a:cubicBezTo>
                <a:cubicBezTo>
                  <a:pt x="7152" y="9051"/>
                  <a:pt x="7096" y="9246"/>
                  <a:pt x="7045" y="9302"/>
                </a:cubicBezTo>
                <a:cubicBezTo>
                  <a:pt x="6986" y="9367"/>
                  <a:pt x="6885" y="9452"/>
                  <a:pt x="6796" y="9475"/>
                </a:cubicBezTo>
                <a:cubicBezTo>
                  <a:pt x="6746" y="9488"/>
                  <a:pt x="6675" y="9475"/>
                  <a:pt x="6623" y="9475"/>
                </a:cubicBezTo>
              </a:path>
              <a:path w="7442" h="4366">
                <a:moveTo>
                  <a:pt x="4390" y="7268"/>
                </a:moveTo>
                <a:cubicBezTo>
                  <a:pt x="4520" y="7268"/>
                  <a:pt x="4635" y="7256"/>
                  <a:pt x="4762" y="7243"/>
                </a:cubicBezTo>
                <a:cubicBezTo>
                  <a:pt x="4909" y="7228"/>
                  <a:pt x="5062" y="7221"/>
                  <a:pt x="5209" y="7218"/>
                </a:cubicBezTo>
                <a:cubicBezTo>
                  <a:pt x="5414" y="7214"/>
                  <a:pt x="5600" y="7207"/>
                  <a:pt x="5804" y="7218"/>
                </a:cubicBezTo>
                <a:cubicBezTo>
                  <a:pt x="6027" y="7230"/>
                  <a:pt x="6252" y="7232"/>
                  <a:pt x="6474" y="7243"/>
                </a:cubicBezTo>
                <a:cubicBezTo>
                  <a:pt x="6659" y="7252"/>
                  <a:pt x="6836" y="7277"/>
                  <a:pt x="7020" y="7293"/>
                </a:cubicBezTo>
                <a:cubicBezTo>
                  <a:pt x="7047" y="7295"/>
                  <a:pt x="7342" y="7318"/>
                  <a:pt x="7342" y="7317"/>
                </a:cubicBezTo>
                <a:cubicBezTo>
                  <a:pt x="7368" y="7257"/>
                  <a:pt x="7194" y="7227"/>
                  <a:pt x="7169" y="7218"/>
                </a:cubicBezTo>
              </a:path>
              <a:path w="7442" h="4366">
                <a:moveTo>
                  <a:pt x="4961" y="7888"/>
                </a:moveTo>
                <a:cubicBezTo>
                  <a:pt x="4961" y="7962"/>
                  <a:pt x="4982" y="8016"/>
                  <a:pt x="4986" y="8086"/>
                </a:cubicBezTo>
                <a:cubicBezTo>
                  <a:pt x="4996" y="8260"/>
                  <a:pt x="4984" y="8442"/>
                  <a:pt x="4961" y="8607"/>
                </a:cubicBezTo>
                <a:cubicBezTo>
                  <a:pt x="4951" y="8681"/>
                  <a:pt x="4940" y="8820"/>
                  <a:pt x="4986" y="8806"/>
                </a:cubicBezTo>
              </a:path>
              <a:path w="7442" h="4366">
                <a:moveTo>
                  <a:pt x="5308" y="8334"/>
                </a:moveTo>
                <a:cubicBezTo>
                  <a:pt x="5370" y="8319"/>
                  <a:pt x="5484" y="8319"/>
                  <a:pt x="5556" y="8334"/>
                </a:cubicBezTo>
                <a:cubicBezTo>
                  <a:pt x="5617" y="8347"/>
                  <a:pt x="5663" y="8359"/>
                  <a:pt x="5730" y="8359"/>
                </a:cubicBezTo>
              </a:path>
              <a:path w="7442" h="4366">
                <a:moveTo>
                  <a:pt x="6102" y="7863"/>
                </a:moveTo>
                <a:cubicBezTo>
                  <a:pt x="6102" y="7991"/>
                  <a:pt x="6104" y="8122"/>
                  <a:pt x="6127" y="8235"/>
                </a:cubicBezTo>
                <a:cubicBezTo>
                  <a:pt x="6152" y="8359"/>
                  <a:pt x="6103" y="8184"/>
                  <a:pt x="6102" y="8161"/>
                </a:cubicBezTo>
                <a:cubicBezTo>
                  <a:pt x="6097" y="8059"/>
                  <a:pt x="6084" y="7923"/>
                  <a:pt x="6127" y="7838"/>
                </a:cubicBezTo>
                <a:cubicBezTo>
                  <a:pt x="6153" y="7787"/>
                  <a:pt x="6189" y="7729"/>
                  <a:pt x="6251" y="7714"/>
                </a:cubicBezTo>
                <a:cubicBezTo>
                  <a:pt x="6312" y="7699"/>
                  <a:pt x="6355" y="7689"/>
                  <a:pt x="6424" y="7689"/>
                </a:cubicBezTo>
                <a:cubicBezTo>
                  <a:pt x="6474" y="7689"/>
                  <a:pt x="6491" y="7689"/>
                  <a:pt x="6524" y="7689"/>
                </a:cubicBezTo>
              </a:path>
              <a:path w="7442" h="4366">
                <a:moveTo>
                  <a:pt x="6375" y="7863"/>
                </a:moveTo>
                <a:cubicBezTo>
                  <a:pt x="6457" y="7853"/>
                  <a:pt x="6493" y="7827"/>
                  <a:pt x="6573" y="7863"/>
                </a:cubicBezTo>
                <a:cubicBezTo>
                  <a:pt x="6590" y="7871"/>
                  <a:pt x="6606" y="7880"/>
                  <a:pt x="6623" y="7888"/>
                </a:cubicBezTo>
                <a:cubicBezTo>
                  <a:pt x="6596" y="7962"/>
                  <a:pt x="6579" y="8008"/>
                  <a:pt x="6524" y="8062"/>
                </a:cubicBezTo>
                <a:cubicBezTo>
                  <a:pt x="6485" y="8100"/>
                  <a:pt x="6387" y="8121"/>
                  <a:pt x="6449" y="8111"/>
                </a:cubicBezTo>
                <a:cubicBezTo>
                  <a:pt x="6512" y="8100"/>
                  <a:pt x="6533" y="8147"/>
                  <a:pt x="6573" y="8186"/>
                </a:cubicBezTo>
                <a:cubicBezTo>
                  <a:pt x="6602" y="8215"/>
                  <a:pt x="6675" y="8259"/>
                  <a:pt x="6648" y="8310"/>
                </a:cubicBezTo>
                <a:cubicBezTo>
                  <a:pt x="6601" y="8398"/>
                  <a:pt x="6505" y="8384"/>
                  <a:pt x="6424" y="8384"/>
                </a:cubicBezTo>
                <a:cubicBezTo>
                  <a:pt x="6416" y="8384"/>
                  <a:pt x="6408" y="8384"/>
                  <a:pt x="6400" y="8384"/>
                </a:cubicBezTo>
              </a:path>
              <a:path w="7442" h="4366">
                <a:moveTo>
                  <a:pt x="6052" y="8508"/>
                </a:moveTo>
                <a:cubicBezTo>
                  <a:pt x="6112" y="8544"/>
                  <a:pt x="6176" y="8533"/>
                  <a:pt x="6251" y="8533"/>
                </a:cubicBezTo>
                <a:cubicBezTo>
                  <a:pt x="6340" y="8533"/>
                  <a:pt x="6413" y="8546"/>
                  <a:pt x="6499" y="8558"/>
                </a:cubicBezTo>
                <a:cubicBezTo>
                  <a:pt x="6570" y="8568"/>
                  <a:pt x="6650" y="8558"/>
                  <a:pt x="6722" y="8558"/>
                </a:cubicBezTo>
              </a:path>
              <a:path w="7442" h="4366">
                <a:moveTo>
                  <a:pt x="6201" y="8756"/>
                </a:moveTo>
                <a:cubicBezTo>
                  <a:pt x="6271" y="8747"/>
                  <a:pt x="6332" y="8717"/>
                  <a:pt x="6400" y="8706"/>
                </a:cubicBezTo>
                <a:cubicBezTo>
                  <a:pt x="6480" y="8692"/>
                  <a:pt x="6565" y="8729"/>
                  <a:pt x="6623" y="8781"/>
                </a:cubicBezTo>
                <a:cubicBezTo>
                  <a:pt x="6631" y="8789"/>
                  <a:pt x="6640" y="8798"/>
                  <a:pt x="6648" y="8806"/>
                </a:cubicBezTo>
                <a:cubicBezTo>
                  <a:pt x="6608" y="8837"/>
                  <a:pt x="6566" y="8878"/>
                  <a:pt x="6524" y="8905"/>
                </a:cubicBezTo>
                <a:cubicBezTo>
                  <a:pt x="6480" y="8934"/>
                  <a:pt x="6317" y="8954"/>
                  <a:pt x="6424" y="8954"/>
                </a:cubicBezTo>
                <a:cubicBezTo>
                  <a:pt x="6486" y="8954"/>
                  <a:pt x="6569" y="8954"/>
                  <a:pt x="6623" y="8979"/>
                </a:cubicBezTo>
                <a:cubicBezTo>
                  <a:pt x="6663" y="8998"/>
                  <a:pt x="6658" y="9117"/>
                  <a:pt x="6648" y="9153"/>
                </a:cubicBezTo>
                <a:cubicBezTo>
                  <a:pt x="6631" y="9213"/>
                  <a:pt x="6572" y="9248"/>
                  <a:pt x="6524" y="9277"/>
                </a:cubicBezTo>
                <a:cubicBezTo>
                  <a:pt x="6466" y="9312"/>
                  <a:pt x="6345" y="9321"/>
                  <a:pt x="6276" y="9302"/>
                </a:cubicBezTo>
                <a:cubicBezTo>
                  <a:pt x="6186" y="9277"/>
                  <a:pt x="6128" y="9218"/>
                  <a:pt x="6052" y="9178"/>
                </a:cubicBezTo>
                <a:cubicBezTo>
                  <a:pt x="6027" y="9170"/>
                  <a:pt x="6003" y="9161"/>
                  <a:pt x="5978" y="9153"/>
                </a:cubicBezTo>
              </a:path>
              <a:path w="7442" h="4366">
                <a:moveTo>
                  <a:pt x="4415" y="5531"/>
                </a:moveTo>
                <a:cubicBezTo>
                  <a:pt x="4392" y="5593"/>
                  <a:pt x="4352" y="5664"/>
                  <a:pt x="4341" y="5730"/>
                </a:cubicBezTo>
                <a:cubicBezTo>
                  <a:pt x="4326" y="5825"/>
                  <a:pt x="4284" y="5907"/>
                  <a:pt x="4266" y="6003"/>
                </a:cubicBezTo>
                <a:cubicBezTo>
                  <a:pt x="4249" y="6097"/>
                  <a:pt x="4226" y="6206"/>
                  <a:pt x="4217" y="6300"/>
                </a:cubicBezTo>
                <a:cubicBezTo>
                  <a:pt x="4201" y="6473"/>
                  <a:pt x="4181" y="6683"/>
                  <a:pt x="4242" y="6846"/>
                </a:cubicBezTo>
                <a:cubicBezTo>
                  <a:pt x="4271" y="6925"/>
                  <a:pt x="4278" y="6957"/>
                  <a:pt x="4341" y="7020"/>
                </a:cubicBezTo>
                <a:cubicBezTo>
                  <a:pt x="4389" y="7068"/>
                  <a:pt x="4399" y="7063"/>
                  <a:pt x="4465" y="7069"/>
                </a:cubicBezTo>
              </a:path>
              <a:path w="7442" h="4366">
                <a:moveTo>
                  <a:pt x="4812" y="5705"/>
                </a:moveTo>
                <a:cubicBezTo>
                  <a:pt x="4833" y="5804"/>
                  <a:pt x="4837" y="5878"/>
                  <a:pt x="4837" y="5978"/>
                </a:cubicBezTo>
                <a:cubicBezTo>
                  <a:pt x="4837" y="6067"/>
                  <a:pt x="4850" y="6141"/>
                  <a:pt x="4862" y="6226"/>
                </a:cubicBezTo>
                <a:cubicBezTo>
                  <a:pt x="4877" y="6333"/>
                  <a:pt x="4832" y="6765"/>
                  <a:pt x="4887" y="6747"/>
                </a:cubicBezTo>
              </a:path>
              <a:path w="7442" h="4366">
                <a:moveTo>
                  <a:pt x="5110" y="6152"/>
                </a:moveTo>
                <a:cubicBezTo>
                  <a:pt x="5180" y="6160"/>
                  <a:pt x="5235" y="6176"/>
                  <a:pt x="5308" y="6176"/>
                </a:cubicBezTo>
                <a:cubicBezTo>
                  <a:pt x="5395" y="6176"/>
                  <a:pt x="5471" y="6161"/>
                  <a:pt x="5556" y="6152"/>
                </a:cubicBezTo>
              </a:path>
              <a:path w="7442" h="4366">
                <a:moveTo>
                  <a:pt x="6003" y="5631"/>
                </a:moveTo>
                <a:cubicBezTo>
                  <a:pt x="6029" y="5746"/>
                  <a:pt x="6033" y="5894"/>
                  <a:pt x="6077" y="6003"/>
                </a:cubicBezTo>
                <a:cubicBezTo>
                  <a:pt x="6105" y="6031"/>
                  <a:pt x="6114" y="6044"/>
                  <a:pt x="6102" y="6077"/>
                </a:cubicBezTo>
                <a:cubicBezTo>
                  <a:pt x="6076" y="6010"/>
                  <a:pt x="6069" y="5947"/>
                  <a:pt x="6052" y="5879"/>
                </a:cubicBezTo>
                <a:cubicBezTo>
                  <a:pt x="6032" y="5799"/>
                  <a:pt x="6020" y="5741"/>
                  <a:pt x="6028" y="5680"/>
                </a:cubicBezTo>
                <a:cubicBezTo>
                  <a:pt x="6039" y="5602"/>
                  <a:pt x="6072" y="5561"/>
                  <a:pt x="6127" y="5507"/>
                </a:cubicBezTo>
                <a:cubicBezTo>
                  <a:pt x="6193" y="5442"/>
                  <a:pt x="6220" y="5462"/>
                  <a:pt x="6300" y="5432"/>
                </a:cubicBezTo>
                <a:cubicBezTo>
                  <a:pt x="6349" y="5413"/>
                  <a:pt x="6388" y="5407"/>
                  <a:pt x="6449" y="5407"/>
                </a:cubicBezTo>
              </a:path>
              <a:path w="7442" h="4366">
                <a:moveTo>
                  <a:pt x="6300" y="5655"/>
                </a:moveTo>
                <a:cubicBezTo>
                  <a:pt x="6351" y="5615"/>
                  <a:pt x="6386" y="5585"/>
                  <a:pt x="6449" y="5581"/>
                </a:cubicBezTo>
                <a:cubicBezTo>
                  <a:pt x="6564" y="5574"/>
                  <a:pt x="6504" y="5649"/>
                  <a:pt x="6474" y="5705"/>
                </a:cubicBezTo>
                <a:cubicBezTo>
                  <a:pt x="6446" y="5757"/>
                  <a:pt x="6416" y="5788"/>
                  <a:pt x="6375" y="5829"/>
                </a:cubicBezTo>
                <a:cubicBezTo>
                  <a:pt x="6367" y="5837"/>
                  <a:pt x="6358" y="5846"/>
                  <a:pt x="6350" y="5854"/>
                </a:cubicBezTo>
                <a:cubicBezTo>
                  <a:pt x="6427" y="5854"/>
                  <a:pt x="6481" y="5858"/>
                  <a:pt x="6548" y="5904"/>
                </a:cubicBezTo>
                <a:cubicBezTo>
                  <a:pt x="6593" y="5935"/>
                  <a:pt x="6628" y="5986"/>
                  <a:pt x="6573" y="6028"/>
                </a:cubicBezTo>
                <a:cubicBezTo>
                  <a:pt x="6504" y="6081"/>
                  <a:pt x="6425" y="6070"/>
                  <a:pt x="6350" y="6102"/>
                </a:cubicBezTo>
                <a:cubicBezTo>
                  <a:pt x="6333" y="6110"/>
                  <a:pt x="6317" y="6119"/>
                  <a:pt x="6300" y="6127"/>
                </a:cubicBezTo>
              </a:path>
              <a:path w="7442" h="4366">
                <a:moveTo>
                  <a:pt x="5978" y="6251"/>
                </a:moveTo>
                <a:cubicBezTo>
                  <a:pt x="6067" y="6251"/>
                  <a:pt x="6144" y="6237"/>
                  <a:pt x="6226" y="6226"/>
                </a:cubicBezTo>
                <a:cubicBezTo>
                  <a:pt x="6358" y="6209"/>
                  <a:pt x="6492" y="6220"/>
                  <a:pt x="6623" y="6201"/>
                </a:cubicBezTo>
                <a:cubicBezTo>
                  <a:pt x="6672" y="6201"/>
                  <a:pt x="6689" y="6201"/>
                  <a:pt x="6722" y="6201"/>
                </a:cubicBezTo>
              </a:path>
              <a:path w="7442" h="4366">
                <a:moveTo>
                  <a:pt x="6325" y="6474"/>
                </a:moveTo>
                <a:cubicBezTo>
                  <a:pt x="6361" y="6438"/>
                  <a:pt x="6404" y="6409"/>
                  <a:pt x="6449" y="6400"/>
                </a:cubicBezTo>
                <a:cubicBezTo>
                  <a:pt x="6506" y="6389"/>
                  <a:pt x="6533" y="6417"/>
                  <a:pt x="6573" y="6449"/>
                </a:cubicBezTo>
                <a:cubicBezTo>
                  <a:pt x="6536" y="6524"/>
                  <a:pt x="6523" y="6559"/>
                  <a:pt x="6449" y="6598"/>
                </a:cubicBezTo>
                <a:cubicBezTo>
                  <a:pt x="6401" y="6622"/>
                  <a:pt x="6387" y="6631"/>
                  <a:pt x="6350" y="6623"/>
                </a:cubicBezTo>
                <a:cubicBezTo>
                  <a:pt x="6438" y="6623"/>
                  <a:pt x="6518" y="6613"/>
                  <a:pt x="6598" y="6648"/>
                </a:cubicBezTo>
                <a:cubicBezTo>
                  <a:pt x="6683" y="6685"/>
                  <a:pt x="6718" y="6748"/>
                  <a:pt x="6697" y="6846"/>
                </a:cubicBezTo>
                <a:cubicBezTo>
                  <a:pt x="6687" y="6895"/>
                  <a:pt x="6583" y="6927"/>
                  <a:pt x="6548" y="6945"/>
                </a:cubicBezTo>
                <a:cubicBezTo>
                  <a:pt x="6482" y="6978"/>
                  <a:pt x="6423" y="6970"/>
                  <a:pt x="6350" y="6970"/>
                </a:cubicBezTo>
                <a:cubicBezTo>
                  <a:pt x="6297" y="6970"/>
                  <a:pt x="6294" y="6956"/>
                  <a:pt x="6251" y="6945"/>
                </a:cubicBezTo>
              </a:path>
              <a:path w="7442" h="4366">
                <a:moveTo>
                  <a:pt x="6524" y="5110"/>
                </a:moveTo>
                <a:cubicBezTo>
                  <a:pt x="6568" y="5155"/>
                  <a:pt x="6614" y="5208"/>
                  <a:pt x="6648" y="5259"/>
                </a:cubicBezTo>
                <a:cubicBezTo>
                  <a:pt x="6727" y="5377"/>
                  <a:pt x="6843" y="5594"/>
                  <a:pt x="6896" y="5705"/>
                </a:cubicBezTo>
                <a:cubicBezTo>
                  <a:pt x="6951" y="5821"/>
                  <a:pt x="6962" y="5978"/>
                  <a:pt x="6995" y="6102"/>
                </a:cubicBezTo>
                <a:cubicBezTo>
                  <a:pt x="7037" y="6257"/>
                  <a:pt x="7024" y="6399"/>
                  <a:pt x="6970" y="6548"/>
                </a:cubicBezTo>
                <a:cubicBezTo>
                  <a:pt x="6935" y="6644"/>
                  <a:pt x="6901" y="6713"/>
                  <a:pt x="6846" y="6796"/>
                </a:cubicBezTo>
                <a:cubicBezTo>
                  <a:pt x="6829" y="6821"/>
                  <a:pt x="6813" y="6846"/>
                  <a:pt x="6796" y="6871"/>
                </a:cubicBezTo>
              </a:path>
              <a:path w="7442" h="4366">
                <a:moveTo>
                  <a:pt x="7913" y="7466"/>
                </a:moveTo>
                <a:cubicBezTo>
                  <a:pt x="8020" y="7466"/>
                  <a:pt x="8128" y="7466"/>
                  <a:pt x="8235" y="7466"/>
                </a:cubicBezTo>
              </a:path>
              <a:path w="7442" h="4366">
                <a:moveTo>
                  <a:pt x="7987" y="7640"/>
                </a:moveTo>
                <a:cubicBezTo>
                  <a:pt x="8047" y="7676"/>
                  <a:pt x="8111" y="7665"/>
                  <a:pt x="8186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Ink 20"/>
          <p:cNvSpPr/>
          <p:nvPr/>
        </p:nvSpPr>
        <p:spPr>
          <a:xfrm>
            <a:off x="3633840" y="1303200"/>
            <a:ext cx="2081160" cy="27000"/>
          </a:xfrm>
          <a:custGeom>
            <a:avLst/>
            <a:gdLst/>
            <a:ahLst/>
            <a:rect l="l" t="t" r="r" b="b"/>
            <a:pathLst>
              <a:path w="5780" h="76">
                <a:moveTo>
                  <a:pt x="10096" y="3646"/>
                </a:moveTo>
                <a:cubicBezTo>
                  <a:pt x="10203" y="3651"/>
                  <a:pt x="10281" y="3669"/>
                  <a:pt x="10393" y="3671"/>
                </a:cubicBezTo>
                <a:cubicBezTo>
                  <a:pt x="10602" y="3675"/>
                  <a:pt x="10808" y="3661"/>
                  <a:pt x="11013" y="3646"/>
                </a:cubicBezTo>
                <a:cubicBezTo>
                  <a:pt x="11218" y="3631"/>
                  <a:pt x="11429" y="3633"/>
                  <a:pt x="11633" y="3621"/>
                </a:cubicBezTo>
                <a:cubicBezTo>
                  <a:pt x="12192" y="3587"/>
                  <a:pt x="12764" y="3619"/>
                  <a:pt x="13320" y="3646"/>
                </a:cubicBezTo>
                <a:cubicBezTo>
                  <a:pt x="13922" y="3675"/>
                  <a:pt x="14530" y="3645"/>
                  <a:pt x="15131" y="3671"/>
                </a:cubicBezTo>
                <a:cubicBezTo>
                  <a:pt x="15323" y="3679"/>
                  <a:pt x="15512" y="3692"/>
                  <a:pt x="15701" y="3696"/>
                </a:cubicBezTo>
                <a:cubicBezTo>
                  <a:pt x="15848" y="3699"/>
                  <a:pt x="15865" y="3744"/>
                  <a:pt x="15801" y="36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Ink 21"/>
          <p:cNvSpPr/>
          <p:nvPr/>
        </p:nvSpPr>
        <p:spPr>
          <a:xfrm>
            <a:off x="6643800" y="1320840"/>
            <a:ext cx="1849320" cy="73080"/>
          </a:xfrm>
          <a:custGeom>
            <a:avLst/>
            <a:gdLst/>
            <a:ahLst/>
            <a:rect l="l" t="t" r="r" b="b"/>
            <a:pathLst>
              <a:path w="5135" h="200">
                <a:moveTo>
                  <a:pt x="18455" y="3696"/>
                </a:moveTo>
                <a:cubicBezTo>
                  <a:pt x="18531" y="3682"/>
                  <a:pt x="18597" y="3673"/>
                  <a:pt x="18678" y="3671"/>
                </a:cubicBezTo>
                <a:cubicBezTo>
                  <a:pt x="18903" y="3665"/>
                  <a:pt x="19132" y="3681"/>
                  <a:pt x="19348" y="3696"/>
                </a:cubicBezTo>
                <a:cubicBezTo>
                  <a:pt x="19504" y="3707"/>
                  <a:pt x="19665" y="3711"/>
                  <a:pt x="19819" y="3721"/>
                </a:cubicBezTo>
                <a:cubicBezTo>
                  <a:pt x="20000" y="3732"/>
                  <a:pt x="20184" y="3743"/>
                  <a:pt x="20365" y="3746"/>
                </a:cubicBezTo>
                <a:cubicBezTo>
                  <a:pt x="20530" y="3749"/>
                  <a:pt x="20697" y="3754"/>
                  <a:pt x="20861" y="3770"/>
                </a:cubicBezTo>
                <a:cubicBezTo>
                  <a:pt x="21020" y="3786"/>
                  <a:pt x="21170" y="3795"/>
                  <a:pt x="21332" y="3795"/>
                </a:cubicBezTo>
                <a:cubicBezTo>
                  <a:pt x="21516" y="3795"/>
                  <a:pt x="21695" y="3816"/>
                  <a:pt x="21878" y="3820"/>
                </a:cubicBezTo>
                <a:cubicBezTo>
                  <a:pt x="22234" y="3828"/>
                  <a:pt x="22591" y="3824"/>
                  <a:pt x="22944" y="3845"/>
                </a:cubicBezTo>
                <a:cubicBezTo>
                  <a:pt x="23089" y="3854"/>
                  <a:pt x="23227" y="3862"/>
                  <a:pt x="23366" y="3870"/>
                </a:cubicBezTo>
                <a:cubicBezTo>
                  <a:pt x="23450" y="3875"/>
                  <a:pt x="23521" y="3859"/>
                  <a:pt x="23589" y="38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Ink 22"/>
          <p:cNvSpPr/>
          <p:nvPr/>
        </p:nvSpPr>
        <p:spPr>
          <a:xfrm>
            <a:off x="3224160" y="2697120"/>
            <a:ext cx="2232000" cy="125280"/>
          </a:xfrm>
          <a:custGeom>
            <a:avLst/>
            <a:gdLst/>
            <a:ahLst/>
            <a:rect l="l" t="t" r="r" b="b"/>
            <a:pathLst>
              <a:path w="6203" h="348">
                <a:moveTo>
                  <a:pt x="8954" y="7541"/>
                </a:moveTo>
                <a:cubicBezTo>
                  <a:pt x="9116" y="7511"/>
                  <a:pt x="9286" y="7494"/>
                  <a:pt x="9451" y="7491"/>
                </a:cubicBezTo>
                <a:cubicBezTo>
                  <a:pt x="9742" y="7486"/>
                  <a:pt x="10032" y="7496"/>
                  <a:pt x="10319" y="7516"/>
                </a:cubicBezTo>
                <a:cubicBezTo>
                  <a:pt x="10625" y="7538"/>
                  <a:pt x="10932" y="7528"/>
                  <a:pt x="11237" y="7565"/>
                </a:cubicBezTo>
                <a:cubicBezTo>
                  <a:pt x="11436" y="7589"/>
                  <a:pt x="11634" y="7613"/>
                  <a:pt x="11832" y="7640"/>
                </a:cubicBezTo>
                <a:cubicBezTo>
                  <a:pt x="12131" y="7681"/>
                  <a:pt x="12449" y="7698"/>
                  <a:pt x="12750" y="7714"/>
                </a:cubicBezTo>
                <a:cubicBezTo>
                  <a:pt x="13015" y="7728"/>
                  <a:pt x="13279" y="7771"/>
                  <a:pt x="13543" y="7789"/>
                </a:cubicBezTo>
                <a:cubicBezTo>
                  <a:pt x="13733" y="7802"/>
                  <a:pt x="13923" y="7813"/>
                  <a:pt x="14114" y="7813"/>
                </a:cubicBezTo>
                <a:cubicBezTo>
                  <a:pt x="14276" y="7813"/>
                  <a:pt x="14426" y="7827"/>
                  <a:pt x="14585" y="7838"/>
                </a:cubicBezTo>
                <a:cubicBezTo>
                  <a:pt x="14768" y="7851"/>
                  <a:pt x="14952" y="7839"/>
                  <a:pt x="15131" y="7813"/>
                </a:cubicBezTo>
                <a:cubicBezTo>
                  <a:pt x="15139" y="7813"/>
                  <a:pt x="15148" y="7813"/>
                  <a:pt x="15156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2" name="Ink 2"/>
          <p:cNvSpPr/>
          <p:nvPr/>
        </p:nvSpPr>
        <p:spPr>
          <a:xfrm>
            <a:off x="392040" y="642960"/>
            <a:ext cx="5332320" cy="750960"/>
          </a:xfrm>
          <a:custGeom>
            <a:avLst/>
            <a:gdLst/>
            <a:ahLst/>
            <a:rect l="l" t="t" r="r" b="b"/>
            <a:pathLst>
              <a:path w="14810" h="2085">
                <a:moveTo>
                  <a:pt x="1141" y="2406"/>
                </a:moveTo>
                <a:cubicBezTo>
                  <a:pt x="1141" y="2543"/>
                  <a:pt x="1133" y="2674"/>
                  <a:pt x="1116" y="2803"/>
                </a:cubicBezTo>
                <a:cubicBezTo>
                  <a:pt x="1102" y="2907"/>
                  <a:pt x="1101" y="3026"/>
                  <a:pt x="1091" y="3125"/>
                </a:cubicBezTo>
                <a:cubicBezTo>
                  <a:pt x="1084" y="3189"/>
                  <a:pt x="1050" y="3362"/>
                  <a:pt x="1116" y="3274"/>
                </a:cubicBezTo>
              </a:path>
              <a:path w="14810" h="2085">
                <a:moveTo>
                  <a:pt x="1463" y="2406"/>
                </a:moveTo>
                <a:cubicBezTo>
                  <a:pt x="1582" y="2432"/>
                  <a:pt x="1588" y="2412"/>
                  <a:pt x="1687" y="2406"/>
                </a:cubicBezTo>
                <a:cubicBezTo>
                  <a:pt x="1750" y="2402"/>
                  <a:pt x="1785" y="2390"/>
                  <a:pt x="1836" y="2356"/>
                </a:cubicBezTo>
              </a:path>
              <a:path w="14810" h="2085">
                <a:moveTo>
                  <a:pt x="1439" y="2456"/>
                </a:moveTo>
                <a:cubicBezTo>
                  <a:pt x="1419" y="2530"/>
                  <a:pt x="1393" y="2626"/>
                  <a:pt x="1414" y="2704"/>
                </a:cubicBezTo>
                <a:cubicBezTo>
                  <a:pt x="1422" y="2720"/>
                  <a:pt x="1431" y="2737"/>
                  <a:pt x="1439" y="2753"/>
                </a:cubicBezTo>
                <a:cubicBezTo>
                  <a:pt x="1468" y="2702"/>
                  <a:pt x="1499" y="2644"/>
                  <a:pt x="1563" y="2629"/>
                </a:cubicBezTo>
                <a:cubicBezTo>
                  <a:pt x="1667" y="2604"/>
                  <a:pt x="1654" y="2653"/>
                  <a:pt x="1712" y="2704"/>
                </a:cubicBezTo>
                <a:cubicBezTo>
                  <a:pt x="1784" y="2766"/>
                  <a:pt x="1786" y="2748"/>
                  <a:pt x="1786" y="2853"/>
                </a:cubicBezTo>
                <a:cubicBezTo>
                  <a:pt x="1786" y="2938"/>
                  <a:pt x="1786" y="2983"/>
                  <a:pt x="1736" y="3051"/>
                </a:cubicBezTo>
                <a:cubicBezTo>
                  <a:pt x="1712" y="3084"/>
                  <a:pt x="1648" y="3127"/>
                  <a:pt x="1612" y="3150"/>
                </a:cubicBezTo>
                <a:cubicBezTo>
                  <a:pt x="1584" y="3168"/>
                  <a:pt x="1458" y="3221"/>
                  <a:pt x="1439" y="3175"/>
                </a:cubicBezTo>
                <a:cubicBezTo>
                  <a:pt x="1439" y="3107"/>
                  <a:pt x="1436" y="3088"/>
                  <a:pt x="1463" y="3051"/>
                </a:cubicBezTo>
              </a:path>
              <a:path w="14810" h="2085">
                <a:moveTo>
                  <a:pt x="1712" y="2108"/>
                </a:moveTo>
                <a:cubicBezTo>
                  <a:pt x="1810" y="2166"/>
                  <a:pt x="1945" y="2229"/>
                  <a:pt x="2009" y="2332"/>
                </a:cubicBezTo>
                <a:cubicBezTo>
                  <a:pt x="2067" y="2426"/>
                  <a:pt x="2098" y="2575"/>
                  <a:pt x="2133" y="2679"/>
                </a:cubicBezTo>
                <a:cubicBezTo>
                  <a:pt x="2171" y="2791"/>
                  <a:pt x="2161" y="2884"/>
                  <a:pt x="2133" y="3001"/>
                </a:cubicBezTo>
                <a:cubicBezTo>
                  <a:pt x="2116" y="3069"/>
                  <a:pt x="2029" y="3224"/>
                  <a:pt x="1984" y="3274"/>
                </a:cubicBezTo>
                <a:cubicBezTo>
                  <a:pt x="1931" y="3332"/>
                  <a:pt x="1802" y="3457"/>
                  <a:pt x="1736" y="3497"/>
                </a:cubicBezTo>
                <a:cubicBezTo>
                  <a:pt x="1664" y="3521"/>
                  <a:pt x="1641" y="3528"/>
                  <a:pt x="1612" y="3572"/>
                </a:cubicBezTo>
              </a:path>
              <a:path w="14810" h="2085">
                <a:moveTo>
                  <a:pt x="3324" y="2133"/>
                </a:moveTo>
                <a:cubicBezTo>
                  <a:pt x="3315" y="2246"/>
                  <a:pt x="3315" y="2368"/>
                  <a:pt x="3299" y="2480"/>
                </a:cubicBezTo>
                <a:cubicBezTo>
                  <a:pt x="3279" y="2622"/>
                  <a:pt x="3245" y="2761"/>
                  <a:pt x="3225" y="2902"/>
                </a:cubicBezTo>
                <a:cubicBezTo>
                  <a:pt x="3202" y="3063"/>
                  <a:pt x="3201" y="3247"/>
                  <a:pt x="3150" y="3398"/>
                </a:cubicBezTo>
                <a:cubicBezTo>
                  <a:pt x="3125" y="3448"/>
                  <a:pt x="3117" y="3465"/>
                  <a:pt x="3101" y="3398"/>
                </a:cubicBezTo>
              </a:path>
              <a:path w="14810" h="2085">
                <a:moveTo>
                  <a:pt x="2828" y="2853"/>
                </a:moveTo>
                <a:cubicBezTo>
                  <a:pt x="2971" y="2781"/>
                  <a:pt x="3081" y="2752"/>
                  <a:pt x="3249" y="2778"/>
                </a:cubicBezTo>
                <a:cubicBezTo>
                  <a:pt x="3358" y="2795"/>
                  <a:pt x="3462" y="2864"/>
                  <a:pt x="3572" y="2877"/>
                </a:cubicBezTo>
                <a:cubicBezTo>
                  <a:pt x="3675" y="2889"/>
                  <a:pt x="3765" y="2902"/>
                  <a:pt x="3870" y="2902"/>
                </a:cubicBezTo>
                <a:cubicBezTo>
                  <a:pt x="3940" y="2902"/>
                  <a:pt x="3965" y="2909"/>
                  <a:pt x="4018" y="2877"/>
                </a:cubicBezTo>
                <a:cubicBezTo>
                  <a:pt x="3988" y="2824"/>
                  <a:pt x="3939" y="2770"/>
                  <a:pt x="3870" y="2778"/>
                </a:cubicBezTo>
                <a:cubicBezTo>
                  <a:pt x="3817" y="2784"/>
                  <a:pt x="3703" y="2865"/>
                  <a:pt x="3671" y="2902"/>
                </a:cubicBezTo>
                <a:cubicBezTo>
                  <a:pt x="3607" y="2976"/>
                  <a:pt x="3557" y="3056"/>
                  <a:pt x="3522" y="3150"/>
                </a:cubicBezTo>
                <a:cubicBezTo>
                  <a:pt x="3489" y="3238"/>
                  <a:pt x="3485" y="3298"/>
                  <a:pt x="3547" y="3373"/>
                </a:cubicBezTo>
                <a:cubicBezTo>
                  <a:pt x="3597" y="3434"/>
                  <a:pt x="3639" y="3427"/>
                  <a:pt x="3696" y="3398"/>
                </a:cubicBezTo>
                <a:cubicBezTo>
                  <a:pt x="3784" y="3353"/>
                  <a:pt x="3869" y="3333"/>
                  <a:pt x="3919" y="3249"/>
                </a:cubicBezTo>
                <a:cubicBezTo>
                  <a:pt x="3973" y="3159"/>
                  <a:pt x="4038" y="3096"/>
                  <a:pt x="4018" y="2977"/>
                </a:cubicBezTo>
                <a:cubicBezTo>
                  <a:pt x="4010" y="2960"/>
                  <a:pt x="4002" y="2944"/>
                  <a:pt x="3994" y="2927"/>
                </a:cubicBezTo>
                <a:cubicBezTo>
                  <a:pt x="3980" y="3005"/>
                  <a:pt x="3977" y="3090"/>
                  <a:pt x="3994" y="3175"/>
                </a:cubicBezTo>
                <a:cubicBezTo>
                  <a:pt x="4012" y="3263"/>
                  <a:pt x="4060" y="3347"/>
                  <a:pt x="4142" y="3324"/>
                </a:cubicBezTo>
                <a:cubicBezTo>
                  <a:pt x="4159" y="3316"/>
                  <a:pt x="4175" y="3307"/>
                  <a:pt x="4192" y="3299"/>
                </a:cubicBezTo>
              </a:path>
              <a:path w="14810" h="2085">
                <a:moveTo>
                  <a:pt x="4266" y="2877"/>
                </a:moveTo>
                <a:cubicBezTo>
                  <a:pt x="4266" y="3009"/>
                  <a:pt x="4266" y="3142"/>
                  <a:pt x="4266" y="3274"/>
                </a:cubicBezTo>
                <a:cubicBezTo>
                  <a:pt x="4308" y="3295"/>
                  <a:pt x="4266" y="3220"/>
                  <a:pt x="4266" y="3150"/>
                </a:cubicBezTo>
                <a:cubicBezTo>
                  <a:pt x="4266" y="3072"/>
                  <a:pt x="4271" y="3019"/>
                  <a:pt x="4316" y="2952"/>
                </a:cubicBezTo>
                <a:cubicBezTo>
                  <a:pt x="4351" y="2900"/>
                  <a:pt x="4419" y="2772"/>
                  <a:pt x="4490" y="2753"/>
                </a:cubicBezTo>
                <a:cubicBezTo>
                  <a:pt x="4555" y="2735"/>
                  <a:pt x="4624" y="2791"/>
                  <a:pt x="4638" y="2853"/>
                </a:cubicBezTo>
                <a:cubicBezTo>
                  <a:pt x="4660" y="2950"/>
                  <a:pt x="4663" y="3050"/>
                  <a:pt x="4663" y="3150"/>
                </a:cubicBezTo>
                <a:cubicBezTo>
                  <a:pt x="4663" y="3223"/>
                  <a:pt x="4657" y="3305"/>
                  <a:pt x="4638" y="3373"/>
                </a:cubicBezTo>
                <a:cubicBezTo>
                  <a:pt x="4630" y="3390"/>
                  <a:pt x="4622" y="3406"/>
                  <a:pt x="4614" y="3423"/>
                </a:cubicBezTo>
              </a:path>
              <a:path w="14810" h="2085">
                <a:moveTo>
                  <a:pt x="5308" y="1811"/>
                </a:moveTo>
                <a:cubicBezTo>
                  <a:pt x="5247" y="1907"/>
                  <a:pt x="5218" y="1976"/>
                  <a:pt x="5184" y="2084"/>
                </a:cubicBezTo>
                <a:cubicBezTo>
                  <a:pt x="5125" y="2272"/>
                  <a:pt x="5109" y="2434"/>
                  <a:pt x="5085" y="2629"/>
                </a:cubicBezTo>
                <a:cubicBezTo>
                  <a:pt x="5058" y="2850"/>
                  <a:pt x="5040" y="3076"/>
                  <a:pt x="5035" y="3299"/>
                </a:cubicBezTo>
                <a:cubicBezTo>
                  <a:pt x="5032" y="3449"/>
                  <a:pt x="5000" y="3652"/>
                  <a:pt x="5060" y="3795"/>
                </a:cubicBezTo>
                <a:cubicBezTo>
                  <a:pt x="5072" y="3824"/>
                  <a:pt x="5149" y="3897"/>
                  <a:pt x="5184" y="3870"/>
                </a:cubicBezTo>
                <a:cubicBezTo>
                  <a:pt x="5209" y="3820"/>
                  <a:pt x="5217" y="3803"/>
                  <a:pt x="5259" y="3795"/>
                </a:cubicBezTo>
              </a:path>
              <a:path w="14810" h="2085">
                <a:moveTo>
                  <a:pt x="5606" y="1860"/>
                </a:moveTo>
                <a:cubicBezTo>
                  <a:pt x="5658" y="1839"/>
                  <a:pt x="5867" y="1720"/>
                  <a:pt x="5928" y="1811"/>
                </a:cubicBezTo>
                <a:cubicBezTo>
                  <a:pt x="5986" y="1897"/>
                  <a:pt x="5889" y="1965"/>
                  <a:pt x="5854" y="2009"/>
                </a:cubicBezTo>
                <a:cubicBezTo>
                  <a:pt x="5815" y="2058"/>
                  <a:pt x="5776" y="2087"/>
                  <a:pt x="5730" y="2133"/>
                </a:cubicBezTo>
                <a:cubicBezTo>
                  <a:pt x="5722" y="2141"/>
                  <a:pt x="5713" y="2150"/>
                  <a:pt x="5705" y="2158"/>
                </a:cubicBezTo>
                <a:cubicBezTo>
                  <a:pt x="5770" y="2173"/>
                  <a:pt x="5885" y="2201"/>
                  <a:pt x="5904" y="2282"/>
                </a:cubicBezTo>
                <a:cubicBezTo>
                  <a:pt x="5916" y="2333"/>
                  <a:pt x="5882" y="2435"/>
                  <a:pt x="5854" y="2480"/>
                </a:cubicBezTo>
                <a:cubicBezTo>
                  <a:pt x="5811" y="2549"/>
                  <a:pt x="5766" y="2559"/>
                  <a:pt x="5705" y="2580"/>
                </a:cubicBezTo>
                <a:cubicBezTo>
                  <a:pt x="5607" y="2614"/>
                  <a:pt x="5594" y="2611"/>
                  <a:pt x="5581" y="2505"/>
                </a:cubicBezTo>
              </a:path>
              <a:path w="14810" h="2085">
                <a:moveTo>
                  <a:pt x="6152" y="1860"/>
                </a:moveTo>
                <a:cubicBezTo>
                  <a:pt x="6283" y="1843"/>
                  <a:pt x="6393" y="1836"/>
                  <a:pt x="6524" y="1836"/>
                </a:cubicBezTo>
                <a:cubicBezTo>
                  <a:pt x="6573" y="1836"/>
                  <a:pt x="6623" y="1836"/>
                  <a:pt x="6672" y="1836"/>
                </a:cubicBezTo>
              </a:path>
              <a:path w="14810" h="2085">
                <a:moveTo>
                  <a:pt x="6350" y="1860"/>
                </a:moveTo>
                <a:cubicBezTo>
                  <a:pt x="6333" y="2039"/>
                  <a:pt x="6325" y="2202"/>
                  <a:pt x="6325" y="2381"/>
                </a:cubicBezTo>
                <a:cubicBezTo>
                  <a:pt x="6325" y="2489"/>
                  <a:pt x="6328" y="2499"/>
                  <a:pt x="6375" y="2406"/>
                </a:cubicBezTo>
              </a:path>
              <a:path w="14810" h="2085">
                <a:moveTo>
                  <a:pt x="6548" y="1885"/>
                </a:moveTo>
                <a:cubicBezTo>
                  <a:pt x="6548" y="2062"/>
                  <a:pt x="6500" y="2318"/>
                  <a:pt x="6573" y="2480"/>
                </a:cubicBezTo>
                <a:cubicBezTo>
                  <a:pt x="6598" y="2505"/>
                  <a:pt x="6606" y="2513"/>
                  <a:pt x="6623" y="2530"/>
                </a:cubicBezTo>
              </a:path>
              <a:path w="14810" h="2085">
                <a:moveTo>
                  <a:pt x="5779" y="2729"/>
                </a:moveTo>
                <a:cubicBezTo>
                  <a:pt x="5822" y="2779"/>
                  <a:pt x="5874" y="2800"/>
                  <a:pt x="5953" y="2778"/>
                </a:cubicBezTo>
                <a:cubicBezTo>
                  <a:pt x="6027" y="2757"/>
                  <a:pt x="6101" y="2744"/>
                  <a:pt x="6176" y="2729"/>
                </a:cubicBezTo>
                <a:cubicBezTo>
                  <a:pt x="6184" y="2729"/>
                  <a:pt x="6193" y="2729"/>
                  <a:pt x="6201" y="2729"/>
                </a:cubicBezTo>
              </a:path>
              <a:path w="14810" h="2085">
                <a:moveTo>
                  <a:pt x="6176" y="2902"/>
                </a:moveTo>
                <a:cubicBezTo>
                  <a:pt x="6156" y="3024"/>
                  <a:pt x="6157" y="3094"/>
                  <a:pt x="6176" y="3200"/>
                </a:cubicBezTo>
                <a:cubicBezTo>
                  <a:pt x="6176" y="3216"/>
                  <a:pt x="6176" y="3233"/>
                  <a:pt x="6176" y="3249"/>
                </a:cubicBezTo>
                <a:cubicBezTo>
                  <a:pt x="6322" y="3267"/>
                  <a:pt x="6290" y="3284"/>
                  <a:pt x="6375" y="3200"/>
                </a:cubicBezTo>
              </a:path>
              <a:path w="14810" h="2085">
                <a:moveTo>
                  <a:pt x="6375" y="2803"/>
                </a:moveTo>
                <a:cubicBezTo>
                  <a:pt x="6375" y="2940"/>
                  <a:pt x="6354" y="3065"/>
                  <a:pt x="6350" y="3200"/>
                </a:cubicBezTo>
                <a:cubicBezTo>
                  <a:pt x="6347" y="3311"/>
                  <a:pt x="6325" y="3409"/>
                  <a:pt x="6325" y="3522"/>
                </a:cubicBezTo>
                <a:cubicBezTo>
                  <a:pt x="6325" y="3615"/>
                  <a:pt x="6325" y="3681"/>
                  <a:pt x="6350" y="3770"/>
                </a:cubicBezTo>
              </a:path>
              <a:path w="14810" h="2085">
                <a:moveTo>
                  <a:pt x="7094" y="2480"/>
                </a:moveTo>
                <a:cubicBezTo>
                  <a:pt x="7094" y="2646"/>
                  <a:pt x="7071" y="2853"/>
                  <a:pt x="7119" y="3001"/>
                </a:cubicBezTo>
                <a:cubicBezTo>
                  <a:pt x="7127" y="3034"/>
                  <a:pt x="7136" y="3068"/>
                  <a:pt x="7144" y="3101"/>
                </a:cubicBezTo>
              </a:path>
              <a:path w="14810" h="2085">
                <a:moveTo>
                  <a:pt x="6945" y="2902"/>
                </a:moveTo>
                <a:cubicBezTo>
                  <a:pt x="7037" y="2902"/>
                  <a:pt x="7103" y="2881"/>
                  <a:pt x="7193" y="2853"/>
                </a:cubicBezTo>
                <a:cubicBezTo>
                  <a:pt x="7276" y="2828"/>
                  <a:pt x="7291" y="2792"/>
                  <a:pt x="7367" y="2753"/>
                </a:cubicBezTo>
              </a:path>
              <a:path w="14810" h="2085">
                <a:moveTo>
                  <a:pt x="7615" y="2158"/>
                </a:moveTo>
                <a:cubicBezTo>
                  <a:pt x="7723" y="2098"/>
                  <a:pt x="7823" y="2052"/>
                  <a:pt x="7938" y="2009"/>
                </a:cubicBezTo>
                <a:cubicBezTo>
                  <a:pt x="8002" y="1985"/>
                  <a:pt x="8056" y="1986"/>
                  <a:pt x="8111" y="1960"/>
                </a:cubicBezTo>
              </a:path>
              <a:path w="14810" h="2085">
                <a:moveTo>
                  <a:pt x="7838" y="2133"/>
                </a:moveTo>
                <a:cubicBezTo>
                  <a:pt x="7797" y="2354"/>
                  <a:pt x="7786" y="2377"/>
                  <a:pt x="7813" y="2555"/>
                </a:cubicBezTo>
                <a:cubicBezTo>
                  <a:pt x="7813" y="2599"/>
                  <a:pt x="7810" y="2619"/>
                  <a:pt x="7838" y="2580"/>
                </a:cubicBezTo>
              </a:path>
              <a:path w="14810" h="2085">
                <a:moveTo>
                  <a:pt x="8012" y="2133"/>
                </a:moveTo>
                <a:cubicBezTo>
                  <a:pt x="8012" y="2332"/>
                  <a:pt x="8012" y="2530"/>
                  <a:pt x="8012" y="2729"/>
                </a:cubicBezTo>
              </a:path>
              <a:path w="14810" h="2085">
                <a:moveTo>
                  <a:pt x="7665" y="2803"/>
                </a:moveTo>
                <a:cubicBezTo>
                  <a:pt x="7741" y="2832"/>
                  <a:pt x="7786" y="2823"/>
                  <a:pt x="7863" y="2803"/>
                </a:cubicBezTo>
                <a:cubicBezTo>
                  <a:pt x="7938" y="2783"/>
                  <a:pt x="8012" y="2753"/>
                  <a:pt x="8086" y="2729"/>
                </a:cubicBezTo>
              </a:path>
              <a:path w="14810" h="2085">
                <a:moveTo>
                  <a:pt x="7987" y="3026"/>
                </a:moveTo>
                <a:cubicBezTo>
                  <a:pt x="7893" y="3219"/>
                  <a:pt x="7838" y="3282"/>
                  <a:pt x="7838" y="3473"/>
                </a:cubicBezTo>
                <a:cubicBezTo>
                  <a:pt x="7838" y="3560"/>
                  <a:pt x="7851" y="3592"/>
                  <a:pt x="7938" y="3597"/>
                </a:cubicBezTo>
                <a:cubicBezTo>
                  <a:pt x="8012" y="3601"/>
                  <a:pt x="8069" y="3556"/>
                  <a:pt x="8111" y="3497"/>
                </a:cubicBezTo>
                <a:cubicBezTo>
                  <a:pt x="8158" y="3431"/>
                  <a:pt x="8218" y="3364"/>
                  <a:pt x="8186" y="3274"/>
                </a:cubicBezTo>
                <a:cubicBezTo>
                  <a:pt x="8161" y="3249"/>
                  <a:pt x="8153" y="3241"/>
                  <a:pt x="8136" y="3225"/>
                </a:cubicBezTo>
                <a:cubicBezTo>
                  <a:pt x="8048" y="3279"/>
                  <a:pt x="8028" y="3307"/>
                  <a:pt x="7987" y="3398"/>
                </a:cubicBezTo>
                <a:cubicBezTo>
                  <a:pt x="7954" y="3470"/>
                  <a:pt x="7906" y="3502"/>
                  <a:pt x="8012" y="3473"/>
                </a:cubicBezTo>
              </a:path>
              <a:path w="14810" h="2085">
                <a:moveTo>
                  <a:pt x="8260" y="1860"/>
                </a:moveTo>
                <a:cubicBezTo>
                  <a:pt x="8397" y="1968"/>
                  <a:pt x="8394" y="2017"/>
                  <a:pt x="8483" y="2158"/>
                </a:cubicBezTo>
                <a:cubicBezTo>
                  <a:pt x="8582" y="2315"/>
                  <a:pt x="8614" y="2471"/>
                  <a:pt x="8657" y="2654"/>
                </a:cubicBezTo>
                <a:cubicBezTo>
                  <a:pt x="8696" y="2820"/>
                  <a:pt x="8691" y="2984"/>
                  <a:pt x="8657" y="3150"/>
                </a:cubicBezTo>
                <a:cubicBezTo>
                  <a:pt x="8610" y="3381"/>
                  <a:pt x="8589" y="3429"/>
                  <a:pt x="8458" y="3597"/>
                </a:cubicBezTo>
                <a:cubicBezTo>
                  <a:pt x="8411" y="3657"/>
                  <a:pt x="8315" y="3738"/>
                  <a:pt x="8235" y="3746"/>
                </a:cubicBezTo>
                <a:cubicBezTo>
                  <a:pt x="8227" y="3738"/>
                  <a:pt x="8218" y="3729"/>
                  <a:pt x="8210" y="3721"/>
                </a:cubicBezTo>
              </a:path>
              <a:path w="14810" h="2085">
                <a:moveTo>
                  <a:pt x="8979" y="2927"/>
                </a:moveTo>
                <a:cubicBezTo>
                  <a:pt x="9110" y="2927"/>
                  <a:pt x="9209" y="2937"/>
                  <a:pt x="9327" y="2902"/>
                </a:cubicBezTo>
              </a:path>
              <a:path w="14810" h="2085">
                <a:moveTo>
                  <a:pt x="9079" y="3150"/>
                </a:moveTo>
                <a:cubicBezTo>
                  <a:pt x="9079" y="3258"/>
                  <a:pt x="9210" y="3173"/>
                  <a:pt x="9277" y="3150"/>
                </a:cubicBezTo>
              </a:path>
              <a:path w="14810" h="2085">
                <a:moveTo>
                  <a:pt x="10145" y="2208"/>
                </a:moveTo>
                <a:cubicBezTo>
                  <a:pt x="10117" y="2253"/>
                  <a:pt x="10101" y="2348"/>
                  <a:pt x="10096" y="2406"/>
                </a:cubicBezTo>
                <a:cubicBezTo>
                  <a:pt x="10082" y="2553"/>
                  <a:pt x="10082" y="2706"/>
                  <a:pt x="10071" y="2853"/>
                </a:cubicBezTo>
                <a:cubicBezTo>
                  <a:pt x="10057" y="3043"/>
                  <a:pt x="10064" y="3236"/>
                  <a:pt x="10046" y="3423"/>
                </a:cubicBezTo>
                <a:cubicBezTo>
                  <a:pt x="10043" y="3455"/>
                  <a:pt x="10070" y="3717"/>
                  <a:pt x="10046" y="3522"/>
                </a:cubicBezTo>
              </a:path>
              <a:path w="14810" h="2085">
                <a:moveTo>
                  <a:pt x="9798" y="2977"/>
                </a:moveTo>
                <a:cubicBezTo>
                  <a:pt x="9907" y="2953"/>
                  <a:pt x="10008" y="2952"/>
                  <a:pt x="10120" y="2952"/>
                </a:cubicBezTo>
                <a:cubicBezTo>
                  <a:pt x="10153" y="2952"/>
                  <a:pt x="10187" y="2952"/>
                  <a:pt x="10220" y="2952"/>
                </a:cubicBezTo>
              </a:path>
              <a:path w="14810" h="2085">
                <a:moveTo>
                  <a:pt x="10815" y="3101"/>
                </a:moveTo>
                <a:cubicBezTo>
                  <a:pt x="10870" y="3118"/>
                  <a:pt x="10852" y="3027"/>
                  <a:pt x="10815" y="2977"/>
                </a:cubicBezTo>
                <a:cubicBezTo>
                  <a:pt x="10773" y="2920"/>
                  <a:pt x="10697" y="2910"/>
                  <a:pt x="10641" y="2877"/>
                </a:cubicBezTo>
                <a:cubicBezTo>
                  <a:pt x="10597" y="2851"/>
                  <a:pt x="10528" y="2876"/>
                  <a:pt x="10492" y="2927"/>
                </a:cubicBezTo>
                <a:cubicBezTo>
                  <a:pt x="10443" y="2997"/>
                  <a:pt x="10398" y="3097"/>
                  <a:pt x="10368" y="3175"/>
                </a:cubicBezTo>
                <a:cubicBezTo>
                  <a:pt x="10345" y="3234"/>
                  <a:pt x="10327" y="3333"/>
                  <a:pt x="10344" y="3398"/>
                </a:cubicBezTo>
                <a:cubicBezTo>
                  <a:pt x="10364" y="3472"/>
                  <a:pt x="10449" y="3492"/>
                  <a:pt x="10517" y="3473"/>
                </a:cubicBezTo>
                <a:cubicBezTo>
                  <a:pt x="10596" y="3451"/>
                  <a:pt x="10616" y="3402"/>
                  <a:pt x="10666" y="3349"/>
                </a:cubicBezTo>
                <a:cubicBezTo>
                  <a:pt x="10732" y="3279"/>
                  <a:pt x="10760" y="3222"/>
                  <a:pt x="10765" y="3125"/>
                </a:cubicBezTo>
                <a:cubicBezTo>
                  <a:pt x="10765" y="3076"/>
                  <a:pt x="10765" y="3059"/>
                  <a:pt x="10765" y="3026"/>
                </a:cubicBezTo>
                <a:cubicBezTo>
                  <a:pt x="10740" y="3043"/>
                  <a:pt x="10740" y="3174"/>
                  <a:pt x="10740" y="3274"/>
                </a:cubicBezTo>
                <a:cubicBezTo>
                  <a:pt x="10740" y="3320"/>
                  <a:pt x="10755" y="3438"/>
                  <a:pt x="10790" y="3473"/>
                </a:cubicBezTo>
                <a:cubicBezTo>
                  <a:pt x="10848" y="3530"/>
                  <a:pt x="10897" y="3490"/>
                  <a:pt x="10939" y="3448"/>
                </a:cubicBezTo>
              </a:path>
              <a:path w="14810" h="2085">
                <a:moveTo>
                  <a:pt x="10988" y="3051"/>
                </a:moveTo>
                <a:cubicBezTo>
                  <a:pt x="10988" y="3147"/>
                  <a:pt x="10968" y="3231"/>
                  <a:pt x="10964" y="3324"/>
                </a:cubicBezTo>
                <a:cubicBezTo>
                  <a:pt x="10961" y="3404"/>
                  <a:pt x="10968" y="3446"/>
                  <a:pt x="10988" y="3522"/>
                </a:cubicBezTo>
                <a:cubicBezTo>
                  <a:pt x="10988" y="3657"/>
                  <a:pt x="11005" y="3377"/>
                  <a:pt x="11013" y="3349"/>
                </a:cubicBezTo>
                <a:cubicBezTo>
                  <a:pt x="11038" y="3258"/>
                  <a:pt x="11066" y="3186"/>
                  <a:pt x="11112" y="3101"/>
                </a:cubicBezTo>
                <a:cubicBezTo>
                  <a:pt x="11135" y="3059"/>
                  <a:pt x="11199" y="2928"/>
                  <a:pt x="11237" y="2902"/>
                </a:cubicBezTo>
                <a:cubicBezTo>
                  <a:pt x="11342" y="2830"/>
                  <a:pt x="11384" y="2905"/>
                  <a:pt x="11410" y="2977"/>
                </a:cubicBezTo>
                <a:cubicBezTo>
                  <a:pt x="11447" y="3080"/>
                  <a:pt x="11435" y="3188"/>
                  <a:pt x="11435" y="3299"/>
                </a:cubicBezTo>
                <a:cubicBezTo>
                  <a:pt x="11435" y="3373"/>
                  <a:pt x="11422" y="3438"/>
                  <a:pt x="11410" y="3497"/>
                </a:cubicBezTo>
                <a:cubicBezTo>
                  <a:pt x="11391" y="3589"/>
                  <a:pt x="11405" y="3634"/>
                  <a:pt x="11460" y="3497"/>
                </a:cubicBezTo>
              </a:path>
              <a:path w="14810" h="2085">
                <a:moveTo>
                  <a:pt x="11782" y="1935"/>
                </a:moveTo>
                <a:cubicBezTo>
                  <a:pt x="11850" y="1839"/>
                  <a:pt x="11845" y="1836"/>
                  <a:pt x="11956" y="1836"/>
                </a:cubicBezTo>
                <a:cubicBezTo>
                  <a:pt x="12047" y="1836"/>
                  <a:pt x="12149" y="1843"/>
                  <a:pt x="12129" y="1960"/>
                </a:cubicBezTo>
                <a:cubicBezTo>
                  <a:pt x="12114" y="2052"/>
                  <a:pt x="12044" y="2106"/>
                  <a:pt x="11981" y="2158"/>
                </a:cubicBezTo>
                <a:cubicBezTo>
                  <a:pt x="11934" y="2197"/>
                  <a:pt x="11879" y="2219"/>
                  <a:pt x="11832" y="2257"/>
                </a:cubicBezTo>
                <a:cubicBezTo>
                  <a:pt x="11920" y="2249"/>
                  <a:pt x="11997" y="2209"/>
                  <a:pt x="12080" y="2257"/>
                </a:cubicBezTo>
                <a:cubicBezTo>
                  <a:pt x="12163" y="2305"/>
                  <a:pt x="12154" y="2339"/>
                  <a:pt x="12154" y="2431"/>
                </a:cubicBezTo>
                <a:cubicBezTo>
                  <a:pt x="12154" y="2504"/>
                  <a:pt x="12117" y="2522"/>
                  <a:pt x="12055" y="2555"/>
                </a:cubicBezTo>
                <a:cubicBezTo>
                  <a:pt x="11964" y="2603"/>
                  <a:pt x="11946" y="2604"/>
                  <a:pt x="11832" y="2604"/>
                </a:cubicBezTo>
                <a:cubicBezTo>
                  <a:pt x="11782" y="2604"/>
                  <a:pt x="11766" y="2604"/>
                  <a:pt x="11782" y="2555"/>
                </a:cubicBezTo>
              </a:path>
              <a:path w="14810" h="2085">
                <a:moveTo>
                  <a:pt x="12278" y="1984"/>
                </a:moveTo>
                <a:cubicBezTo>
                  <a:pt x="12388" y="1967"/>
                  <a:pt x="12499" y="1971"/>
                  <a:pt x="12601" y="1935"/>
                </a:cubicBezTo>
                <a:cubicBezTo>
                  <a:pt x="12661" y="1915"/>
                  <a:pt x="12676" y="1916"/>
                  <a:pt x="12700" y="1885"/>
                </a:cubicBezTo>
              </a:path>
              <a:path w="14810" h="2085">
                <a:moveTo>
                  <a:pt x="12427" y="2034"/>
                </a:moveTo>
                <a:cubicBezTo>
                  <a:pt x="12427" y="2172"/>
                  <a:pt x="12407" y="2259"/>
                  <a:pt x="12402" y="2381"/>
                </a:cubicBezTo>
                <a:cubicBezTo>
                  <a:pt x="12402" y="2443"/>
                  <a:pt x="12392" y="2458"/>
                  <a:pt x="12427" y="2480"/>
                </a:cubicBezTo>
              </a:path>
              <a:path w="14810" h="2085">
                <a:moveTo>
                  <a:pt x="12601" y="1984"/>
                </a:moveTo>
                <a:cubicBezTo>
                  <a:pt x="12601" y="2127"/>
                  <a:pt x="12582" y="2245"/>
                  <a:pt x="12576" y="2381"/>
                </a:cubicBezTo>
                <a:cubicBezTo>
                  <a:pt x="12572" y="2487"/>
                  <a:pt x="12596" y="2491"/>
                  <a:pt x="12626" y="2580"/>
                </a:cubicBezTo>
                <a:cubicBezTo>
                  <a:pt x="12626" y="2588"/>
                  <a:pt x="12626" y="2596"/>
                  <a:pt x="12626" y="2604"/>
                </a:cubicBezTo>
              </a:path>
              <a:path w="14810" h="2085">
                <a:moveTo>
                  <a:pt x="11807" y="2853"/>
                </a:moveTo>
                <a:cubicBezTo>
                  <a:pt x="11913" y="2834"/>
                  <a:pt x="12026" y="2826"/>
                  <a:pt x="12129" y="2803"/>
                </a:cubicBezTo>
                <a:cubicBezTo>
                  <a:pt x="12212" y="2785"/>
                  <a:pt x="12298" y="2766"/>
                  <a:pt x="12378" y="2753"/>
                </a:cubicBezTo>
                <a:cubicBezTo>
                  <a:pt x="12419" y="2753"/>
                  <a:pt x="12427" y="2753"/>
                  <a:pt x="12452" y="2753"/>
                </a:cubicBezTo>
              </a:path>
              <a:path w="14810" h="2085">
                <a:moveTo>
                  <a:pt x="12204" y="3001"/>
                </a:moveTo>
                <a:cubicBezTo>
                  <a:pt x="12190" y="3036"/>
                  <a:pt x="12021" y="3279"/>
                  <a:pt x="12179" y="3324"/>
                </a:cubicBezTo>
                <a:cubicBezTo>
                  <a:pt x="12228" y="3338"/>
                  <a:pt x="12337" y="3318"/>
                  <a:pt x="12378" y="3299"/>
                </a:cubicBezTo>
                <a:cubicBezTo>
                  <a:pt x="12423" y="3252"/>
                  <a:pt x="12455" y="3226"/>
                  <a:pt x="12502" y="3200"/>
                </a:cubicBezTo>
              </a:path>
              <a:path w="14810" h="2085">
                <a:moveTo>
                  <a:pt x="12477" y="2902"/>
                </a:moveTo>
                <a:cubicBezTo>
                  <a:pt x="12437" y="3055"/>
                  <a:pt x="12406" y="3197"/>
                  <a:pt x="12378" y="3349"/>
                </a:cubicBezTo>
                <a:cubicBezTo>
                  <a:pt x="12355" y="3473"/>
                  <a:pt x="12365" y="3525"/>
                  <a:pt x="12378" y="3646"/>
                </a:cubicBezTo>
                <a:cubicBezTo>
                  <a:pt x="12389" y="3746"/>
                  <a:pt x="12337" y="3760"/>
                  <a:pt x="12427" y="3746"/>
                </a:cubicBezTo>
              </a:path>
              <a:path w="14810" h="2085">
                <a:moveTo>
                  <a:pt x="13047" y="2555"/>
                </a:moveTo>
                <a:cubicBezTo>
                  <a:pt x="13042" y="2726"/>
                  <a:pt x="13022" y="2883"/>
                  <a:pt x="13022" y="3051"/>
                </a:cubicBezTo>
                <a:cubicBezTo>
                  <a:pt x="13022" y="3135"/>
                  <a:pt x="13026" y="3203"/>
                  <a:pt x="13047" y="3274"/>
                </a:cubicBezTo>
                <a:cubicBezTo>
                  <a:pt x="13047" y="3282"/>
                  <a:pt x="13047" y="3291"/>
                  <a:pt x="13047" y="3299"/>
                </a:cubicBezTo>
              </a:path>
              <a:path w="14810" h="2085">
                <a:moveTo>
                  <a:pt x="12824" y="3001"/>
                </a:moveTo>
                <a:cubicBezTo>
                  <a:pt x="12928" y="2994"/>
                  <a:pt x="13023" y="2964"/>
                  <a:pt x="13122" y="2952"/>
                </a:cubicBezTo>
                <a:cubicBezTo>
                  <a:pt x="13198" y="2952"/>
                  <a:pt x="13224" y="2951"/>
                  <a:pt x="13271" y="2927"/>
                </a:cubicBezTo>
              </a:path>
              <a:path w="14810" h="2085">
                <a:moveTo>
                  <a:pt x="13742" y="2555"/>
                </a:moveTo>
                <a:cubicBezTo>
                  <a:pt x="13720" y="2666"/>
                  <a:pt x="13695" y="2765"/>
                  <a:pt x="13692" y="2877"/>
                </a:cubicBezTo>
                <a:cubicBezTo>
                  <a:pt x="13689" y="2985"/>
                  <a:pt x="13685" y="3606"/>
                  <a:pt x="13667" y="3597"/>
                </a:cubicBezTo>
                <a:cubicBezTo>
                  <a:pt x="13659" y="3589"/>
                  <a:pt x="13651" y="3580"/>
                  <a:pt x="13643" y="3572"/>
                </a:cubicBezTo>
              </a:path>
              <a:path w="14810" h="2085">
                <a:moveTo>
                  <a:pt x="13395" y="3101"/>
                </a:moveTo>
                <a:cubicBezTo>
                  <a:pt x="13500" y="3065"/>
                  <a:pt x="13590" y="3074"/>
                  <a:pt x="13692" y="3051"/>
                </a:cubicBezTo>
                <a:cubicBezTo>
                  <a:pt x="13774" y="3032"/>
                  <a:pt x="13859" y="3022"/>
                  <a:pt x="13940" y="3001"/>
                </a:cubicBezTo>
                <a:cubicBezTo>
                  <a:pt x="14006" y="2980"/>
                  <a:pt x="14021" y="2972"/>
                  <a:pt x="14064" y="2977"/>
                </a:cubicBezTo>
                <a:cubicBezTo>
                  <a:pt x="14055" y="3084"/>
                  <a:pt x="14036" y="3162"/>
                  <a:pt x="13965" y="3249"/>
                </a:cubicBezTo>
                <a:cubicBezTo>
                  <a:pt x="13890" y="3341"/>
                  <a:pt x="13868" y="3408"/>
                  <a:pt x="13891" y="3522"/>
                </a:cubicBezTo>
                <a:cubicBezTo>
                  <a:pt x="13975" y="3557"/>
                  <a:pt x="14001" y="3500"/>
                  <a:pt x="14039" y="3423"/>
                </a:cubicBezTo>
                <a:cubicBezTo>
                  <a:pt x="14080" y="3341"/>
                  <a:pt x="14085" y="3241"/>
                  <a:pt x="14089" y="3150"/>
                </a:cubicBezTo>
                <a:cubicBezTo>
                  <a:pt x="14089" y="3106"/>
                  <a:pt x="14092" y="3092"/>
                  <a:pt x="14064" y="3076"/>
                </a:cubicBezTo>
                <a:cubicBezTo>
                  <a:pt x="14064" y="2950"/>
                  <a:pt x="14084" y="3235"/>
                  <a:pt x="14089" y="3274"/>
                </a:cubicBezTo>
                <a:cubicBezTo>
                  <a:pt x="14101" y="3364"/>
                  <a:pt x="14090" y="3415"/>
                  <a:pt x="14139" y="3497"/>
                </a:cubicBezTo>
                <a:cubicBezTo>
                  <a:pt x="14149" y="3513"/>
                  <a:pt x="14226" y="3666"/>
                  <a:pt x="14263" y="3597"/>
                </a:cubicBezTo>
                <a:cubicBezTo>
                  <a:pt x="14271" y="3572"/>
                  <a:pt x="14280" y="3547"/>
                  <a:pt x="14288" y="3522"/>
                </a:cubicBezTo>
              </a:path>
              <a:path w="14810" h="2085">
                <a:moveTo>
                  <a:pt x="14312" y="3076"/>
                </a:moveTo>
                <a:cubicBezTo>
                  <a:pt x="14322" y="3153"/>
                  <a:pt x="14337" y="3217"/>
                  <a:pt x="14337" y="3299"/>
                </a:cubicBezTo>
                <a:cubicBezTo>
                  <a:pt x="14337" y="3350"/>
                  <a:pt x="14337" y="3669"/>
                  <a:pt x="14337" y="3547"/>
                </a:cubicBezTo>
                <a:cubicBezTo>
                  <a:pt x="14337" y="3450"/>
                  <a:pt x="14376" y="3364"/>
                  <a:pt x="14387" y="3274"/>
                </a:cubicBezTo>
                <a:cubicBezTo>
                  <a:pt x="14395" y="3209"/>
                  <a:pt x="14411" y="3026"/>
                  <a:pt x="14461" y="2977"/>
                </a:cubicBezTo>
                <a:cubicBezTo>
                  <a:pt x="14496" y="2942"/>
                  <a:pt x="14581" y="2960"/>
                  <a:pt x="14610" y="3001"/>
                </a:cubicBezTo>
                <a:cubicBezTo>
                  <a:pt x="14667" y="3080"/>
                  <a:pt x="14680" y="3155"/>
                  <a:pt x="14684" y="3249"/>
                </a:cubicBezTo>
                <a:cubicBezTo>
                  <a:pt x="14687" y="3326"/>
                  <a:pt x="14709" y="3391"/>
                  <a:pt x="14709" y="3473"/>
                </a:cubicBezTo>
                <a:cubicBezTo>
                  <a:pt x="14709" y="3519"/>
                  <a:pt x="14724" y="3637"/>
                  <a:pt x="14759" y="3671"/>
                </a:cubicBezTo>
                <a:cubicBezTo>
                  <a:pt x="14759" y="3663"/>
                  <a:pt x="14759" y="3654"/>
                  <a:pt x="14759" y="3646"/>
                </a:cubicBezTo>
              </a:path>
              <a:path w="14810" h="2085">
                <a:moveTo>
                  <a:pt x="15156" y="2009"/>
                </a:moveTo>
                <a:cubicBezTo>
                  <a:pt x="15297" y="1978"/>
                  <a:pt x="15440" y="1966"/>
                  <a:pt x="15577" y="1935"/>
                </a:cubicBezTo>
                <a:cubicBezTo>
                  <a:pt x="15646" y="1920"/>
                  <a:pt x="15743" y="1914"/>
                  <a:pt x="15801" y="1885"/>
                </a:cubicBezTo>
                <a:cubicBezTo>
                  <a:pt x="15809" y="1877"/>
                  <a:pt x="15817" y="1868"/>
                  <a:pt x="15825" y="1860"/>
                </a:cubicBezTo>
              </a:path>
              <a:path w="14810" h="2085">
                <a:moveTo>
                  <a:pt x="15354" y="1984"/>
                </a:moveTo>
                <a:cubicBezTo>
                  <a:pt x="15336" y="2100"/>
                  <a:pt x="15329" y="2192"/>
                  <a:pt x="15329" y="2307"/>
                </a:cubicBezTo>
                <a:cubicBezTo>
                  <a:pt x="15329" y="2373"/>
                  <a:pt x="15329" y="2390"/>
                  <a:pt x="15329" y="2431"/>
                </a:cubicBezTo>
              </a:path>
              <a:path w="14810" h="2085">
                <a:moveTo>
                  <a:pt x="15553" y="2034"/>
                </a:moveTo>
                <a:cubicBezTo>
                  <a:pt x="15548" y="2147"/>
                  <a:pt x="15546" y="2269"/>
                  <a:pt x="15528" y="2381"/>
                </a:cubicBezTo>
                <a:cubicBezTo>
                  <a:pt x="15515" y="2464"/>
                  <a:pt x="15503" y="2521"/>
                  <a:pt x="15503" y="2604"/>
                </a:cubicBezTo>
              </a:path>
              <a:path w="14810" h="2085">
                <a:moveTo>
                  <a:pt x="15106" y="2729"/>
                </a:moveTo>
                <a:cubicBezTo>
                  <a:pt x="15229" y="2757"/>
                  <a:pt x="15309" y="2738"/>
                  <a:pt x="15429" y="2729"/>
                </a:cubicBezTo>
                <a:cubicBezTo>
                  <a:pt x="15508" y="2723"/>
                  <a:pt x="15597" y="2729"/>
                  <a:pt x="15677" y="2729"/>
                </a:cubicBezTo>
              </a:path>
              <a:path w="14810" h="2085">
                <a:moveTo>
                  <a:pt x="15577" y="2902"/>
                </a:moveTo>
                <a:cubicBezTo>
                  <a:pt x="15527" y="2997"/>
                  <a:pt x="15446" y="3080"/>
                  <a:pt x="15404" y="3175"/>
                </a:cubicBezTo>
                <a:cubicBezTo>
                  <a:pt x="15376" y="3240"/>
                  <a:pt x="15358" y="3329"/>
                  <a:pt x="15354" y="3398"/>
                </a:cubicBezTo>
                <a:cubicBezTo>
                  <a:pt x="15350" y="3478"/>
                  <a:pt x="15428" y="3535"/>
                  <a:pt x="15503" y="3547"/>
                </a:cubicBezTo>
                <a:cubicBezTo>
                  <a:pt x="15584" y="3560"/>
                  <a:pt x="15684" y="3519"/>
                  <a:pt x="15751" y="3473"/>
                </a:cubicBezTo>
                <a:cubicBezTo>
                  <a:pt x="15823" y="3424"/>
                  <a:pt x="15846" y="3398"/>
                  <a:pt x="15875" y="3324"/>
                </a:cubicBezTo>
                <a:cubicBezTo>
                  <a:pt x="15883" y="3307"/>
                  <a:pt x="15892" y="3291"/>
                  <a:pt x="15900" y="3274"/>
                </a:cubicBezTo>
                <a:cubicBezTo>
                  <a:pt x="15757" y="3233"/>
                  <a:pt x="15756" y="3340"/>
                  <a:pt x="15652" y="3423"/>
                </a:cubicBezTo>
                <a:cubicBezTo>
                  <a:pt x="15604" y="3461"/>
                  <a:pt x="15539" y="3466"/>
                  <a:pt x="15503" y="3522"/>
                </a:cubicBezTo>
                <a:cubicBezTo>
                  <a:pt x="15471" y="3571"/>
                  <a:pt x="15446" y="3604"/>
                  <a:pt x="15404" y="36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Ink 3"/>
          <p:cNvSpPr/>
          <p:nvPr/>
        </p:nvSpPr>
        <p:spPr>
          <a:xfrm>
            <a:off x="6116760" y="571680"/>
            <a:ext cx="1830240" cy="955440"/>
          </a:xfrm>
          <a:custGeom>
            <a:avLst/>
            <a:gdLst/>
            <a:ahLst/>
            <a:rect l="l" t="t" r="r" b="b"/>
            <a:pathLst>
              <a:path w="5086" h="2655">
                <a:moveTo>
                  <a:pt x="16991" y="3919"/>
                </a:moveTo>
                <a:cubicBezTo>
                  <a:pt x="17146" y="3919"/>
                  <a:pt x="17324" y="3902"/>
                  <a:pt x="17462" y="3944"/>
                </a:cubicBezTo>
                <a:cubicBezTo>
                  <a:pt x="17470" y="3944"/>
                  <a:pt x="17479" y="3944"/>
                  <a:pt x="17487" y="3944"/>
                </a:cubicBezTo>
              </a:path>
              <a:path w="5086" h="2655">
                <a:moveTo>
                  <a:pt x="17016" y="4217"/>
                </a:moveTo>
                <a:cubicBezTo>
                  <a:pt x="17093" y="4226"/>
                  <a:pt x="17160" y="4242"/>
                  <a:pt x="17239" y="4242"/>
                </a:cubicBezTo>
                <a:cubicBezTo>
                  <a:pt x="17305" y="4242"/>
                  <a:pt x="17372" y="4242"/>
                  <a:pt x="17438" y="4242"/>
                </a:cubicBezTo>
              </a:path>
              <a:path w="5086" h="2655">
                <a:moveTo>
                  <a:pt x="17983" y="4242"/>
                </a:moveTo>
                <a:cubicBezTo>
                  <a:pt x="18045" y="4228"/>
                  <a:pt x="18088" y="4219"/>
                  <a:pt x="18157" y="4217"/>
                </a:cubicBezTo>
                <a:cubicBezTo>
                  <a:pt x="18246" y="4214"/>
                  <a:pt x="18321" y="4198"/>
                  <a:pt x="18405" y="4192"/>
                </a:cubicBezTo>
                <a:cubicBezTo>
                  <a:pt x="19475" y="4120"/>
                  <a:pt x="20566" y="4268"/>
                  <a:pt x="21630" y="4167"/>
                </a:cubicBezTo>
                <a:cubicBezTo>
                  <a:pt x="21717" y="4159"/>
                  <a:pt x="22008" y="4221"/>
                  <a:pt x="22051" y="4142"/>
                </a:cubicBezTo>
                <a:cubicBezTo>
                  <a:pt x="22081" y="4113"/>
                  <a:pt x="22083" y="4102"/>
                  <a:pt x="22027" y="4093"/>
                </a:cubicBezTo>
              </a:path>
              <a:path w="5086" h="2655">
                <a:moveTo>
                  <a:pt x="17859" y="2877"/>
                </a:moveTo>
                <a:cubicBezTo>
                  <a:pt x="17971" y="2877"/>
                  <a:pt x="18084" y="2867"/>
                  <a:pt x="18182" y="2853"/>
                </a:cubicBezTo>
                <a:cubicBezTo>
                  <a:pt x="18292" y="2837"/>
                  <a:pt x="18418" y="2853"/>
                  <a:pt x="18529" y="2853"/>
                </a:cubicBezTo>
              </a:path>
              <a:path w="5086" h="2655">
                <a:moveTo>
                  <a:pt x="19050" y="2381"/>
                </a:moveTo>
                <a:cubicBezTo>
                  <a:pt x="19050" y="2631"/>
                  <a:pt x="19052" y="2881"/>
                  <a:pt x="19075" y="3125"/>
                </a:cubicBezTo>
                <a:cubicBezTo>
                  <a:pt x="19090" y="3284"/>
                  <a:pt x="19072" y="3444"/>
                  <a:pt x="19050" y="3597"/>
                </a:cubicBezTo>
                <a:cubicBezTo>
                  <a:pt x="19044" y="3638"/>
                  <a:pt x="19050" y="3712"/>
                  <a:pt x="19050" y="3671"/>
                </a:cubicBezTo>
              </a:path>
              <a:path w="5086" h="2655">
                <a:moveTo>
                  <a:pt x="20092" y="2431"/>
                </a:moveTo>
                <a:cubicBezTo>
                  <a:pt x="20074" y="2608"/>
                  <a:pt x="20085" y="2678"/>
                  <a:pt x="20092" y="2828"/>
                </a:cubicBezTo>
                <a:cubicBezTo>
                  <a:pt x="20095" y="2894"/>
                  <a:pt x="20100" y="2986"/>
                  <a:pt x="20117" y="3051"/>
                </a:cubicBezTo>
                <a:cubicBezTo>
                  <a:pt x="20139" y="3134"/>
                  <a:pt x="20148" y="3165"/>
                  <a:pt x="20117" y="3249"/>
                </a:cubicBezTo>
              </a:path>
              <a:path w="5086" h="2655">
                <a:moveTo>
                  <a:pt x="19794" y="2902"/>
                </a:moveTo>
                <a:cubicBezTo>
                  <a:pt x="19939" y="2902"/>
                  <a:pt x="20079" y="2899"/>
                  <a:pt x="20216" y="2877"/>
                </a:cubicBezTo>
                <a:cubicBezTo>
                  <a:pt x="20278" y="2867"/>
                  <a:pt x="20351" y="2877"/>
                  <a:pt x="20414" y="2877"/>
                </a:cubicBezTo>
              </a:path>
              <a:path w="5086" h="2655">
                <a:moveTo>
                  <a:pt x="20712" y="2108"/>
                </a:moveTo>
                <a:cubicBezTo>
                  <a:pt x="20704" y="2215"/>
                  <a:pt x="20713" y="2353"/>
                  <a:pt x="20687" y="2456"/>
                </a:cubicBezTo>
                <a:cubicBezTo>
                  <a:pt x="20670" y="2525"/>
                  <a:pt x="20654" y="2539"/>
                  <a:pt x="20687" y="2604"/>
                </a:cubicBezTo>
                <a:cubicBezTo>
                  <a:pt x="20687" y="2498"/>
                  <a:pt x="20679" y="2406"/>
                  <a:pt x="20662" y="2307"/>
                </a:cubicBezTo>
                <a:cubicBezTo>
                  <a:pt x="20651" y="2244"/>
                  <a:pt x="20646" y="2168"/>
                  <a:pt x="20638" y="2108"/>
                </a:cubicBezTo>
                <a:cubicBezTo>
                  <a:pt x="20627" y="2021"/>
                  <a:pt x="20628" y="1892"/>
                  <a:pt x="20662" y="1811"/>
                </a:cubicBezTo>
                <a:cubicBezTo>
                  <a:pt x="20677" y="1774"/>
                  <a:pt x="20777" y="1707"/>
                  <a:pt x="20811" y="1687"/>
                </a:cubicBezTo>
                <a:cubicBezTo>
                  <a:pt x="20863" y="1656"/>
                  <a:pt x="20972" y="1626"/>
                  <a:pt x="21034" y="1612"/>
                </a:cubicBezTo>
                <a:cubicBezTo>
                  <a:pt x="21090" y="1599"/>
                  <a:pt x="21154" y="1591"/>
                  <a:pt x="21208" y="1588"/>
                </a:cubicBezTo>
                <a:cubicBezTo>
                  <a:pt x="21260" y="1588"/>
                  <a:pt x="21275" y="1589"/>
                  <a:pt x="21208" y="1612"/>
                </a:cubicBezTo>
              </a:path>
              <a:path w="5086" h="2655">
                <a:moveTo>
                  <a:pt x="20910" y="1885"/>
                </a:moveTo>
                <a:cubicBezTo>
                  <a:pt x="20962" y="1863"/>
                  <a:pt x="21127" y="1778"/>
                  <a:pt x="21183" y="1860"/>
                </a:cubicBezTo>
                <a:cubicBezTo>
                  <a:pt x="21214" y="1905"/>
                  <a:pt x="21136" y="2004"/>
                  <a:pt x="21109" y="2034"/>
                </a:cubicBezTo>
                <a:cubicBezTo>
                  <a:pt x="21086" y="2060"/>
                  <a:pt x="21059" y="2084"/>
                  <a:pt x="21034" y="2108"/>
                </a:cubicBezTo>
                <a:cubicBezTo>
                  <a:pt x="21085" y="2159"/>
                  <a:pt x="21124" y="2154"/>
                  <a:pt x="21183" y="2183"/>
                </a:cubicBezTo>
                <a:cubicBezTo>
                  <a:pt x="21221" y="2202"/>
                  <a:pt x="21318" y="2233"/>
                  <a:pt x="21332" y="2282"/>
                </a:cubicBezTo>
                <a:cubicBezTo>
                  <a:pt x="21359" y="2375"/>
                  <a:pt x="21238" y="2388"/>
                  <a:pt x="21183" y="2406"/>
                </a:cubicBezTo>
                <a:cubicBezTo>
                  <a:pt x="21105" y="2431"/>
                  <a:pt x="21034" y="2453"/>
                  <a:pt x="20960" y="2480"/>
                </a:cubicBezTo>
              </a:path>
              <a:path w="5086" h="2655">
                <a:moveTo>
                  <a:pt x="20538" y="2679"/>
                </a:moveTo>
                <a:cubicBezTo>
                  <a:pt x="20780" y="2679"/>
                  <a:pt x="21024" y="2677"/>
                  <a:pt x="21258" y="2704"/>
                </a:cubicBezTo>
                <a:cubicBezTo>
                  <a:pt x="21331" y="2713"/>
                  <a:pt x="21451" y="2668"/>
                  <a:pt x="21431" y="2729"/>
                </a:cubicBezTo>
              </a:path>
              <a:path w="5086" h="2655">
                <a:moveTo>
                  <a:pt x="20886" y="2952"/>
                </a:moveTo>
                <a:cubicBezTo>
                  <a:pt x="20951" y="2927"/>
                  <a:pt x="21014" y="2906"/>
                  <a:pt x="21084" y="2902"/>
                </a:cubicBezTo>
                <a:cubicBezTo>
                  <a:pt x="21141" y="2899"/>
                  <a:pt x="21164" y="2900"/>
                  <a:pt x="21208" y="2927"/>
                </a:cubicBezTo>
                <a:cubicBezTo>
                  <a:pt x="21179" y="2985"/>
                  <a:pt x="21155" y="3030"/>
                  <a:pt x="21109" y="3076"/>
                </a:cubicBezTo>
                <a:cubicBezTo>
                  <a:pt x="21079" y="3106"/>
                  <a:pt x="21043" y="3123"/>
                  <a:pt x="21010" y="3150"/>
                </a:cubicBezTo>
                <a:cubicBezTo>
                  <a:pt x="21085" y="3150"/>
                  <a:pt x="21125" y="3148"/>
                  <a:pt x="21183" y="3200"/>
                </a:cubicBezTo>
                <a:cubicBezTo>
                  <a:pt x="21224" y="3237"/>
                  <a:pt x="21267" y="3259"/>
                  <a:pt x="21307" y="3299"/>
                </a:cubicBezTo>
                <a:cubicBezTo>
                  <a:pt x="21352" y="3344"/>
                  <a:pt x="21339" y="3421"/>
                  <a:pt x="21307" y="3473"/>
                </a:cubicBezTo>
                <a:cubicBezTo>
                  <a:pt x="21292" y="3498"/>
                  <a:pt x="21215" y="3526"/>
                  <a:pt x="21183" y="3547"/>
                </a:cubicBezTo>
                <a:cubicBezTo>
                  <a:pt x="21125" y="3585"/>
                  <a:pt x="21031" y="3617"/>
                  <a:pt x="20960" y="3597"/>
                </a:cubicBezTo>
                <a:cubicBezTo>
                  <a:pt x="20916" y="3575"/>
                  <a:pt x="20905" y="3572"/>
                  <a:pt x="20886" y="35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Ink 4"/>
          <p:cNvSpPr/>
          <p:nvPr/>
        </p:nvSpPr>
        <p:spPr>
          <a:xfrm>
            <a:off x="3527280" y="1554120"/>
            <a:ext cx="2571840" cy="598680"/>
          </a:xfrm>
          <a:custGeom>
            <a:avLst/>
            <a:gdLst/>
            <a:ahLst/>
            <a:rect l="l" t="t" r="r" b="b"/>
            <a:pathLst>
              <a:path w="7145" h="1663">
                <a:moveTo>
                  <a:pt x="9847" y="4440"/>
                </a:moveTo>
                <a:cubicBezTo>
                  <a:pt x="9856" y="4510"/>
                  <a:pt x="9872" y="4565"/>
                  <a:pt x="9872" y="4638"/>
                </a:cubicBezTo>
                <a:cubicBezTo>
                  <a:pt x="9872" y="4791"/>
                  <a:pt x="9882" y="4935"/>
                  <a:pt x="9897" y="5085"/>
                </a:cubicBezTo>
                <a:cubicBezTo>
                  <a:pt x="9918" y="5291"/>
                  <a:pt x="9891" y="5502"/>
                  <a:pt x="9872" y="5705"/>
                </a:cubicBezTo>
                <a:cubicBezTo>
                  <a:pt x="9865" y="5785"/>
                  <a:pt x="9855" y="5855"/>
                  <a:pt x="9823" y="5928"/>
                </a:cubicBezTo>
                <a:cubicBezTo>
                  <a:pt x="9799" y="5976"/>
                  <a:pt x="9791" y="5995"/>
                  <a:pt x="9798" y="5928"/>
                </a:cubicBezTo>
              </a:path>
              <a:path w="7145" h="1663">
                <a:moveTo>
                  <a:pt x="10368" y="5283"/>
                </a:moveTo>
                <a:cubicBezTo>
                  <a:pt x="10460" y="5329"/>
                  <a:pt x="10540" y="5296"/>
                  <a:pt x="10641" y="5283"/>
                </a:cubicBezTo>
                <a:cubicBezTo>
                  <a:pt x="10796" y="5263"/>
                  <a:pt x="11000" y="5325"/>
                  <a:pt x="11137" y="5259"/>
                </a:cubicBezTo>
              </a:path>
              <a:path w="7145" h="1663">
                <a:moveTo>
                  <a:pt x="11906" y="4713"/>
                </a:moveTo>
                <a:cubicBezTo>
                  <a:pt x="11906" y="4801"/>
                  <a:pt x="11891" y="4880"/>
                  <a:pt x="11881" y="4961"/>
                </a:cubicBezTo>
                <a:cubicBezTo>
                  <a:pt x="11858" y="5139"/>
                  <a:pt x="11884" y="5337"/>
                  <a:pt x="11906" y="5507"/>
                </a:cubicBezTo>
                <a:cubicBezTo>
                  <a:pt x="11917" y="5588"/>
                  <a:pt x="11919" y="5681"/>
                  <a:pt x="11881" y="5680"/>
                </a:cubicBezTo>
              </a:path>
              <a:path w="7145" h="1663">
                <a:moveTo>
                  <a:pt x="11609" y="5259"/>
                </a:moveTo>
                <a:cubicBezTo>
                  <a:pt x="11698" y="5259"/>
                  <a:pt x="11769" y="5243"/>
                  <a:pt x="11857" y="5234"/>
                </a:cubicBezTo>
                <a:cubicBezTo>
                  <a:pt x="11989" y="5220"/>
                  <a:pt x="12124" y="5224"/>
                  <a:pt x="12254" y="5209"/>
                </a:cubicBezTo>
                <a:cubicBezTo>
                  <a:pt x="12339" y="5199"/>
                  <a:pt x="12421" y="5197"/>
                  <a:pt x="12502" y="5184"/>
                </a:cubicBezTo>
                <a:cubicBezTo>
                  <a:pt x="12518" y="5184"/>
                  <a:pt x="12535" y="5184"/>
                  <a:pt x="12551" y="5184"/>
                </a:cubicBezTo>
                <a:cubicBezTo>
                  <a:pt x="12504" y="5232"/>
                  <a:pt x="12456" y="5246"/>
                  <a:pt x="12402" y="5283"/>
                </a:cubicBezTo>
                <a:cubicBezTo>
                  <a:pt x="12310" y="5347"/>
                  <a:pt x="12249" y="5448"/>
                  <a:pt x="12204" y="5531"/>
                </a:cubicBezTo>
                <a:cubicBezTo>
                  <a:pt x="12182" y="5571"/>
                  <a:pt x="12157" y="5654"/>
                  <a:pt x="12229" y="5680"/>
                </a:cubicBezTo>
                <a:cubicBezTo>
                  <a:pt x="12300" y="5706"/>
                  <a:pt x="12391" y="5660"/>
                  <a:pt x="12452" y="5631"/>
                </a:cubicBezTo>
                <a:cubicBezTo>
                  <a:pt x="12519" y="5599"/>
                  <a:pt x="12541" y="5555"/>
                  <a:pt x="12551" y="5482"/>
                </a:cubicBezTo>
                <a:cubicBezTo>
                  <a:pt x="12560" y="5411"/>
                  <a:pt x="12568" y="5354"/>
                  <a:pt x="12576" y="5283"/>
                </a:cubicBezTo>
                <a:cubicBezTo>
                  <a:pt x="12576" y="5372"/>
                  <a:pt x="12560" y="5473"/>
                  <a:pt x="12601" y="5556"/>
                </a:cubicBezTo>
                <a:cubicBezTo>
                  <a:pt x="12623" y="5601"/>
                  <a:pt x="12683" y="5703"/>
                  <a:pt x="12750" y="5680"/>
                </a:cubicBezTo>
                <a:cubicBezTo>
                  <a:pt x="12791" y="5666"/>
                  <a:pt x="12831" y="5588"/>
                  <a:pt x="12849" y="5556"/>
                </a:cubicBezTo>
              </a:path>
              <a:path w="7145" h="1663">
                <a:moveTo>
                  <a:pt x="12849" y="5259"/>
                </a:moveTo>
                <a:cubicBezTo>
                  <a:pt x="12877" y="5343"/>
                  <a:pt x="12874" y="5416"/>
                  <a:pt x="12874" y="5507"/>
                </a:cubicBezTo>
                <a:cubicBezTo>
                  <a:pt x="12874" y="5564"/>
                  <a:pt x="12872" y="5585"/>
                  <a:pt x="12898" y="5631"/>
                </a:cubicBezTo>
                <a:cubicBezTo>
                  <a:pt x="12898" y="5780"/>
                  <a:pt x="12898" y="5510"/>
                  <a:pt x="12898" y="5482"/>
                </a:cubicBezTo>
                <a:cubicBezTo>
                  <a:pt x="12898" y="5407"/>
                  <a:pt x="12911" y="5352"/>
                  <a:pt x="12923" y="5283"/>
                </a:cubicBezTo>
                <a:cubicBezTo>
                  <a:pt x="12934" y="5219"/>
                  <a:pt x="12941" y="5128"/>
                  <a:pt x="13022" y="5110"/>
                </a:cubicBezTo>
                <a:cubicBezTo>
                  <a:pt x="13138" y="5084"/>
                  <a:pt x="13118" y="5167"/>
                  <a:pt x="13171" y="5234"/>
                </a:cubicBezTo>
                <a:cubicBezTo>
                  <a:pt x="13234" y="5315"/>
                  <a:pt x="13241" y="5396"/>
                  <a:pt x="13246" y="5507"/>
                </a:cubicBezTo>
                <a:cubicBezTo>
                  <a:pt x="13249" y="5571"/>
                  <a:pt x="13213" y="5679"/>
                  <a:pt x="13221" y="5730"/>
                </a:cubicBezTo>
                <a:cubicBezTo>
                  <a:pt x="13262" y="5771"/>
                  <a:pt x="13276" y="5757"/>
                  <a:pt x="13271" y="5655"/>
                </a:cubicBezTo>
              </a:path>
              <a:path w="7145" h="1663">
                <a:moveTo>
                  <a:pt x="13692" y="4341"/>
                </a:moveTo>
                <a:cubicBezTo>
                  <a:pt x="13783" y="4325"/>
                  <a:pt x="13879" y="4301"/>
                  <a:pt x="13965" y="4341"/>
                </a:cubicBezTo>
                <a:cubicBezTo>
                  <a:pt x="14028" y="4370"/>
                  <a:pt x="14020" y="4420"/>
                  <a:pt x="13990" y="4465"/>
                </a:cubicBezTo>
                <a:cubicBezTo>
                  <a:pt x="13960" y="4510"/>
                  <a:pt x="13896" y="4590"/>
                  <a:pt x="13841" y="4614"/>
                </a:cubicBezTo>
                <a:cubicBezTo>
                  <a:pt x="13813" y="4614"/>
                  <a:pt x="13802" y="4616"/>
                  <a:pt x="13791" y="4638"/>
                </a:cubicBezTo>
                <a:cubicBezTo>
                  <a:pt x="13860" y="4638"/>
                  <a:pt x="13929" y="4625"/>
                  <a:pt x="13990" y="4663"/>
                </a:cubicBezTo>
                <a:cubicBezTo>
                  <a:pt x="14054" y="4702"/>
                  <a:pt x="14081" y="4762"/>
                  <a:pt x="14064" y="4837"/>
                </a:cubicBezTo>
                <a:cubicBezTo>
                  <a:pt x="14055" y="4879"/>
                  <a:pt x="13948" y="4929"/>
                  <a:pt x="13915" y="4936"/>
                </a:cubicBezTo>
                <a:cubicBezTo>
                  <a:pt x="13874" y="4945"/>
                  <a:pt x="13753" y="4972"/>
                  <a:pt x="13717" y="4961"/>
                </a:cubicBezTo>
                <a:cubicBezTo>
                  <a:pt x="13640" y="4937"/>
                  <a:pt x="13674" y="4859"/>
                  <a:pt x="13692" y="4812"/>
                </a:cubicBezTo>
              </a:path>
              <a:path w="7145" h="1663">
                <a:moveTo>
                  <a:pt x="14213" y="4390"/>
                </a:moveTo>
                <a:cubicBezTo>
                  <a:pt x="14333" y="4371"/>
                  <a:pt x="14438" y="4366"/>
                  <a:pt x="14560" y="4366"/>
                </a:cubicBezTo>
                <a:cubicBezTo>
                  <a:pt x="14602" y="4366"/>
                  <a:pt x="14610" y="4366"/>
                  <a:pt x="14635" y="4366"/>
                </a:cubicBezTo>
              </a:path>
              <a:path w="7145" h="1663">
                <a:moveTo>
                  <a:pt x="14387" y="4514"/>
                </a:moveTo>
                <a:cubicBezTo>
                  <a:pt x="14371" y="4620"/>
                  <a:pt x="14343" y="4732"/>
                  <a:pt x="14337" y="4837"/>
                </a:cubicBezTo>
                <a:cubicBezTo>
                  <a:pt x="14332" y="4935"/>
                  <a:pt x="14311" y="4921"/>
                  <a:pt x="14387" y="4812"/>
                </a:cubicBezTo>
              </a:path>
              <a:path w="7145" h="1663">
                <a:moveTo>
                  <a:pt x="14536" y="4390"/>
                </a:moveTo>
                <a:cubicBezTo>
                  <a:pt x="14536" y="4473"/>
                  <a:pt x="14523" y="4534"/>
                  <a:pt x="14511" y="4614"/>
                </a:cubicBezTo>
                <a:cubicBezTo>
                  <a:pt x="14501" y="4682"/>
                  <a:pt x="14525" y="4734"/>
                  <a:pt x="14536" y="4787"/>
                </a:cubicBezTo>
                <a:cubicBezTo>
                  <a:pt x="14549" y="4850"/>
                  <a:pt x="14581" y="4883"/>
                  <a:pt x="14560" y="4936"/>
                </a:cubicBezTo>
              </a:path>
              <a:path w="7145" h="1663">
                <a:moveTo>
                  <a:pt x="13767" y="5035"/>
                </a:moveTo>
                <a:cubicBezTo>
                  <a:pt x="13873" y="5075"/>
                  <a:pt x="13973" y="5038"/>
                  <a:pt x="14089" y="5035"/>
                </a:cubicBezTo>
                <a:cubicBezTo>
                  <a:pt x="14164" y="5033"/>
                  <a:pt x="14262" y="4991"/>
                  <a:pt x="14337" y="5011"/>
                </a:cubicBezTo>
                <a:cubicBezTo>
                  <a:pt x="14378" y="5031"/>
                  <a:pt x="14384" y="5039"/>
                  <a:pt x="14412" y="5035"/>
                </a:cubicBezTo>
              </a:path>
              <a:path w="7145" h="1663">
                <a:moveTo>
                  <a:pt x="14163" y="5234"/>
                </a:moveTo>
                <a:cubicBezTo>
                  <a:pt x="14115" y="5290"/>
                  <a:pt x="14009" y="5386"/>
                  <a:pt x="14039" y="5482"/>
                </a:cubicBezTo>
                <a:cubicBezTo>
                  <a:pt x="14057" y="5540"/>
                  <a:pt x="14219" y="5544"/>
                  <a:pt x="14263" y="5531"/>
                </a:cubicBezTo>
                <a:cubicBezTo>
                  <a:pt x="14296" y="5521"/>
                  <a:pt x="14331" y="5501"/>
                  <a:pt x="14362" y="5482"/>
                </a:cubicBezTo>
              </a:path>
              <a:path w="7145" h="1663">
                <a:moveTo>
                  <a:pt x="14387" y="5184"/>
                </a:moveTo>
                <a:cubicBezTo>
                  <a:pt x="14353" y="5296"/>
                  <a:pt x="14300" y="5437"/>
                  <a:pt x="14288" y="5556"/>
                </a:cubicBezTo>
                <a:cubicBezTo>
                  <a:pt x="14278" y="5655"/>
                  <a:pt x="14278" y="5736"/>
                  <a:pt x="14263" y="5829"/>
                </a:cubicBezTo>
                <a:cubicBezTo>
                  <a:pt x="14253" y="5889"/>
                  <a:pt x="14229" y="5956"/>
                  <a:pt x="14288" y="5879"/>
                </a:cubicBezTo>
              </a:path>
              <a:path w="7145" h="1663">
                <a:moveTo>
                  <a:pt x="14957" y="4539"/>
                </a:moveTo>
                <a:cubicBezTo>
                  <a:pt x="15054" y="4518"/>
                  <a:pt x="15131" y="4514"/>
                  <a:pt x="15230" y="4514"/>
                </a:cubicBezTo>
                <a:cubicBezTo>
                  <a:pt x="15247" y="4514"/>
                  <a:pt x="15422" y="4514"/>
                  <a:pt x="15354" y="4514"/>
                </a:cubicBezTo>
              </a:path>
              <a:path w="7145" h="1663">
                <a:moveTo>
                  <a:pt x="15180" y="4390"/>
                </a:moveTo>
                <a:cubicBezTo>
                  <a:pt x="15180" y="4552"/>
                  <a:pt x="15174" y="4705"/>
                  <a:pt x="15156" y="4862"/>
                </a:cubicBezTo>
                <a:cubicBezTo>
                  <a:pt x="15145" y="4962"/>
                  <a:pt x="15150" y="5060"/>
                  <a:pt x="15131" y="5159"/>
                </a:cubicBezTo>
                <a:cubicBezTo>
                  <a:pt x="15116" y="5237"/>
                  <a:pt x="15108" y="5361"/>
                  <a:pt x="15081" y="5432"/>
                </a:cubicBezTo>
                <a:cubicBezTo>
                  <a:pt x="15069" y="5464"/>
                  <a:pt x="15032" y="5575"/>
                  <a:pt x="15032" y="5531"/>
                </a:cubicBezTo>
              </a:path>
              <a:path w="7145" h="1663">
                <a:moveTo>
                  <a:pt x="15404" y="5060"/>
                </a:moveTo>
                <a:cubicBezTo>
                  <a:pt x="15474" y="5032"/>
                  <a:pt x="15480" y="5033"/>
                  <a:pt x="15528" y="4986"/>
                </a:cubicBezTo>
                <a:cubicBezTo>
                  <a:pt x="15455" y="5022"/>
                  <a:pt x="15425" y="5045"/>
                  <a:pt x="15379" y="5110"/>
                </a:cubicBezTo>
                <a:cubicBezTo>
                  <a:pt x="15363" y="5132"/>
                  <a:pt x="15253" y="5279"/>
                  <a:pt x="15255" y="5308"/>
                </a:cubicBezTo>
                <a:cubicBezTo>
                  <a:pt x="15259" y="5393"/>
                  <a:pt x="15314" y="5466"/>
                  <a:pt x="15404" y="5432"/>
                </a:cubicBezTo>
                <a:cubicBezTo>
                  <a:pt x="15441" y="5418"/>
                  <a:pt x="15469" y="5363"/>
                  <a:pt x="15478" y="5333"/>
                </a:cubicBezTo>
                <a:cubicBezTo>
                  <a:pt x="15499" y="5267"/>
                  <a:pt x="15520" y="5225"/>
                  <a:pt x="15528" y="5159"/>
                </a:cubicBezTo>
                <a:cubicBezTo>
                  <a:pt x="15492" y="5255"/>
                  <a:pt x="15514" y="5284"/>
                  <a:pt x="15528" y="5383"/>
                </a:cubicBezTo>
                <a:cubicBezTo>
                  <a:pt x="15534" y="5428"/>
                  <a:pt x="15557" y="5527"/>
                  <a:pt x="15627" y="5457"/>
                </a:cubicBezTo>
                <a:cubicBezTo>
                  <a:pt x="15635" y="5440"/>
                  <a:pt x="15644" y="5424"/>
                  <a:pt x="15652" y="5407"/>
                </a:cubicBezTo>
              </a:path>
              <a:path w="7145" h="1663">
                <a:moveTo>
                  <a:pt x="15701" y="5110"/>
                </a:moveTo>
                <a:cubicBezTo>
                  <a:pt x="15701" y="5226"/>
                  <a:pt x="15701" y="5341"/>
                  <a:pt x="15701" y="5457"/>
                </a:cubicBezTo>
                <a:cubicBezTo>
                  <a:pt x="15728" y="5413"/>
                  <a:pt x="15742" y="5337"/>
                  <a:pt x="15751" y="5283"/>
                </a:cubicBezTo>
                <a:cubicBezTo>
                  <a:pt x="15763" y="5214"/>
                  <a:pt x="15783" y="5146"/>
                  <a:pt x="15825" y="5085"/>
                </a:cubicBezTo>
                <a:cubicBezTo>
                  <a:pt x="15871" y="5017"/>
                  <a:pt x="15930" y="4984"/>
                  <a:pt x="15999" y="5011"/>
                </a:cubicBezTo>
                <a:cubicBezTo>
                  <a:pt x="16062" y="5036"/>
                  <a:pt x="16060" y="5109"/>
                  <a:pt x="16073" y="5159"/>
                </a:cubicBezTo>
                <a:cubicBezTo>
                  <a:pt x="16092" y="5234"/>
                  <a:pt x="16117" y="5328"/>
                  <a:pt x="16098" y="5407"/>
                </a:cubicBezTo>
                <a:cubicBezTo>
                  <a:pt x="16081" y="5477"/>
                  <a:pt x="16098" y="5678"/>
                  <a:pt x="16098" y="5606"/>
                </a:cubicBezTo>
                <a:cubicBezTo>
                  <a:pt x="16098" y="5589"/>
                  <a:pt x="16098" y="5573"/>
                  <a:pt x="16098" y="5556"/>
                </a:cubicBezTo>
              </a:path>
              <a:path w="7145" h="1663">
                <a:moveTo>
                  <a:pt x="16346" y="4614"/>
                </a:moveTo>
                <a:cubicBezTo>
                  <a:pt x="16463" y="4585"/>
                  <a:pt x="16580" y="4558"/>
                  <a:pt x="16694" y="4539"/>
                </a:cubicBezTo>
                <a:cubicBezTo>
                  <a:pt x="16741" y="4531"/>
                  <a:pt x="16794" y="4539"/>
                  <a:pt x="16842" y="4539"/>
                </a:cubicBezTo>
              </a:path>
              <a:path w="7145" h="1663">
                <a:moveTo>
                  <a:pt x="16495" y="4638"/>
                </a:moveTo>
                <a:cubicBezTo>
                  <a:pt x="16489" y="4670"/>
                  <a:pt x="16427" y="4886"/>
                  <a:pt x="16495" y="4911"/>
                </a:cubicBezTo>
                <a:cubicBezTo>
                  <a:pt x="16495" y="4903"/>
                  <a:pt x="16495" y="4895"/>
                  <a:pt x="16495" y="4887"/>
                </a:cubicBezTo>
              </a:path>
              <a:path w="7145" h="1663">
                <a:moveTo>
                  <a:pt x="16669" y="4564"/>
                </a:moveTo>
                <a:cubicBezTo>
                  <a:pt x="16669" y="4738"/>
                  <a:pt x="16669" y="4911"/>
                  <a:pt x="16669" y="5085"/>
                </a:cubicBezTo>
              </a:path>
              <a:path w="7145" h="1663">
                <a:moveTo>
                  <a:pt x="16346" y="5135"/>
                </a:moveTo>
                <a:cubicBezTo>
                  <a:pt x="16416" y="5126"/>
                  <a:pt x="16471" y="5110"/>
                  <a:pt x="16545" y="5110"/>
                </a:cubicBezTo>
                <a:cubicBezTo>
                  <a:pt x="16632" y="5110"/>
                  <a:pt x="16688" y="5103"/>
                  <a:pt x="16768" y="5085"/>
                </a:cubicBezTo>
                <a:cubicBezTo>
                  <a:pt x="16776" y="5085"/>
                  <a:pt x="16785" y="5085"/>
                  <a:pt x="16793" y="5085"/>
                </a:cubicBezTo>
              </a:path>
              <a:path w="7145" h="1663">
                <a:moveTo>
                  <a:pt x="16619" y="5308"/>
                </a:moveTo>
                <a:cubicBezTo>
                  <a:pt x="16539" y="5397"/>
                  <a:pt x="16499" y="5436"/>
                  <a:pt x="16495" y="5556"/>
                </a:cubicBezTo>
                <a:cubicBezTo>
                  <a:pt x="16491" y="5675"/>
                  <a:pt x="16518" y="5695"/>
                  <a:pt x="16619" y="5755"/>
                </a:cubicBezTo>
                <a:cubicBezTo>
                  <a:pt x="16683" y="5793"/>
                  <a:pt x="16778" y="5794"/>
                  <a:pt x="16842" y="5755"/>
                </a:cubicBezTo>
                <a:cubicBezTo>
                  <a:pt x="16878" y="5733"/>
                  <a:pt x="16933" y="5671"/>
                  <a:pt x="16942" y="5631"/>
                </a:cubicBezTo>
                <a:cubicBezTo>
                  <a:pt x="16955" y="5576"/>
                  <a:pt x="16925" y="5564"/>
                  <a:pt x="16892" y="5531"/>
                </a:cubicBezTo>
                <a:cubicBezTo>
                  <a:pt x="16853" y="5559"/>
                  <a:pt x="16766" y="5611"/>
                  <a:pt x="16743" y="5655"/>
                </a:cubicBezTo>
                <a:cubicBezTo>
                  <a:pt x="16698" y="5741"/>
                  <a:pt x="16715" y="5808"/>
                  <a:pt x="16768" y="5879"/>
                </a:cubicBezTo>
                <a:cubicBezTo>
                  <a:pt x="16776" y="5887"/>
                  <a:pt x="16785" y="5896"/>
                  <a:pt x="16793" y="59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Ink 5"/>
          <p:cNvSpPr/>
          <p:nvPr/>
        </p:nvSpPr>
        <p:spPr>
          <a:xfrm>
            <a:off x="6554880" y="1562040"/>
            <a:ext cx="1616040" cy="608040"/>
          </a:xfrm>
          <a:custGeom>
            <a:avLst/>
            <a:gdLst/>
            <a:ahLst/>
            <a:rect l="l" t="t" r="r" b="b"/>
            <a:pathLst>
              <a:path w="4490" h="1688">
                <a:moveTo>
                  <a:pt x="18306" y="4440"/>
                </a:moveTo>
                <a:cubicBezTo>
                  <a:pt x="18306" y="4537"/>
                  <a:pt x="18296" y="4622"/>
                  <a:pt x="18281" y="4713"/>
                </a:cubicBezTo>
                <a:cubicBezTo>
                  <a:pt x="18263" y="4828"/>
                  <a:pt x="18256" y="4943"/>
                  <a:pt x="18256" y="5060"/>
                </a:cubicBezTo>
                <a:cubicBezTo>
                  <a:pt x="18256" y="5165"/>
                  <a:pt x="18242" y="5257"/>
                  <a:pt x="18231" y="5358"/>
                </a:cubicBezTo>
                <a:cubicBezTo>
                  <a:pt x="18218" y="5471"/>
                  <a:pt x="18212" y="5591"/>
                  <a:pt x="18207" y="5705"/>
                </a:cubicBezTo>
                <a:cubicBezTo>
                  <a:pt x="18206" y="5734"/>
                  <a:pt x="18201" y="5867"/>
                  <a:pt x="18231" y="5804"/>
                </a:cubicBezTo>
              </a:path>
              <a:path w="4490" h="1688">
                <a:moveTo>
                  <a:pt x="18703" y="5184"/>
                </a:moveTo>
                <a:cubicBezTo>
                  <a:pt x="18824" y="5184"/>
                  <a:pt x="18934" y="5173"/>
                  <a:pt x="19050" y="5159"/>
                </a:cubicBezTo>
                <a:cubicBezTo>
                  <a:pt x="19154" y="5147"/>
                  <a:pt x="19267" y="5159"/>
                  <a:pt x="19372" y="5159"/>
                </a:cubicBezTo>
              </a:path>
              <a:path w="4490" h="1688">
                <a:moveTo>
                  <a:pt x="19943" y="4564"/>
                </a:moveTo>
                <a:cubicBezTo>
                  <a:pt x="19912" y="4616"/>
                  <a:pt x="19912" y="4657"/>
                  <a:pt x="19893" y="4713"/>
                </a:cubicBezTo>
                <a:cubicBezTo>
                  <a:pt x="19861" y="4807"/>
                  <a:pt x="19835" y="4938"/>
                  <a:pt x="19819" y="5035"/>
                </a:cubicBezTo>
                <a:cubicBezTo>
                  <a:pt x="19804" y="5124"/>
                  <a:pt x="19779" y="5221"/>
                  <a:pt x="19769" y="5308"/>
                </a:cubicBezTo>
                <a:cubicBezTo>
                  <a:pt x="19759" y="5387"/>
                  <a:pt x="19744" y="5569"/>
                  <a:pt x="19794" y="5631"/>
                </a:cubicBezTo>
                <a:cubicBezTo>
                  <a:pt x="19819" y="5661"/>
                  <a:pt x="19835" y="5672"/>
                  <a:pt x="19869" y="5680"/>
                </a:cubicBezTo>
              </a:path>
              <a:path w="4490" h="1688">
                <a:moveTo>
                  <a:pt x="19893" y="5035"/>
                </a:moveTo>
                <a:cubicBezTo>
                  <a:pt x="20000" y="5017"/>
                  <a:pt x="20113" y="5002"/>
                  <a:pt x="20216" y="4986"/>
                </a:cubicBezTo>
                <a:cubicBezTo>
                  <a:pt x="20275" y="4986"/>
                  <a:pt x="20301" y="4983"/>
                  <a:pt x="20340" y="4961"/>
                </a:cubicBezTo>
              </a:path>
              <a:path w="4490" h="1688">
                <a:moveTo>
                  <a:pt x="20588" y="4762"/>
                </a:moveTo>
                <a:cubicBezTo>
                  <a:pt x="20588" y="5019"/>
                  <a:pt x="20588" y="5689"/>
                  <a:pt x="20588" y="5432"/>
                </a:cubicBezTo>
              </a:path>
              <a:path w="4490" h="1688">
                <a:moveTo>
                  <a:pt x="20662" y="4514"/>
                </a:moveTo>
                <a:cubicBezTo>
                  <a:pt x="20770" y="4557"/>
                  <a:pt x="20786" y="4583"/>
                  <a:pt x="20836" y="4688"/>
                </a:cubicBezTo>
                <a:cubicBezTo>
                  <a:pt x="20924" y="4872"/>
                  <a:pt x="21015" y="5034"/>
                  <a:pt x="21034" y="5234"/>
                </a:cubicBezTo>
                <a:cubicBezTo>
                  <a:pt x="21042" y="5312"/>
                  <a:pt x="21022" y="5439"/>
                  <a:pt x="20985" y="5507"/>
                </a:cubicBezTo>
                <a:cubicBezTo>
                  <a:pt x="20944" y="5582"/>
                  <a:pt x="20862" y="5646"/>
                  <a:pt x="20786" y="5680"/>
                </a:cubicBezTo>
                <a:cubicBezTo>
                  <a:pt x="20717" y="5711"/>
                  <a:pt x="20671" y="5724"/>
                  <a:pt x="20613" y="5705"/>
                </a:cubicBezTo>
              </a:path>
              <a:path w="4490" h="1688">
                <a:moveTo>
                  <a:pt x="21382" y="4514"/>
                </a:moveTo>
                <a:cubicBezTo>
                  <a:pt x="21299" y="4648"/>
                  <a:pt x="21257" y="4741"/>
                  <a:pt x="21208" y="4887"/>
                </a:cubicBezTo>
                <a:cubicBezTo>
                  <a:pt x="21158" y="5037"/>
                  <a:pt x="21158" y="5149"/>
                  <a:pt x="21158" y="5308"/>
                </a:cubicBezTo>
                <a:cubicBezTo>
                  <a:pt x="21158" y="5392"/>
                  <a:pt x="21157" y="5479"/>
                  <a:pt x="21183" y="5556"/>
                </a:cubicBezTo>
                <a:cubicBezTo>
                  <a:pt x="21217" y="5656"/>
                  <a:pt x="21249" y="5642"/>
                  <a:pt x="21332" y="5631"/>
                </a:cubicBezTo>
                <a:cubicBezTo>
                  <a:pt x="21340" y="5631"/>
                  <a:pt x="21349" y="5631"/>
                  <a:pt x="21357" y="5631"/>
                </a:cubicBezTo>
              </a:path>
              <a:path w="4490" h="1688">
                <a:moveTo>
                  <a:pt x="21481" y="4688"/>
                </a:moveTo>
                <a:cubicBezTo>
                  <a:pt x="21511" y="4771"/>
                  <a:pt x="21530" y="4823"/>
                  <a:pt x="21530" y="4911"/>
                </a:cubicBezTo>
                <a:cubicBezTo>
                  <a:pt x="21530" y="4986"/>
                  <a:pt x="21530" y="5010"/>
                  <a:pt x="21530" y="5060"/>
                </a:cubicBezTo>
                <a:cubicBezTo>
                  <a:pt x="21530" y="4885"/>
                  <a:pt x="21523" y="4698"/>
                  <a:pt x="21555" y="4539"/>
                </a:cubicBezTo>
                <a:cubicBezTo>
                  <a:pt x="21566" y="4483"/>
                  <a:pt x="21581" y="4407"/>
                  <a:pt x="21654" y="4390"/>
                </a:cubicBezTo>
                <a:cubicBezTo>
                  <a:pt x="21715" y="4376"/>
                  <a:pt x="21868" y="4324"/>
                  <a:pt x="21927" y="4341"/>
                </a:cubicBezTo>
                <a:cubicBezTo>
                  <a:pt x="21950" y="4364"/>
                  <a:pt x="21954" y="4372"/>
                  <a:pt x="21977" y="4366"/>
                </a:cubicBezTo>
              </a:path>
              <a:path w="4490" h="1688">
                <a:moveTo>
                  <a:pt x="21779" y="4614"/>
                </a:moveTo>
                <a:cubicBezTo>
                  <a:pt x="21862" y="4614"/>
                  <a:pt x="21976" y="4573"/>
                  <a:pt x="22051" y="4589"/>
                </a:cubicBezTo>
                <a:cubicBezTo>
                  <a:pt x="22095" y="4611"/>
                  <a:pt x="22106" y="4614"/>
                  <a:pt x="22126" y="4638"/>
                </a:cubicBezTo>
                <a:cubicBezTo>
                  <a:pt x="22061" y="4690"/>
                  <a:pt x="21998" y="4714"/>
                  <a:pt x="21927" y="4738"/>
                </a:cubicBezTo>
                <a:cubicBezTo>
                  <a:pt x="21824" y="4773"/>
                  <a:pt x="21770" y="4768"/>
                  <a:pt x="21803" y="4837"/>
                </a:cubicBezTo>
                <a:cubicBezTo>
                  <a:pt x="21876" y="4844"/>
                  <a:pt x="21962" y="4848"/>
                  <a:pt x="22027" y="4887"/>
                </a:cubicBezTo>
                <a:cubicBezTo>
                  <a:pt x="22053" y="4903"/>
                  <a:pt x="22079" y="4939"/>
                  <a:pt x="22101" y="4961"/>
                </a:cubicBezTo>
                <a:cubicBezTo>
                  <a:pt x="22034" y="5028"/>
                  <a:pt x="21991" y="5016"/>
                  <a:pt x="21903" y="5035"/>
                </a:cubicBezTo>
                <a:cubicBezTo>
                  <a:pt x="21878" y="5043"/>
                  <a:pt x="21853" y="5052"/>
                  <a:pt x="21828" y="5060"/>
                </a:cubicBezTo>
              </a:path>
              <a:path w="4490" h="1688">
                <a:moveTo>
                  <a:pt x="21382" y="5110"/>
                </a:moveTo>
                <a:cubicBezTo>
                  <a:pt x="21621" y="5110"/>
                  <a:pt x="21930" y="5055"/>
                  <a:pt x="22151" y="5085"/>
                </a:cubicBezTo>
                <a:cubicBezTo>
                  <a:pt x="22159" y="5093"/>
                  <a:pt x="22167" y="5102"/>
                  <a:pt x="22175" y="5110"/>
                </a:cubicBezTo>
              </a:path>
              <a:path w="4490" h="1688">
                <a:moveTo>
                  <a:pt x="21654" y="5308"/>
                </a:moveTo>
                <a:cubicBezTo>
                  <a:pt x="21750" y="5308"/>
                  <a:pt x="21838" y="5296"/>
                  <a:pt x="21927" y="5283"/>
                </a:cubicBezTo>
                <a:cubicBezTo>
                  <a:pt x="21979" y="5283"/>
                  <a:pt x="21997" y="5284"/>
                  <a:pt x="22027" y="5308"/>
                </a:cubicBezTo>
                <a:cubicBezTo>
                  <a:pt x="21989" y="5346"/>
                  <a:pt x="21948" y="5380"/>
                  <a:pt x="21903" y="5407"/>
                </a:cubicBezTo>
                <a:cubicBezTo>
                  <a:pt x="21853" y="5437"/>
                  <a:pt x="21753" y="5541"/>
                  <a:pt x="21754" y="5482"/>
                </a:cubicBezTo>
                <a:cubicBezTo>
                  <a:pt x="21755" y="5417"/>
                  <a:pt x="21907" y="5473"/>
                  <a:pt x="21927" y="5482"/>
                </a:cubicBezTo>
                <a:cubicBezTo>
                  <a:pt x="21987" y="5509"/>
                  <a:pt x="22078" y="5570"/>
                  <a:pt x="22051" y="5655"/>
                </a:cubicBezTo>
                <a:cubicBezTo>
                  <a:pt x="22032" y="5715"/>
                  <a:pt x="21952" y="5759"/>
                  <a:pt x="21903" y="5779"/>
                </a:cubicBezTo>
                <a:cubicBezTo>
                  <a:pt x="21805" y="5818"/>
                  <a:pt x="21702" y="5815"/>
                  <a:pt x="21605" y="5779"/>
                </a:cubicBezTo>
                <a:cubicBezTo>
                  <a:pt x="21588" y="5771"/>
                  <a:pt x="21572" y="5763"/>
                  <a:pt x="21555" y="5755"/>
                </a:cubicBezTo>
              </a:path>
              <a:path w="4490" h="1688">
                <a:moveTo>
                  <a:pt x="22423" y="4390"/>
                </a:moveTo>
                <a:cubicBezTo>
                  <a:pt x="22521" y="4548"/>
                  <a:pt x="22539" y="4643"/>
                  <a:pt x="22597" y="4812"/>
                </a:cubicBezTo>
                <a:cubicBezTo>
                  <a:pt x="22663" y="5003"/>
                  <a:pt x="22692" y="5127"/>
                  <a:pt x="22696" y="5333"/>
                </a:cubicBezTo>
                <a:cubicBezTo>
                  <a:pt x="22699" y="5465"/>
                  <a:pt x="22661" y="5549"/>
                  <a:pt x="22597" y="5655"/>
                </a:cubicBezTo>
                <a:cubicBezTo>
                  <a:pt x="22560" y="5717"/>
                  <a:pt x="22530" y="5808"/>
                  <a:pt x="22473" y="5854"/>
                </a:cubicBezTo>
                <a:cubicBezTo>
                  <a:pt x="22400" y="5912"/>
                  <a:pt x="22330" y="5981"/>
                  <a:pt x="22250" y="60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Ink 6"/>
          <p:cNvSpPr/>
          <p:nvPr/>
        </p:nvSpPr>
        <p:spPr>
          <a:xfrm>
            <a:off x="231840" y="2286000"/>
            <a:ext cx="6072120" cy="2187720"/>
          </a:xfrm>
          <a:custGeom>
            <a:avLst/>
            <a:gdLst/>
            <a:ahLst/>
            <a:rect l="l" t="t" r="r" b="b"/>
            <a:pathLst>
              <a:path w="16868" h="6078">
                <a:moveTo>
                  <a:pt x="719" y="8806"/>
                </a:moveTo>
                <a:cubicBezTo>
                  <a:pt x="791" y="8820"/>
                  <a:pt x="856" y="8830"/>
                  <a:pt x="943" y="8830"/>
                </a:cubicBezTo>
                <a:cubicBezTo>
                  <a:pt x="1078" y="8830"/>
                  <a:pt x="1186" y="8843"/>
                  <a:pt x="1315" y="8855"/>
                </a:cubicBezTo>
                <a:cubicBezTo>
                  <a:pt x="1423" y="8865"/>
                  <a:pt x="1530" y="8863"/>
                  <a:pt x="1637" y="8880"/>
                </a:cubicBezTo>
                <a:cubicBezTo>
                  <a:pt x="1866" y="8916"/>
                  <a:pt x="2101" y="8958"/>
                  <a:pt x="2332" y="8979"/>
                </a:cubicBezTo>
                <a:cubicBezTo>
                  <a:pt x="2551" y="8999"/>
                  <a:pt x="2757" y="9015"/>
                  <a:pt x="2977" y="9054"/>
                </a:cubicBezTo>
                <a:cubicBezTo>
                  <a:pt x="3209" y="9095"/>
                  <a:pt x="3439" y="9125"/>
                  <a:pt x="3671" y="9153"/>
                </a:cubicBezTo>
                <a:cubicBezTo>
                  <a:pt x="3852" y="9174"/>
                  <a:pt x="4036" y="9213"/>
                  <a:pt x="4217" y="9227"/>
                </a:cubicBezTo>
                <a:cubicBezTo>
                  <a:pt x="4379" y="9240"/>
                  <a:pt x="4528" y="9285"/>
                  <a:pt x="4688" y="9302"/>
                </a:cubicBezTo>
                <a:cubicBezTo>
                  <a:pt x="4762" y="9310"/>
                  <a:pt x="4901" y="9332"/>
                  <a:pt x="4961" y="9302"/>
                </a:cubicBezTo>
                <a:cubicBezTo>
                  <a:pt x="4984" y="9279"/>
                  <a:pt x="4992" y="9275"/>
                  <a:pt x="4986" y="9252"/>
                </a:cubicBezTo>
              </a:path>
              <a:path w="16868" h="6078">
                <a:moveTo>
                  <a:pt x="744" y="7938"/>
                </a:moveTo>
                <a:cubicBezTo>
                  <a:pt x="882" y="7938"/>
                  <a:pt x="1008" y="7944"/>
                  <a:pt x="1141" y="7962"/>
                </a:cubicBezTo>
                <a:cubicBezTo>
                  <a:pt x="1199" y="7962"/>
                  <a:pt x="1224" y="7962"/>
                  <a:pt x="1265" y="7962"/>
                </a:cubicBezTo>
              </a:path>
              <a:path w="16868" h="6078">
                <a:moveTo>
                  <a:pt x="1736" y="7243"/>
                </a:moveTo>
                <a:cubicBezTo>
                  <a:pt x="1728" y="7318"/>
                  <a:pt x="1730" y="7418"/>
                  <a:pt x="1712" y="7491"/>
                </a:cubicBezTo>
                <a:cubicBezTo>
                  <a:pt x="1689" y="7587"/>
                  <a:pt x="1665" y="7687"/>
                  <a:pt x="1662" y="7789"/>
                </a:cubicBezTo>
                <a:cubicBezTo>
                  <a:pt x="1657" y="7939"/>
                  <a:pt x="1625" y="8083"/>
                  <a:pt x="1612" y="8235"/>
                </a:cubicBezTo>
                <a:cubicBezTo>
                  <a:pt x="1605" y="8319"/>
                  <a:pt x="1591" y="8401"/>
                  <a:pt x="1588" y="8483"/>
                </a:cubicBezTo>
                <a:cubicBezTo>
                  <a:pt x="1585" y="8546"/>
                  <a:pt x="1547" y="8697"/>
                  <a:pt x="1612" y="8607"/>
                </a:cubicBezTo>
              </a:path>
              <a:path w="16868" h="6078">
                <a:moveTo>
                  <a:pt x="2381" y="7417"/>
                </a:moveTo>
                <a:cubicBezTo>
                  <a:pt x="2381" y="7584"/>
                  <a:pt x="2375" y="7762"/>
                  <a:pt x="2406" y="7913"/>
                </a:cubicBezTo>
                <a:cubicBezTo>
                  <a:pt x="2415" y="7958"/>
                  <a:pt x="2406" y="8016"/>
                  <a:pt x="2406" y="8062"/>
                </a:cubicBezTo>
              </a:path>
              <a:path w="16868" h="6078">
                <a:moveTo>
                  <a:pt x="2084" y="7714"/>
                </a:moveTo>
                <a:cubicBezTo>
                  <a:pt x="2183" y="7737"/>
                  <a:pt x="2281" y="7744"/>
                  <a:pt x="2381" y="7764"/>
                </a:cubicBezTo>
                <a:cubicBezTo>
                  <a:pt x="2503" y="7788"/>
                  <a:pt x="2606" y="7789"/>
                  <a:pt x="2729" y="7789"/>
                </a:cubicBezTo>
                <a:cubicBezTo>
                  <a:pt x="2787" y="7789"/>
                  <a:pt x="2812" y="7789"/>
                  <a:pt x="2853" y="7789"/>
                </a:cubicBezTo>
              </a:path>
              <a:path w="16868" h="6078">
                <a:moveTo>
                  <a:pt x="3125" y="7193"/>
                </a:moveTo>
                <a:cubicBezTo>
                  <a:pt x="3125" y="7283"/>
                  <a:pt x="3114" y="7358"/>
                  <a:pt x="3101" y="7441"/>
                </a:cubicBezTo>
                <a:cubicBezTo>
                  <a:pt x="3095" y="7483"/>
                  <a:pt x="3101" y="7756"/>
                  <a:pt x="3101" y="7640"/>
                </a:cubicBezTo>
                <a:cubicBezTo>
                  <a:pt x="3101" y="7550"/>
                  <a:pt x="3081" y="7477"/>
                  <a:pt x="3076" y="7392"/>
                </a:cubicBezTo>
                <a:cubicBezTo>
                  <a:pt x="3071" y="7302"/>
                  <a:pt x="3092" y="7232"/>
                  <a:pt x="3101" y="7144"/>
                </a:cubicBezTo>
                <a:cubicBezTo>
                  <a:pt x="3108" y="7078"/>
                  <a:pt x="3106" y="6995"/>
                  <a:pt x="3150" y="6945"/>
                </a:cubicBezTo>
                <a:cubicBezTo>
                  <a:pt x="3198" y="6891"/>
                  <a:pt x="3265" y="6830"/>
                  <a:pt x="3324" y="6796"/>
                </a:cubicBezTo>
                <a:cubicBezTo>
                  <a:pt x="3393" y="6756"/>
                  <a:pt x="3475" y="6771"/>
                  <a:pt x="3547" y="6747"/>
                </a:cubicBezTo>
                <a:cubicBezTo>
                  <a:pt x="3618" y="6723"/>
                  <a:pt x="3669" y="6722"/>
                  <a:pt x="3746" y="6722"/>
                </a:cubicBezTo>
              </a:path>
              <a:path w="16868" h="6078">
                <a:moveTo>
                  <a:pt x="3373" y="6995"/>
                </a:moveTo>
                <a:cubicBezTo>
                  <a:pt x="3453" y="6988"/>
                  <a:pt x="3515" y="6970"/>
                  <a:pt x="3597" y="6970"/>
                </a:cubicBezTo>
                <a:cubicBezTo>
                  <a:pt x="3655" y="6970"/>
                  <a:pt x="3756" y="6945"/>
                  <a:pt x="3795" y="6995"/>
                </a:cubicBezTo>
                <a:cubicBezTo>
                  <a:pt x="3803" y="7012"/>
                  <a:pt x="3812" y="7028"/>
                  <a:pt x="3820" y="7045"/>
                </a:cubicBezTo>
                <a:cubicBezTo>
                  <a:pt x="3763" y="7100"/>
                  <a:pt x="3732" y="7113"/>
                  <a:pt x="3671" y="7144"/>
                </a:cubicBezTo>
                <a:cubicBezTo>
                  <a:pt x="3621" y="7169"/>
                  <a:pt x="3575" y="7216"/>
                  <a:pt x="3522" y="7243"/>
                </a:cubicBezTo>
                <a:cubicBezTo>
                  <a:pt x="3506" y="7251"/>
                  <a:pt x="3489" y="7260"/>
                  <a:pt x="3473" y="7268"/>
                </a:cubicBezTo>
                <a:cubicBezTo>
                  <a:pt x="3535" y="7268"/>
                  <a:pt x="3617" y="7269"/>
                  <a:pt x="3671" y="7293"/>
                </a:cubicBezTo>
                <a:cubicBezTo>
                  <a:pt x="3702" y="7307"/>
                  <a:pt x="3776" y="7366"/>
                  <a:pt x="3795" y="7392"/>
                </a:cubicBezTo>
                <a:cubicBezTo>
                  <a:pt x="3856" y="7477"/>
                  <a:pt x="3812" y="7514"/>
                  <a:pt x="3746" y="7541"/>
                </a:cubicBezTo>
                <a:cubicBezTo>
                  <a:pt x="3673" y="7570"/>
                  <a:pt x="3600" y="7569"/>
                  <a:pt x="3522" y="7590"/>
                </a:cubicBezTo>
              </a:path>
              <a:path w="16868" h="6078">
                <a:moveTo>
                  <a:pt x="2952" y="7714"/>
                </a:moveTo>
                <a:cubicBezTo>
                  <a:pt x="3374" y="7714"/>
                  <a:pt x="3795" y="7714"/>
                  <a:pt x="4217" y="7714"/>
                </a:cubicBezTo>
              </a:path>
              <a:path w="16868" h="6078">
                <a:moveTo>
                  <a:pt x="3448" y="8012"/>
                </a:moveTo>
                <a:cubicBezTo>
                  <a:pt x="3370" y="8090"/>
                  <a:pt x="3516" y="8029"/>
                  <a:pt x="3572" y="8012"/>
                </a:cubicBezTo>
                <a:cubicBezTo>
                  <a:pt x="3621" y="7997"/>
                  <a:pt x="3710" y="7966"/>
                  <a:pt x="3746" y="8037"/>
                </a:cubicBezTo>
                <a:cubicBezTo>
                  <a:pt x="3746" y="8053"/>
                  <a:pt x="3746" y="8070"/>
                  <a:pt x="3746" y="8086"/>
                </a:cubicBezTo>
                <a:cubicBezTo>
                  <a:pt x="3699" y="8133"/>
                  <a:pt x="3639" y="8219"/>
                  <a:pt x="3572" y="8235"/>
                </a:cubicBezTo>
                <a:cubicBezTo>
                  <a:pt x="3522" y="8247"/>
                  <a:pt x="3474" y="8254"/>
                  <a:pt x="3423" y="8260"/>
                </a:cubicBezTo>
                <a:cubicBezTo>
                  <a:pt x="3474" y="8291"/>
                  <a:pt x="3537" y="8304"/>
                  <a:pt x="3597" y="8334"/>
                </a:cubicBezTo>
                <a:cubicBezTo>
                  <a:pt x="3647" y="8359"/>
                  <a:pt x="3707" y="8398"/>
                  <a:pt x="3721" y="8458"/>
                </a:cubicBezTo>
                <a:cubicBezTo>
                  <a:pt x="3738" y="8532"/>
                  <a:pt x="3657" y="8573"/>
                  <a:pt x="3597" y="8582"/>
                </a:cubicBezTo>
                <a:cubicBezTo>
                  <a:pt x="3499" y="8597"/>
                  <a:pt x="3393" y="8581"/>
                  <a:pt x="3299" y="8558"/>
                </a:cubicBezTo>
                <a:cubicBezTo>
                  <a:pt x="3266" y="8550"/>
                  <a:pt x="3233" y="8541"/>
                  <a:pt x="3200" y="8533"/>
                </a:cubicBezTo>
              </a:path>
              <a:path w="16868" h="6078">
                <a:moveTo>
                  <a:pt x="1414" y="9203"/>
                </a:moveTo>
                <a:cubicBezTo>
                  <a:pt x="1448" y="9292"/>
                  <a:pt x="1433" y="9336"/>
                  <a:pt x="1414" y="9426"/>
                </a:cubicBezTo>
                <a:cubicBezTo>
                  <a:pt x="1398" y="9501"/>
                  <a:pt x="1392" y="9597"/>
                  <a:pt x="1389" y="9674"/>
                </a:cubicBezTo>
                <a:cubicBezTo>
                  <a:pt x="1386" y="9759"/>
                  <a:pt x="1381" y="9863"/>
                  <a:pt x="1364" y="9947"/>
                </a:cubicBezTo>
                <a:cubicBezTo>
                  <a:pt x="1346" y="10034"/>
                  <a:pt x="1339" y="10105"/>
                  <a:pt x="1339" y="10195"/>
                </a:cubicBezTo>
                <a:cubicBezTo>
                  <a:pt x="1339" y="10279"/>
                  <a:pt x="1315" y="10309"/>
                  <a:pt x="1315" y="10393"/>
                </a:cubicBezTo>
              </a:path>
              <a:path w="16868" h="6078">
                <a:moveTo>
                  <a:pt x="2406" y="9451"/>
                </a:moveTo>
                <a:cubicBezTo>
                  <a:pt x="2406" y="9589"/>
                  <a:pt x="2416" y="9694"/>
                  <a:pt x="2431" y="9823"/>
                </a:cubicBezTo>
                <a:cubicBezTo>
                  <a:pt x="2441" y="9905"/>
                  <a:pt x="2452" y="9990"/>
                  <a:pt x="2456" y="10071"/>
                </a:cubicBezTo>
                <a:cubicBezTo>
                  <a:pt x="2459" y="10134"/>
                  <a:pt x="2459" y="10161"/>
                  <a:pt x="2480" y="10220"/>
                </a:cubicBezTo>
              </a:path>
              <a:path w="16868" h="6078">
                <a:moveTo>
                  <a:pt x="2084" y="9773"/>
                </a:moveTo>
                <a:cubicBezTo>
                  <a:pt x="2175" y="9782"/>
                  <a:pt x="2270" y="9814"/>
                  <a:pt x="2356" y="9823"/>
                </a:cubicBezTo>
                <a:cubicBezTo>
                  <a:pt x="2460" y="9834"/>
                  <a:pt x="2551" y="9858"/>
                  <a:pt x="2654" y="9872"/>
                </a:cubicBezTo>
                <a:cubicBezTo>
                  <a:pt x="2718" y="9881"/>
                  <a:pt x="2756" y="9897"/>
                  <a:pt x="2828" y="9897"/>
                </a:cubicBezTo>
              </a:path>
              <a:path w="16868" h="6078">
                <a:moveTo>
                  <a:pt x="3299" y="9451"/>
                </a:moveTo>
                <a:cubicBezTo>
                  <a:pt x="3318" y="9553"/>
                  <a:pt x="3324" y="9644"/>
                  <a:pt x="3324" y="9748"/>
                </a:cubicBezTo>
                <a:cubicBezTo>
                  <a:pt x="3324" y="9816"/>
                  <a:pt x="3332" y="9867"/>
                  <a:pt x="3299" y="9922"/>
                </a:cubicBezTo>
                <a:cubicBezTo>
                  <a:pt x="3299" y="9843"/>
                  <a:pt x="3317" y="9771"/>
                  <a:pt x="3324" y="9699"/>
                </a:cubicBezTo>
                <a:cubicBezTo>
                  <a:pt x="3333" y="9614"/>
                  <a:pt x="3289" y="9471"/>
                  <a:pt x="3349" y="9401"/>
                </a:cubicBezTo>
                <a:cubicBezTo>
                  <a:pt x="3387" y="9356"/>
                  <a:pt x="3467" y="9329"/>
                  <a:pt x="3522" y="9327"/>
                </a:cubicBezTo>
                <a:cubicBezTo>
                  <a:pt x="3620" y="9323"/>
                  <a:pt x="3718" y="9280"/>
                  <a:pt x="3820" y="9302"/>
                </a:cubicBezTo>
                <a:cubicBezTo>
                  <a:pt x="3878" y="9315"/>
                  <a:pt x="3906" y="9327"/>
                  <a:pt x="3969" y="9327"/>
                </a:cubicBezTo>
              </a:path>
              <a:path w="16868" h="6078">
                <a:moveTo>
                  <a:pt x="3671" y="9401"/>
                </a:moveTo>
                <a:cubicBezTo>
                  <a:pt x="3663" y="9409"/>
                  <a:pt x="3654" y="9418"/>
                  <a:pt x="3646" y="9426"/>
                </a:cubicBezTo>
                <a:cubicBezTo>
                  <a:pt x="3702" y="9454"/>
                  <a:pt x="3753" y="9451"/>
                  <a:pt x="3820" y="9451"/>
                </a:cubicBezTo>
                <a:cubicBezTo>
                  <a:pt x="3865" y="9451"/>
                  <a:pt x="3878" y="9447"/>
                  <a:pt x="3894" y="9475"/>
                </a:cubicBezTo>
                <a:cubicBezTo>
                  <a:pt x="3900" y="9526"/>
                  <a:pt x="3899" y="9626"/>
                  <a:pt x="3820" y="9649"/>
                </a:cubicBezTo>
                <a:cubicBezTo>
                  <a:pt x="3758" y="9667"/>
                  <a:pt x="3700" y="9666"/>
                  <a:pt x="3646" y="9699"/>
                </a:cubicBezTo>
                <a:cubicBezTo>
                  <a:pt x="3714" y="9699"/>
                  <a:pt x="3792" y="9681"/>
                  <a:pt x="3845" y="9723"/>
                </a:cubicBezTo>
                <a:cubicBezTo>
                  <a:pt x="3883" y="9753"/>
                  <a:pt x="3997" y="9771"/>
                  <a:pt x="4018" y="9823"/>
                </a:cubicBezTo>
                <a:cubicBezTo>
                  <a:pt x="4052" y="9908"/>
                  <a:pt x="3981" y="9943"/>
                  <a:pt x="3919" y="9947"/>
                </a:cubicBezTo>
                <a:cubicBezTo>
                  <a:pt x="3820" y="9953"/>
                  <a:pt x="3720" y="9947"/>
                  <a:pt x="3621" y="9947"/>
                </a:cubicBezTo>
              </a:path>
              <a:path w="16868" h="6078">
                <a:moveTo>
                  <a:pt x="3249" y="9971"/>
                </a:moveTo>
                <a:cubicBezTo>
                  <a:pt x="3407" y="10012"/>
                  <a:pt x="3489" y="10021"/>
                  <a:pt x="3646" y="10021"/>
                </a:cubicBezTo>
                <a:cubicBezTo>
                  <a:pt x="3764" y="10021"/>
                  <a:pt x="3874" y="10046"/>
                  <a:pt x="3994" y="10046"/>
                </a:cubicBezTo>
                <a:cubicBezTo>
                  <a:pt x="4085" y="10046"/>
                  <a:pt x="4158" y="10049"/>
                  <a:pt x="4242" y="10021"/>
                </a:cubicBezTo>
              </a:path>
              <a:path w="16868" h="6078">
                <a:moveTo>
                  <a:pt x="3621" y="10170"/>
                </a:moveTo>
                <a:cubicBezTo>
                  <a:pt x="3613" y="10178"/>
                  <a:pt x="3605" y="10187"/>
                  <a:pt x="3597" y="10195"/>
                </a:cubicBezTo>
                <a:cubicBezTo>
                  <a:pt x="3673" y="10242"/>
                  <a:pt x="3709" y="10205"/>
                  <a:pt x="3795" y="10195"/>
                </a:cubicBezTo>
                <a:cubicBezTo>
                  <a:pt x="3882" y="10185"/>
                  <a:pt x="3957" y="10218"/>
                  <a:pt x="4018" y="10269"/>
                </a:cubicBezTo>
                <a:cubicBezTo>
                  <a:pt x="4070" y="10313"/>
                  <a:pt x="4041" y="10373"/>
                  <a:pt x="4018" y="10418"/>
                </a:cubicBezTo>
                <a:cubicBezTo>
                  <a:pt x="3982" y="10486"/>
                  <a:pt x="3909" y="10498"/>
                  <a:pt x="3845" y="10517"/>
                </a:cubicBezTo>
                <a:cubicBezTo>
                  <a:pt x="3811" y="10527"/>
                  <a:pt x="3756" y="10517"/>
                  <a:pt x="3721" y="10517"/>
                </a:cubicBezTo>
                <a:cubicBezTo>
                  <a:pt x="3806" y="10517"/>
                  <a:pt x="3807" y="10526"/>
                  <a:pt x="3870" y="10567"/>
                </a:cubicBezTo>
                <a:cubicBezTo>
                  <a:pt x="3921" y="10600"/>
                  <a:pt x="4008" y="10645"/>
                  <a:pt x="4018" y="10716"/>
                </a:cubicBezTo>
                <a:cubicBezTo>
                  <a:pt x="4037" y="10848"/>
                  <a:pt x="4026" y="10938"/>
                  <a:pt x="3919" y="11013"/>
                </a:cubicBezTo>
                <a:cubicBezTo>
                  <a:pt x="3851" y="11061"/>
                  <a:pt x="3765" y="11044"/>
                  <a:pt x="3696" y="11013"/>
                </a:cubicBezTo>
                <a:cubicBezTo>
                  <a:pt x="3646" y="10991"/>
                  <a:pt x="3591" y="10947"/>
                  <a:pt x="3547" y="10914"/>
                </a:cubicBezTo>
                <a:cubicBezTo>
                  <a:pt x="3539" y="10906"/>
                  <a:pt x="3530" y="10897"/>
                  <a:pt x="3522" y="10889"/>
                </a:cubicBezTo>
              </a:path>
              <a:path w="16868" h="6078">
                <a:moveTo>
                  <a:pt x="1067" y="9004"/>
                </a:moveTo>
                <a:cubicBezTo>
                  <a:pt x="1019" y="9064"/>
                  <a:pt x="1015" y="9111"/>
                  <a:pt x="992" y="9178"/>
                </a:cubicBezTo>
                <a:cubicBezTo>
                  <a:pt x="950" y="9303"/>
                  <a:pt x="890" y="9426"/>
                  <a:pt x="843" y="9550"/>
                </a:cubicBezTo>
                <a:cubicBezTo>
                  <a:pt x="802" y="9657"/>
                  <a:pt x="780" y="9784"/>
                  <a:pt x="769" y="9897"/>
                </a:cubicBezTo>
                <a:cubicBezTo>
                  <a:pt x="754" y="10043"/>
                  <a:pt x="745" y="10254"/>
                  <a:pt x="794" y="10393"/>
                </a:cubicBezTo>
                <a:cubicBezTo>
                  <a:pt x="840" y="10486"/>
                  <a:pt x="853" y="10513"/>
                  <a:pt x="893" y="10567"/>
                </a:cubicBezTo>
              </a:path>
              <a:path w="16868" h="6078">
                <a:moveTo>
                  <a:pt x="4217" y="9351"/>
                </a:moveTo>
                <a:cubicBezTo>
                  <a:pt x="4300" y="9414"/>
                  <a:pt x="4343" y="9456"/>
                  <a:pt x="4390" y="9550"/>
                </a:cubicBezTo>
                <a:cubicBezTo>
                  <a:pt x="4442" y="9655"/>
                  <a:pt x="4484" y="9742"/>
                  <a:pt x="4539" y="9847"/>
                </a:cubicBezTo>
                <a:cubicBezTo>
                  <a:pt x="4606" y="9974"/>
                  <a:pt x="4629" y="10113"/>
                  <a:pt x="4688" y="10244"/>
                </a:cubicBezTo>
                <a:cubicBezTo>
                  <a:pt x="4749" y="10380"/>
                  <a:pt x="4769" y="10519"/>
                  <a:pt x="4738" y="10666"/>
                </a:cubicBezTo>
                <a:cubicBezTo>
                  <a:pt x="4710" y="10797"/>
                  <a:pt x="4645" y="10853"/>
                  <a:pt x="4589" y="10964"/>
                </a:cubicBezTo>
                <a:cubicBezTo>
                  <a:pt x="4546" y="11050"/>
                  <a:pt x="4465" y="11124"/>
                  <a:pt x="4390" y="11187"/>
                </a:cubicBezTo>
                <a:cubicBezTo>
                  <a:pt x="4335" y="11215"/>
                  <a:pt x="4312" y="11223"/>
                  <a:pt x="4266" y="11212"/>
                </a:cubicBezTo>
              </a:path>
              <a:path w="16868" h="6078">
                <a:moveTo>
                  <a:pt x="1017" y="6896"/>
                </a:moveTo>
                <a:cubicBezTo>
                  <a:pt x="961" y="6959"/>
                  <a:pt x="931" y="7018"/>
                  <a:pt x="893" y="7094"/>
                </a:cubicBezTo>
                <a:cubicBezTo>
                  <a:pt x="833" y="7212"/>
                  <a:pt x="813" y="7342"/>
                  <a:pt x="769" y="7466"/>
                </a:cubicBezTo>
                <a:cubicBezTo>
                  <a:pt x="731" y="7572"/>
                  <a:pt x="703" y="7680"/>
                  <a:pt x="670" y="7789"/>
                </a:cubicBezTo>
                <a:cubicBezTo>
                  <a:pt x="639" y="7892"/>
                  <a:pt x="625" y="8028"/>
                  <a:pt x="645" y="8136"/>
                </a:cubicBezTo>
                <a:cubicBezTo>
                  <a:pt x="664" y="8240"/>
                  <a:pt x="720" y="8367"/>
                  <a:pt x="769" y="8458"/>
                </a:cubicBezTo>
                <a:cubicBezTo>
                  <a:pt x="822" y="8537"/>
                  <a:pt x="842" y="8565"/>
                  <a:pt x="893" y="8607"/>
                </a:cubicBezTo>
              </a:path>
              <a:path w="16868" h="6078">
                <a:moveTo>
                  <a:pt x="3870" y="6400"/>
                </a:moveTo>
                <a:cubicBezTo>
                  <a:pt x="3870" y="6383"/>
                  <a:pt x="3870" y="6367"/>
                  <a:pt x="3870" y="6350"/>
                </a:cubicBezTo>
                <a:cubicBezTo>
                  <a:pt x="3930" y="6419"/>
                  <a:pt x="3978" y="6487"/>
                  <a:pt x="4018" y="6573"/>
                </a:cubicBezTo>
                <a:cubicBezTo>
                  <a:pt x="4068" y="6680"/>
                  <a:pt x="4120" y="6788"/>
                  <a:pt x="4167" y="6896"/>
                </a:cubicBezTo>
                <a:cubicBezTo>
                  <a:pt x="4223" y="7025"/>
                  <a:pt x="4257" y="7158"/>
                  <a:pt x="4291" y="7293"/>
                </a:cubicBezTo>
                <a:cubicBezTo>
                  <a:pt x="4329" y="7444"/>
                  <a:pt x="4382" y="7637"/>
                  <a:pt x="4316" y="7789"/>
                </a:cubicBezTo>
                <a:cubicBezTo>
                  <a:pt x="4252" y="7934"/>
                  <a:pt x="4214" y="8077"/>
                  <a:pt x="4118" y="8210"/>
                </a:cubicBezTo>
                <a:cubicBezTo>
                  <a:pt x="4065" y="8284"/>
                  <a:pt x="4046" y="8344"/>
                  <a:pt x="4018" y="8434"/>
                </a:cubicBezTo>
              </a:path>
              <a:path w="16868" h="6078">
                <a:moveTo>
                  <a:pt x="5556" y="9451"/>
                </a:moveTo>
                <a:cubicBezTo>
                  <a:pt x="5536" y="9411"/>
                  <a:pt x="5534" y="9399"/>
                  <a:pt x="5482" y="9451"/>
                </a:cubicBezTo>
                <a:cubicBezTo>
                  <a:pt x="5410" y="9523"/>
                  <a:pt x="5373" y="9622"/>
                  <a:pt x="5308" y="9699"/>
                </a:cubicBezTo>
                <a:cubicBezTo>
                  <a:pt x="5220" y="9803"/>
                  <a:pt x="5155" y="9889"/>
                  <a:pt x="5110" y="10021"/>
                </a:cubicBezTo>
                <a:cubicBezTo>
                  <a:pt x="5037" y="10233"/>
                  <a:pt x="5015" y="10444"/>
                  <a:pt x="5011" y="10666"/>
                </a:cubicBezTo>
                <a:cubicBezTo>
                  <a:pt x="5008" y="10812"/>
                  <a:pt x="5050" y="10947"/>
                  <a:pt x="5085" y="11088"/>
                </a:cubicBezTo>
                <a:cubicBezTo>
                  <a:pt x="5115" y="11207"/>
                  <a:pt x="5145" y="11265"/>
                  <a:pt x="5209" y="11361"/>
                </a:cubicBezTo>
                <a:cubicBezTo>
                  <a:pt x="5233" y="11408"/>
                  <a:pt x="5239" y="11425"/>
                  <a:pt x="5283" y="11410"/>
                </a:cubicBezTo>
              </a:path>
              <a:path w="16868" h="6078">
                <a:moveTo>
                  <a:pt x="5705" y="9971"/>
                </a:moveTo>
                <a:cubicBezTo>
                  <a:pt x="5688" y="10133"/>
                  <a:pt x="5680" y="10281"/>
                  <a:pt x="5680" y="10443"/>
                </a:cubicBezTo>
                <a:cubicBezTo>
                  <a:pt x="5680" y="10585"/>
                  <a:pt x="5701" y="10723"/>
                  <a:pt x="5705" y="10864"/>
                </a:cubicBezTo>
                <a:cubicBezTo>
                  <a:pt x="5708" y="10980"/>
                  <a:pt x="5712" y="11079"/>
                  <a:pt x="5730" y="11187"/>
                </a:cubicBezTo>
                <a:cubicBezTo>
                  <a:pt x="5730" y="11229"/>
                  <a:pt x="5722" y="11245"/>
                  <a:pt x="5755" y="11237"/>
                </a:cubicBezTo>
              </a:path>
              <a:path w="16868" h="6078">
                <a:moveTo>
                  <a:pt x="5953" y="10517"/>
                </a:moveTo>
                <a:cubicBezTo>
                  <a:pt x="6115" y="10522"/>
                  <a:pt x="6264" y="10542"/>
                  <a:pt x="6424" y="10542"/>
                </a:cubicBezTo>
                <a:cubicBezTo>
                  <a:pt x="6449" y="10542"/>
                  <a:pt x="6474" y="10542"/>
                  <a:pt x="6499" y="10542"/>
                </a:cubicBezTo>
              </a:path>
              <a:path w="16868" h="6078">
                <a:moveTo>
                  <a:pt x="6995" y="10120"/>
                </a:moveTo>
                <a:cubicBezTo>
                  <a:pt x="7019" y="10215"/>
                  <a:pt x="7020" y="10294"/>
                  <a:pt x="7020" y="10393"/>
                </a:cubicBezTo>
                <a:cubicBezTo>
                  <a:pt x="7020" y="10435"/>
                  <a:pt x="7020" y="10690"/>
                  <a:pt x="7020" y="10567"/>
                </a:cubicBezTo>
                <a:cubicBezTo>
                  <a:pt x="7020" y="10437"/>
                  <a:pt x="7027" y="10321"/>
                  <a:pt x="7045" y="10195"/>
                </a:cubicBezTo>
                <a:cubicBezTo>
                  <a:pt x="7055" y="10123"/>
                  <a:pt x="7028" y="9978"/>
                  <a:pt x="7094" y="9922"/>
                </a:cubicBezTo>
                <a:cubicBezTo>
                  <a:pt x="7121" y="9899"/>
                  <a:pt x="7250" y="9868"/>
                  <a:pt x="7293" y="9847"/>
                </a:cubicBezTo>
                <a:cubicBezTo>
                  <a:pt x="7371" y="9808"/>
                  <a:pt x="7431" y="9798"/>
                  <a:pt x="7516" y="9798"/>
                </a:cubicBezTo>
              </a:path>
              <a:path w="16868" h="6078">
                <a:moveTo>
                  <a:pt x="7317" y="10046"/>
                </a:moveTo>
                <a:cubicBezTo>
                  <a:pt x="7309" y="10054"/>
                  <a:pt x="7301" y="10063"/>
                  <a:pt x="7293" y="10071"/>
                </a:cubicBezTo>
                <a:cubicBezTo>
                  <a:pt x="7364" y="10061"/>
                  <a:pt x="7372" y="10012"/>
                  <a:pt x="7441" y="9996"/>
                </a:cubicBezTo>
                <a:cubicBezTo>
                  <a:pt x="7541" y="9972"/>
                  <a:pt x="7515" y="10075"/>
                  <a:pt x="7491" y="10120"/>
                </a:cubicBezTo>
                <a:cubicBezTo>
                  <a:pt x="7452" y="10193"/>
                  <a:pt x="7431" y="10263"/>
                  <a:pt x="7342" y="10294"/>
                </a:cubicBezTo>
                <a:cubicBezTo>
                  <a:pt x="7298" y="10294"/>
                  <a:pt x="7284" y="10291"/>
                  <a:pt x="7268" y="10319"/>
                </a:cubicBezTo>
                <a:cubicBezTo>
                  <a:pt x="7342" y="10308"/>
                  <a:pt x="7388" y="10274"/>
                  <a:pt x="7466" y="10319"/>
                </a:cubicBezTo>
                <a:cubicBezTo>
                  <a:pt x="7517" y="10348"/>
                  <a:pt x="7556" y="10463"/>
                  <a:pt x="7541" y="10517"/>
                </a:cubicBezTo>
                <a:cubicBezTo>
                  <a:pt x="7530" y="10554"/>
                  <a:pt x="7427" y="10633"/>
                  <a:pt x="7392" y="10641"/>
                </a:cubicBezTo>
                <a:cubicBezTo>
                  <a:pt x="7346" y="10652"/>
                  <a:pt x="7310" y="10624"/>
                  <a:pt x="7268" y="10616"/>
                </a:cubicBezTo>
              </a:path>
              <a:path w="16868" h="6078">
                <a:moveTo>
                  <a:pt x="7020" y="10666"/>
                </a:moveTo>
                <a:cubicBezTo>
                  <a:pt x="7166" y="10666"/>
                  <a:pt x="7295" y="10679"/>
                  <a:pt x="7441" y="10691"/>
                </a:cubicBezTo>
                <a:cubicBezTo>
                  <a:pt x="7515" y="10697"/>
                  <a:pt x="7572" y="10680"/>
                  <a:pt x="7640" y="10666"/>
                </a:cubicBezTo>
              </a:path>
              <a:path w="16868" h="6078">
                <a:moveTo>
                  <a:pt x="7243" y="10914"/>
                </a:moveTo>
                <a:cubicBezTo>
                  <a:pt x="7317" y="10914"/>
                  <a:pt x="7371" y="10892"/>
                  <a:pt x="7441" y="10889"/>
                </a:cubicBezTo>
                <a:cubicBezTo>
                  <a:pt x="7527" y="10885"/>
                  <a:pt x="7591" y="10921"/>
                  <a:pt x="7541" y="11013"/>
                </a:cubicBezTo>
                <a:cubicBezTo>
                  <a:pt x="7511" y="11069"/>
                  <a:pt x="7438" y="11072"/>
                  <a:pt x="7392" y="11088"/>
                </a:cubicBezTo>
                <a:cubicBezTo>
                  <a:pt x="7344" y="11111"/>
                  <a:pt x="7329" y="11119"/>
                  <a:pt x="7293" y="11112"/>
                </a:cubicBezTo>
                <a:cubicBezTo>
                  <a:pt x="7331" y="11090"/>
                  <a:pt x="7427" y="11079"/>
                  <a:pt x="7466" y="11112"/>
                </a:cubicBezTo>
                <a:cubicBezTo>
                  <a:pt x="7512" y="11151"/>
                  <a:pt x="7577" y="11255"/>
                  <a:pt x="7590" y="11311"/>
                </a:cubicBezTo>
                <a:cubicBezTo>
                  <a:pt x="7604" y="11372"/>
                  <a:pt x="7591" y="11470"/>
                  <a:pt x="7541" y="11509"/>
                </a:cubicBezTo>
                <a:cubicBezTo>
                  <a:pt x="7478" y="11559"/>
                  <a:pt x="7389" y="11561"/>
                  <a:pt x="7317" y="11534"/>
                </a:cubicBezTo>
                <a:cubicBezTo>
                  <a:pt x="7309" y="11526"/>
                  <a:pt x="7301" y="11517"/>
                  <a:pt x="7293" y="11509"/>
                </a:cubicBezTo>
              </a:path>
              <a:path w="16868" h="6078">
                <a:moveTo>
                  <a:pt x="7714" y="9649"/>
                </a:moveTo>
                <a:cubicBezTo>
                  <a:pt x="7797" y="9670"/>
                  <a:pt x="7786" y="9676"/>
                  <a:pt x="7838" y="9748"/>
                </a:cubicBezTo>
                <a:cubicBezTo>
                  <a:pt x="7886" y="9814"/>
                  <a:pt x="7957" y="9899"/>
                  <a:pt x="7987" y="9971"/>
                </a:cubicBezTo>
                <a:cubicBezTo>
                  <a:pt x="8067" y="10166"/>
                  <a:pt x="8164" y="10405"/>
                  <a:pt x="8186" y="10616"/>
                </a:cubicBezTo>
                <a:cubicBezTo>
                  <a:pt x="8206" y="10809"/>
                  <a:pt x="8193" y="11028"/>
                  <a:pt x="8136" y="11212"/>
                </a:cubicBezTo>
                <a:cubicBezTo>
                  <a:pt x="8101" y="11325"/>
                  <a:pt x="8016" y="11468"/>
                  <a:pt x="7938" y="11559"/>
                </a:cubicBezTo>
                <a:cubicBezTo>
                  <a:pt x="7848" y="11664"/>
                  <a:pt x="7786" y="11741"/>
                  <a:pt x="7665" y="11807"/>
                </a:cubicBezTo>
                <a:cubicBezTo>
                  <a:pt x="7583" y="11851"/>
                  <a:pt x="7565" y="11857"/>
                  <a:pt x="7466" y="11857"/>
                </a:cubicBezTo>
              </a:path>
              <a:path w="16868" h="6078">
                <a:moveTo>
                  <a:pt x="5135" y="6623"/>
                </a:moveTo>
                <a:cubicBezTo>
                  <a:pt x="5124" y="6747"/>
                  <a:pt x="5072" y="6848"/>
                  <a:pt x="5035" y="6970"/>
                </a:cubicBezTo>
                <a:cubicBezTo>
                  <a:pt x="5002" y="7077"/>
                  <a:pt x="5010" y="7187"/>
                  <a:pt x="4986" y="7293"/>
                </a:cubicBezTo>
                <a:cubicBezTo>
                  <a:pt x="4951" y="7447"/>
                  <a:pt x="4962" y="7608"/>
                  <a:pt x="4936" y="7764"/>
                </a:cubicBezTo>
                <a:cubicBezTo>
                  <a:pt x="4915" y="7891"/>
                  <a:pt x="4911" y="8005"/>
                  <a:pt x="4911" y="8136"/>
                </a:cubicBezTo>
                <a:cubicBezTo>
                  <a:pt x="4911" y="8270"/>
                  <a:pt x="4947" y="8405"/>
                  <a:pt x="4986" y="8533"/>
                </a:cubicBezTo>
                <a:cubicBezTo>
                  <a:pt x="5008" y="8604"/>
                  <a:pt x="5051" y="8641"/>
                  <a:pt x="5085" y="8682"/>
                </a:cubicBezTo>
              </a:path>
              <a:path w="16868" h="6078">
                <a:moveTo>
                  <a:pt x="5383" y="7367"/>
                </a:moveTo>
                <a:cubicBezTo>
                  <a:pt x="5383" y="7676"/>
                  <a:pt x="5270" y="8231"/>
                  <a:pt x="5407" y="8508"/>
                </a:cubicBezTo>
                <a:cubicBezTo>
                  <a:pt x="5432" y="8533"/>
                  <a:pt x="5440" y="8541"/>
                  <a:pt x="5457" y="8508"/>
                </a:cubicBezTo>
              </a:path>
              <a:path w="16868" h="6078">
                <a:moveTo>
                  <a:pt x="5606" y="7863"/>
                </a:moveTo>
                <a:cubicBezTo>
                  <a:pt x="5773" y="7863"/>
                  <a:pt x="5941" y="7879"/>
                  <a:pt x="6102" y="7838"/>
                </a:cubicBezTo>
              </a:path>
              <a:path w="16868" h="6078">
                <a:moveTo>
                  <a:pt x="6325" y="7317"/>
                </a:moveTo>
                <a:cubicBezTo>
                  <a:pt x="6341" y="7393"/>
                  <a:pt x="6330" y="7492"/>
                  <a:pt x="6350" y="7565"/>
                </a:cubicBezTo>
                <a:cubicBezTo>
                  <a:pt x="6367" y="7627"/>
                  <a:pt x="6393" y="7673"/>
                  <a:pt x="6400" y="7739"/>
                </a:cubicBezTo>
                <a:cubicBezTo>
                  <a:pt x="6376" y="7674"/>
                  <a:pt x="6354" y="7611"/>
                  <a:pt x="6350" y="7541"/>
                </a:cubicBezTo>
                <a:cubicBezTo>
                  <a:pt x="6345" y="7454"/>
                  <a:pt x="6339" y="7371"/>
                  <a:pt x="6375" y="7293"/>
                </a:cubicBezTo>
                <a:cubicBezTo>
                  <a:pt x="6415" y="7207"/>
                  <a:pt x="6469" y="7141"/>
                  <a:pt x="6548" y="7094"/>
                </a:cubicBezTo>
                <a:cubicBezTo>
                  <a:pt x="6598" y="7065"/>
                  <a:pt x="6695" y="7009"/>
                  <a:pt x="6747" y="6995"/>
                </a:cubicBezTo>
                <a:cubicBezTo>
                  <a:pt x="6782" y="6985"/>
                  <a:pt x="6834" y="6995"/>
                  <a:pt x="6871" y="6995"/>
                </a:cubicBezTo>
              </a:path>
              <a:path w="16868" h="6078">
                <a:moveTo>
                  <a:pt x="6623" y="7342"/>
                </a:moveTo>
                <a:cubicBezTo>
                  <a:pt x="6703" y="7332"/>
                  <a:pt x="6740" y="7297"/>
                  <a:pt x="6821" y="7293"/>
                </a:cubicBezTo>
                <a:cubicBezTo>
                  <a:pt x="6873" y="7293"/>
                  <a:pt x="6891" y="7294"/>
                  <a:pt x="6921" y="7317"/>
                </a:cubicBezTo>
                <a:cubicBezTo>
                  <a:pt x="6914" y="7388"/>
                  <a:pt x="6907" y="7490"/>
                  <a:pt x="6846" y="7541"/>
                </a:cubicBezTo>
                <a:cubicBezTo>
                  <a:pt x="6802" y="7578"/>
                  <a:pt x="6743" y="7603"/>
                  <a:pt x="6697" y="7640"/>
                </a:cubicBezTo>
                <a:cubicBezTo>
                  <a:pt x="6766" y="7625"/>
                  <a:pt x="6836" y="7618"/>
                  <a:pt x="6896" y="7665"/>
                </a:cubicBezTo>
                <a:cubicBezTo>
                  <a:pt x="6960" y="7715"/>
                  <a:pt x="6951" y="7782"/>
                  <a:pt x="6921" y="7838"/>
                </a:cubicBezTo>
                <a:cubicBezTo>
                  <a:pt x="6884" y="7908"/>
                  <a:pt x="6811" y="7909"/>
                  <a:pt x="6747" y="7888"/>
                </a:cubicBezTo>
              </a:path>
              <a:path w="16868" h="6078">
                <a:moveTo>
                  <a:pt x="6325" y="7938"/>
                </a:moveTo>
                <a:cubicBezTo>
                  <a:pt x="6401" y="7966"/>
                  <a:pt x="6465" y="7962"/>
                  <a:pt x="6548" y="7962"/>
                </a:cubicBezTo>
                <a:cubicBezTo>
                  <a:pt x="6669" y="7962"/>
                  <a:pt x="6773" y="7938"/>
                  <a:pt x="6896" y="7938"/>
                </a:cubicBezTo>
                <a:cubicBezTo>
                  <a:pt x="6978" y="7938"/>
                  <a:pt x="7011" y="7938"/>
                  <a:pt x="7069" y="7938"/>
                </a:cubicBezTo>
              </a:path>
              <a:path w="16868" h="6078">
                <a:moveTo>
                  <a:pt x="6672" y="8210"/>
                </a:moveTo>
                <a:cubicBezTo>
                  <a:pt x="6721" y="8235"/>
                  <a:pt x="6793" y="8189"/>
                  <a:pt x="6871" y="8186"/>
                </a:cubicBezTo>
                <a:cubicBezTo>
                  <a:pt x="6974" y="8182"/>
                  <a:pt x="6995" y="8174"/>
                  <a:pt x="7045" y="8260"/>
                </a:cubicBezTo>
                <a:cubicBezTo>
                  <a:pt x="6990" y="8315"/>
                  <a:pt x="6931" y="8362"/>
                  <a:pt x="6871" y="8409"/>
                </a:cubicBezTo>
                <a:cubicBezTo>
                  <a:pt x="6839" y="8434"/>
                  <a:pt x="6741" y="8491"/>
                  <a:pt x="6772" y="8434"/>
                </a:cubicBezTo>
                <a:cubicBezTo>
                  <a:pt x="6864" y="8434"/>
                  <a:pt x="6949" y="8437"/>
                  <a:pt x="7020" y="8508"/>
                </a:cubicBezTo>
                <a:cubicBezTo>
                  <a:pt x="7077" y="8565"/>
                  <a:pt x="7051" y="8669"/>
                  <a:pt x="7045" y="8731"/>
                </a:cubicBezTo>
                <a:cubicBezTo>
                  <a:pt x="7035" y="8835"/>
                  <a:pt x="6997" y="8795"/>
                  <a:pt x="6921" y="8830"/>
                </a:cubicBezTo>
                <a:cubicBezTo>
                  <a:pt x="6869" y="8854"/>
                  <a:pt x="6745" y="8876"/>
                  <a:pt x="6697" y="8806"/>
                </a:cubicBezTo>
                <a:cubicBezTo>
                  <a:pt x="6689" y="8781"/>
                  <a:pt x="6680" y="8756"/>
                  <a:pt x="6672" y="8731"/>
                </a:cubicBezTo>
              </a:path>
              <a:path w="16868" h="6078">
                <a:moveTo>
                  <a:pt x="7243" y="6747"/>
                </a:moveTo>
                <a:cubicBezTo>
                  <a:pt x="7350" y="6977"/>
                  <a:pt x="7439" y="7151"/>
                  <a:pt x="7491" y="7392"/>
                </a:cubicBezTo>
                <a:cubicBezTo>
                  <a:pt x="7524" y="7545"/>
                  <a:pt x="7540" y="7731"/>
                  <a:pt x="7516" y="7888"/>
                </a:cubicBezTo>
                <a:cubicBezTo>
                  <a:pt x="7503" y="7970"/>
                  <a:pt x="7474" y="8169"/>
                  <a:pt x="7417" y="8235"/>
                </a:cubicBezTo>
                <a:cubicBezTo>
                  <a:pt x="7346" y="8317"/>
                  <a:pt x="7284" y="8388"/>
                  <a:pt x="7218" y="8483"/>
                </a:cubicBezTo>
              </a:path>
              <a:path w="16868" h="6078">
                <a:moveTo>
                  <a:pt x="4688" y="9351"/>
                </a:moveTo>
                <a:cubicBezTo>
                  <a:pt x="4752" y="9342"/>
                  <a:pt x="4793" y="9348"/>
                  <a:pt x="4862" y="9351"/>
                </a:cubicBezTo>
                <a:cubicBezTo>
                  <a:pt x="5028" y="9359"/>
                  <a:pt x="5195" y="9365"/>
                  <a:pt x="5358" y="9376"/>
                </a:cubicBezTo>
                <a:cubicBezTo>
                  <a:pt x="5532" y="9387"/>
                  <a:pt x="5706" y="9389"/>
                  <a:pt x="5879" y="9401"/>
                </a:cubicBezTo>
                <a:cubicBezTo>
                  <a:pt x="6093" y="9416"/>
                  <a:pt x="6310" y="9432"/>
                  <a:pt x="6524" y="9451"/>
                </a:cubicBezTo>
                <a:cubicBezTo>
                  <a:pt x="6764" y="9472"/>
                  <a:pt x="7006" y="9493"/>
                  <a:pt x="7243" y="9525"/>
                </a:cubicBezTo>
                <a:cubicBezTo>
                  <a:pt x="7392" y="9545"/>
                  <a:pt x="7542" y="9531"/>
                  <a:pt x="7689" y="9550"/>
                </a:cubicBezTo>
                <a:cubicBezTo>
                  <a:pt x="7801" y="9565"/>
                  <a:pt x="7929" y="9591"/>
                  <a:pt x="8037" y="9599"/>
                </a:cubicBezTo>
                <a:cubicBezTo>
                  <a:pt x="8070" y="9599"/>
                  <a:pt x="8103" y="9599"/>
                  <a:pt x="8136" y="9599"/>
                </a:cubicBezTo>
              </a:path>
              <a:path w="16868" h="6078">
                <a:moveTo>
                  <a:pt x="8607" y="9153"/>
                </a:moveTo>
                <a:cubicBezTo>
                  <a:pt x="8741" y="9141"/>
                  <a:pt x="8846" y="9153"/>
                  <a:pt x="8979" y="9153"/>
                </a:cubicBezTo>
              </a:path>
              <a:path w="16868" h="6078">
                <a:moveTo>
                  <a:pt x="8756" y="9525"/>
                </a:moveTo>
                <a:cubicBezTo>
                  <a:pt x="8888" y="9544"/>
                  <a:pt x="8904" y="9552"/>
                  <a:pt x="8979" y="9550"/>
                </a:cubicBezTo>
              </a:path>
              <a:path w="16868" h="6078">
                <a:moveTo>
                  <a:pt x="9178" y="8210"/>
                </a:moveTo>
                <a:cubicBezTo>
                  <a:pt x="9276" y="8210"/>
                  <a:pt x="9356" y="8221"/>
                  <a:pt x="9451" y="8235"/>
                </a:cubicBezTo>
                <a:cubicBezTo>
                  <a:pt x="9538" y="8248"/>
                  <a:pt x="9634" y="8235"/>
                  <a:pt x="9723" y="8235"/>
                </a:cubicBezTo>
              </a:path>
              <a:path w="16868" h="6078">
                <a:moveTo>
                  <a:pt x="10195" y="7714"/>
                </a:moveTo>
                <a:cubicBezTo>
                  <a:pt x="10256" y="7792"/>
                  <a:pt x="10222" y="7823"/>
                  <a:pt x="10244" y="7913"/>
                </a:cubicBezTo>
                <a:cubicBezTo>
                  <a:pt x="10265" y="7998"/>
                  <a:pt x="10269" y="8069"/>
                  <a:pt x="10269" y="8161"/>
                </a:cubicBezTo>
                <a:cubicBezTo>
                  <a:pt x="10269" y="8307"/>
                  <a:pt x="10278" y="8442"/>
                  <a:pt x="10294" y="8582"/>
                </a:cubicBezTo>
                <a:cubicBezTo>
                  <a:pt x="10309" y="8715"/>
                  <a:pt x="10301" y="8848"/>
                  <a:pt x="10319" y="8979"/>
                </a:cubicBezTo>
                <a:cubicBezTo>
                  <a:pt x="10319" y="8996"/>
                  <a:pt x="10319" y="9012"/>
                  <a:pt x="10319" y="9029"/>
                </a:cubicBezTo>
              </a:path>
              <a:path w="16868" h="6078">
                <a:moveTo>
                  <a:pt x="11038" y="8012"/>
                </a:moveTo>
                <a:cubicBezTo>
                  <a:pt x="11038" y="8169"/>
                  <a:pt x="11038" y="8326"/>
                  <a:pt x="11038" y="8483"/>
                </a:cubicBezTo>
              </a:path>
              <a:path w="16868" h="6078">
                <a:moveTo>
                  <a:pt x="10716" y="8260"/>
                </a:moveTo>
                <a:cubicBezTo>
                  <a:pt x="10780" y="8221"/>
                  <a:pt x="10859" y="8235"/>
                  <a:pt x="10939" y="8235"/>
                </a:cubicBezTo>
                <a:cubicBezTo>
                  <a:pt x="11005" y="8235"/>
                  <a:pt x="11022" y="8235"/>
                  <a:pt x="11063" y="8235"/>
                </a:cubicBezTo>
              </a:path>
              <a:path w="16868" h="6078">
                <a:moveTo>
                  <a:pt x="11584" y="7838"/>
                </a:moveTo>
                <a:cubicBezTo>
                  <a:pt x="11584" y="7960"/>
                  <a:pt x="11590" y="8072"/>
                  <a:pt x="11609" y="8186"/>
                </a:cubicBezTo>
                <a:cubicBezTo>
                  <a:pt x="11609" y="8235"/>
                  <a:pt x="11609" y="8252"/>
                  <a:pt x="11609" y="8285"/>
                </a:cubicBezTo>
                <a:cubicBezTo>
                  <a:pt x="11581" y="8202"/>
                  <a:pt x="11583" y="8119"/>
                  <a:pt x="11559" y="8037"/>
                </a:cubicBezTo>
                <a:cubicBezTo>
                  <a:pt x="11538" y="7964"/>
                  <a:pt x="11521" y="7894"/>
                  <a:pt x="11534" y="7813"/>
                </a:cubicBezTo>
                <a:cubicBezTo>
                  <a:pt x="11544" y="7754"/>
                  <a:pt x="11585" y="7644"/>
                  <a:pt x="11609" y="7590"/>
                </a:cubicBezTo>
                <a:cubicBezTo>
                  <a:pt x="11628" y="7547"/>
                  <a:pt x="11715" y="7500"/>
                  <a:pt x="11757" y="7491"/>
                </a:cubicBezTo>
                <a:cubicBezTo>
                  <a:pt x="11823" y="7476"/>
                  <a:pt x="11883" y="7452"/>
                  <a:pt x="11956" y="7441"/>
                </a:cubicBezTo>
                <a:cubicBezTo>
                  <a:pt x="12017" y="7432"/>
                  <a:pt x="12046" y="7438"/>
                  <a:pt x="12105" y="7417"/>
                </a:cubicBezTo>
              </a:path>
              <a:path w="16868" h="6078">
                <a:moveTo>
                  <a:pt x="11807" y="7665"/>
                </a:moveTo>
                <a:cubicBezTo>
                  <a:pt x="11871" y="7656"/>
                  <a:pt x="11909" y="7640"/>
                  <a:pt x="11981" y="7640"/>
                </a:cubicBezTo>
                <a:cubicBezTo>
                  <a:pt x="12077" y="7640"/>
                  <a:pt x="12062" y="7692"/>
                  <a:pt x="12030" y="7764"/>
                </a:cubicBezTo>
                <a:cubicBezTo>
                  <a:pt x="12010" y="7807"/>
                  <a:pt x="11973" y="7861"/>
                  <a:pt x="11931" y="7888"/>
                </a:cubicBezTo>
                <a:cubicBezTo>
                  <a:pt x="11889" y="7915"/>
                  <a:pt x="11867" y="7928"/>
                  <a:pt x="11832" y="7962"/>
                </a:cubicBezTo>
                <a:cubicBezTo>
                  <a:pt x="11872" y="7982"/>
                  <a:pt x="11916" y="7962"/>
                  <a:pt x="11981" y="7962"/>
                </a:cubicBezTo>
                <a:cubicBezTo>
                  <a:pt x="12053" y="7962"/>
                  <a:pt x="12081" y="7989"/>
                  <a:pt x="12129" y="8037"/>
                </a:cubicBezTo>
                <a:cubicBezTo>
                  <a:pt x="12182" y="8090"/>
                  <a:pt x="12147" y="8158"/>
                  <a:pt x="12105" y="8210"/>
                </a:cubicBezTo>
                <a:cubicBezTo>
                  <a:pt x="12051" y="8277"/>
                  <a:pt x="12024" y="8234"/>
                  <a:pt x="11956" y="8260"/>
                </a:cubicBezTo>
                <a:cubicBezTo>
                  <a:pt x="11928" y="8288"/>
                  <a:pt x="11914" y="8297"/>
                  <a:pt x="11881" y="8285"/>
                </a:cubicBezTo>
              </a:path>
              <a:path w="16868" h="6078">
                <a:moveTo>
                  <a:pt x="11485" y="8384"/>
                </a:moveTo>
                <a:cubicBezTo>
                  <a:pt x="11534" y="8414"/>
                  <a:pt x="11623" y="8426"/>
                  <a:pt x="11683" y="8434"/>
                </a:cubicBezTo>
                <a:cubicBezTo>
                  <a:pt x="11893" y="8461"/>
                  <a:pt x="12120" y="8434"/>
                  <a:pt x="12328" y="8409"/>
                </a:cubicBezTo>
                <a:cubicBezTo>
                  <a:pt x="12336" y="8409"/>
                  <a:pt x="12345" y="8409"/>
                  <a:pt x="12353" y="8409"/>
                </a:cubicBezTo>
              </a:path>
              <a:path w="16868" h="6078">
                <a:moveTo>
                  <a:pt x="11832" y="8657"/>
                </a:moveTo>
                <a:cubicBezTo>
                  <a:pt x="11881" y="8627"/>
                  <a:pt x="11933" y="8632"/>
                  <a:pt x="11981" y="8607"/>
                </a:cubicBezTo>
                <a:cubicBezTo>
                  <a:pt x="12026" y="8584"/>
                  <a:pt x="12140" y="8564"/>
                  <a:pt x="12179" y="8632"/>
                </a:cubicBezTo>
                <a:cubicBezTo>
                  <a:pt x="12214" y="8694"/>
                  <a:pt x="12165" y="8809"/>
                  <a:pt x="12105" y="8830"/>
                </a:cubicBezTo>
                <a:cubicBezTo>
                  <a:pt x="12063" y="8845"/>
                  <a:pt x="12025" y="8849"/>
                  <a:pt x="11981" y="8855"/>
                </a:cubicBezTo>
                <a:cubicBezTo>
                  <a:pt x="12087" y="8887"/>
                  <a:pt x="12154" y="8873"/>
                  <a:pt x="12229" y="8954"/>
                </a:cubicBezTo>
                <a:cubicBezTo>
                  <a:pt x="12282" y="9011"/>
                  <a:pt x="12314" y="9017"/>
                  <a:pt x="12328" y="9103"/>
                </a:cubicBezTo>
                <a:cubicBezTo>
                  <a:pt x="12340" y="9177"/>
                  <a:pt x="12276" y="9213"/>
                  <a:pt x="12229" y="9252"/>
                </a:cubicBezTo>
                <a:cubicBezTo>
                  <a:pt x="12160" y="9310"/>
                  <a:pt x="12091" y="9302"/>
                  <a:pt x="12005" y="9302"/>
                </a:cubicBezTo>
                <a:cubicBezTo>
                  <a:pt x="11935" y="9302"/>
                  <a:pt x="11862" y="9317"/>
                  <a:pt x="11807" y="9277"/>
                </a:cubicBezTo>
                <a:cubicBezTo>
                  <a:pt x="11777" y="9247"/>
                  <a:pt x="11763" y="9236"/>
                  <a:pt x="11733" y="9227"/>
                </a:cubicBezTo>
              </a:path>
              <a:path w="16868" h="6078">
                <a:moveTo>
                  <a:pt x="12898" y="8086"/>
                </a:moveTo>
                <a:cubicBezTo>
                  <a:pt x="12898" y="8190"/>
                  <a:pt x="12918" y="8283"/>
                  <a:pt x="12923" y="8384"/>
                </a:cubicBezTo>
                <a:cubicBezTo>
                  <a:pt x="12927" y="8458"/>
                  <a:pt x="12923" y="8533"/>
                  <a:pt x="12923" y="8607"/>
                </a:cubicBezTo>
              </a:path>
              <a:path w="16868" h="6078">
                <a:moveTo>
                  <a:pt x="12650" y="8384"/>
                </a:moveTo>
                <a:cubicBezTo>
                  <a:pt x="12751" y="8392"/>
                  <a:pt x="12846" y="8409"/>
                  <a:pt x="12948" y="8409"/>
                </a:cubicBezTo>
                <a:cubicBezTo>
                  <a:pt x="13006" y="8409"/>
                  <a:pt x="13064" y="8409"/>
                  <a:pt x="13122" y="8409"/>
                </a:cubicBezTo>
              </a:path>
              <a:path w="16868" h="6078">
                <a:moveTo>
                  <a:pt x="13419" y="7863"/>
                </a:moveTo>
                <a:cubicBezTo>
                  <a:pt x="13405" y="7987"/>
                  <a:pt x="13395" y="8089"/>
                  <a:pt x="13395" y="8210"/>
                </a:cubicBezTo>
                <a:cubicBezTo>
                  <a:pt x="13395" y="8271"/>
                  <a:pt x="13413" y="8293"/>
                  <a:pt x="13419" y="8359"/>
                </a:cubicBezTo>
                <a:cubicBezTo>
                  <a:pt x="13455" y="8377"/>
                  <a:pt x="13419" y="8286"/>
                  <a:pt x="13419" y="8210"/>
                </a:cubicBezTo>
                <a:cubicBezTo>
                  <a:pt x="13419" y="8112"/>
                  <a:pt x="13430" y="8032"/>
                  <a:pt x="13444" y="7938"/>
                </a:cubicBezTo>
                <a:cubicBezTo>
                  <a:pt x="13451" y="7891"/>
                  <a:pt x="13468" y="7745"/>
                  <a:pt x="13494" y="7714"/>
                </a:cubicBezTo>
                <a:cubicBezTo>
                  <a:pt x="13533" y="7668"/>
                  <a:pt x="13639" y="7622"/>
                  <a:pt x="13692" y="7590"/>
                </a:cubicBezTo>
                <a:cubicBezTo>
                  <a:pt x="13750" y="7555"/>
                  <a:pt x="13799" y="7565"/>
                  <a:pt x="13866" y="7565"/>
                </a:cubicBezTo>
              </a:path>
              <a:path w="16868" h="6078">
                <a:moveTo>
                  <a:pt x="13717" y="7863"/>
                </a:moveTo>
                <a:cubicBezTo>
                  <a:pt x="13761" y="7828"/>
                  <a:pt x="13829" y="7770"/>
                  <a:pt x="13891" y="7789"/>
                </a:cubicBezTo>
                <a:cubicBezTo>
                  <a:pt x="13976" y="7815"/>
                  <a:pt x="13909" y="7892"/>
                  <a:pt x="13891" y="7938"/>
                </a:cubicBezTo>
                <a:cubicBezTo>
                  <a:pt x="13853" y="8035"/>
                  <a:pt x="13843" y="8029"/>
                  <a:pt x="13767" y="8086"/>
                </a:cubicBezTo>
                <a:cubicBezTo>
                  <a:pt x="13737" y="8116"/>
                  <a:pt x="13723" y="8127"/>
                  <a:pt x="13692" y="8136"/>
                </a:cubicBezTo>
                <a:cubicBezTo>
                  <a:pt x="13736" y="8092"/>
                  <a:pt x="13773" y="8067"/>
                  <a:pt x="13841" y="8086"/>
                </a:cubicBezTo>
                <a:cubicBezTo>
                  <a:pt x="13891" y="8100"/>
                  <a:pt x="13975" y="8209"/>
                  <a:pt x="13990" y="8260"/>
                </a:cubicBezTo>
                <a:cubicBezTo>
                  <a:pt x="14004" y="8310"/>
                  <a:pt x="13954" y="8359"/>
                  <a:pt x="13915" y="8384"/>
                </a:cubicBezTo>
                <a:cubicBezTo>
                  <a:pt x="13854" y="8423"/>
                  <a:pt x="13786" y="8409"/>
                  <a:pt x="13717" y="8409"/>
                </a:cubicBezTo>
              </a:path>
              <a:path w="16868" h="6078">
                <a:moveTo>
                  <a:pt x="13345" y="8483"/>
                </a:moveTo>
                <a:cubicBezTo>
                  <a:pt x="13555" y="8483"/>
                  <a:pt x="13759" y="8478"/>
                  <a:pt x="13965" y="8458"/>
                </a:cubicBezTo>
                <a:cubicBezTo>
                  <a:pt x="14024" y="8452"/>
                  <a:pt x="14060" y="8444"/>
                  <a:pt x="14114" y="8434"/>
                </a:cubicBezTo>
              </a:path>
              <a:path w="16868" h="6078">
                <a:moveTo>
                  <a:pt x="13593" y="8682"/>
                </a:moveTo>
                <a:cubicBezTo>
                  <a:pt x="13687" y="8650"/>
                  <a:pt x="13771" y="8603"/>
                  <a:pt x="13866" y="8657"/>
                </a:cubicBezTo>
                <a:cubicBezTo>
                  <a:pt x="13924" y="8690"/>
                  <a:pt x="13886" y="8769"/>
                  <a:pt x="13866" y="8806"/>
                </a:cubicBezTo>
                <a:cubicBezTo>
                  <a:pt x="13858" y="8822"/>
                  <a:pt x="13849" y="8839"/>
                  <a:pt x="13841" y="8855"/>
                </a:cubicBezTo>
                <a:cubicBezTo>
                  <a:pt x="13785" y="8827"/>
                  <a:pt x="13880" y="8848"/>
                  <a:pt x="13915" y="8880"/>
                </a:cubicBezTo>
                <a:cubicBezTo>
                  <a:pt x="13960" y="8921"/>
                  <a:pt x="14002" y="9019"/>
                  <a:pt x="13990" y="9079"/>
                </a:cubicBezTo>
                <a:cubicBezTo>
                  <a:pt x="13976" y="9148"/>
                  <a:pt x="13949" y="9173"/>
                  <a:pt x="13915" y="9227"/>
                </a:cubicBezTo>
                <a:cubicBezTo>
                  <a:pt x="13860" y="9314"/>
                  <a:pt x="13848" y="9266"/>
                  <a:pt x="13767" y="9252"/>
                </a:cubicBezTo>
                <a:cubicBezTo>
                  <a:pt x="13710" y="9242"/>
                  <a:pt x="13650" y="9222"/>
                  <a:pt x="13593" y="9203"/>
                </a:cubicBezTo>
                <a:cubicBezTo>
                  <a:pt x="13519" y="9178"/>
                  <a:pt x="13515" y="9183"/>
                  <a:pt x="13469" y="9128"/>
                </a:cubicBezTo>
              </a:path>
              <a:path w="16868" h="6078">
                <a:moveTo>
                  <a:pt x="14660" y="8533"/>
                </a:moveTo>
                <a:cubicBezTo>
                  <a:pt x="14759" y="8533"/>
                  <a:pt x="14821" y="8526"/>
                  <a:pt x="14908" y="8533"/>
                </a:cubicBezTo>
                <a:cubicBezTo>
                  <a:pt x="15007" y="8541"/>
                  <a:pt x="15106" y="8551"/>
                  <a:pt x="15205" y="8558"/>
                </a:cubicBezTo>
              </a:path>
              <a:path w="16868" h="6078">
                <a:moveTo>
                  <a:pt x="15726" y="7739"/>
                </a:moveTo>
                <a:cubicBezTo>
                  <a:pt x="15737" y="7864"/>
                  <a:pt x="15730" y="7926"/>
                  <a:pt x="15726" y="8062"/>
                </a:cubicBezTo>
                <a:cubicBezTo>
                  <a:pt x="15723" y="8176"/>
                  <a:pt x="15733" y="8277"/>
                  <a:pt x="15751" y="8384"/>
                </a:cubicBezTo>
                <a:cubicBezTo>
                  <a:pt x="15751" y="8425"/>
                  <a:pt x="15751" y="8433"/>
                  <a:pt x="15751" y="8458"/>
                </a:cubicBezTo>
              </a:path>
              <a:path w="16868" h="6078">
                <a:moveTo>
                  <a:pt x="15478" y="8632"/>
                </a:moveTo>
                <a:cubicBezTo>
                  <a:pt x="15572" y="8600"/>
                  <a:pt x="15724" y="8522"/>
                  <a:pt x="15825" y="8508"/>
                </a:cubicBezTo>
                <a:cubicBezTo>
                  <a:pt x="15897" y="8498"/>
                  <a:pt x="15954" y="8492"/>
                  <a:pt x="16024" y="8483"/>
                </a:cubicBezTo>
              </a:path>
              <a:path w="16868" h="6078">
                <a:moveTo>
                  <a:pt x="15776" y="8880"/>
                </a:moveTo>
                <a:cubicBezTo>
                  <a:pt x="15825" y="8830"/>
                  <a:pt x="15852" y="8809"/>
                  <a:pt x="15925" y="8806"/>
                </a:cubicBezTo>
                <a:cubicBezTo>
                  <a:pt x="16019" y="8803"/>
                  <a:pt x="16123" y="8806"/>
                  <a:pt x="16098" y="8930"/>
                </a:cubicBezTo>
                <a:cubicBezTo>
                  <a:pt x="16084" y="8997"/>
                  <a:pt x="15995" y="9057"/>
                  <a:pt x="15949" y="9103"/>
                </a:cubicBezTo>
                <a:cubicBezTo>
                  <a:pt x="15899" y="9153"/>
                  <a:pt x="15854" y="9175"/>
                  <a:pt x="15801" y="9153"/>
                </a:cubicBezTo>
                <a:cubicBezTo>
                  <a:pt x="15912" y="9111"/>
                  <a:pt x="15958" y="9148"/>
                  <a:pt x="16024" y="9252"/>
                </a:cubicBezTo>
                <a:cubicBezTo>
                  <a:pt x="16073" y="9329"/>
                  <a:pt x="16086" y="9383"/>
                  <a:pt x="16024" y="9451"/>
                </a:cubicBezTo>
                <a:cubicBezTo>
                  <a:pt x="15967" y="9513"/>
                  <a:pt x="15971" y="9556"/>
                  <a:pt x="15875" y="9575"/>
                </a:cubicBezTo>
                <a:cubicBezTo>
                  <a:pt x="15779" y="9594"/>
                  <a:pt x="15671" y="9524"/>
                  <a:pt x="15602" y="9475"/>
                </a:cubicBezTo>
              </a:path>
              <a:path w="16868" h="6078">
                <a:moveTo>
                  <a:pt x="10096" y="10096"/>
                </a:moveTo>
                <a:cubicBezTo>
                  <a:pt x="10096" y="10387"/>
                  <a:pt x="10094" y="10678"/>
                  <a:pt x="10120" y="10964"/>
                </a:cubicBezTo>
                <a:cubicBezTo>
                  <a:pt x="10129" y="11067"/>
                  <a:pt x="10131" y="11161"/>
                  <a:pt x="10145" y="11261"/>
                </a:cubicBezTo>
                <a:cubicBezTo>
                  <a:pt x="10156" y="11339"/>
                  <a:pt x="10157" y="11422"/>
                  <a:pt x="10195" y="11485"/>
                </a:cubicBezTo>
              </a:path>
              <a:path w="16868" h="6078">
                <a:moveTo>
                  <a:pt x="10691" y="10716"/>
                </a:moveTo>
                <a:cubicBezTo>
                  <a:pt x="10821" y="10676"/>
                  <a:pt x="10900" y="10702"/>
                  <a:pt x="11038" y="10716"/>
                </a:cubicBezTo>
                <a:cubicBezTo>
                  <a:pt x="11122" y="10716"/>
                  <a:pt x="11172" y="10710"/>
                  <a:pt x="11237" y="10691"/>
                </a:cubicBezTo>
              </a:path>
              <a:path w="16868" h="6078">
                <a:moveTo>
                  <a:pt x="11609" y="10418"/>
                </a:moveTo>
                <a:cubicBezTo>
                  <a:pt x="11609" y="10515"/>
                  <a:pt x="11630" y="10597"/>
                  <a:pt x="11633" y="10691"/>
                </a:cubicBezTo>
                <a:cubicBezTo>
                  <a:pt x="11636" y="10774"/>
                  <a:pt x="11621" y="10804"/>
                  <a:pt x="11658" y="10864"/>
                </a:cubicBezTo>
                <a:cubicBezTo>
                  <a:pt x="11658" y="10688"/>
                  <a:pt x="11655" y="10512"/>
                  <a:pt x="11683" y="10344"/>
                </a:cubicBezTo>
                <a:cubicBezTo>
                  <a:pt x="11695" y="10275"/>
                  <a:pt x="11715" y="10207"/>
                  <a:pt x="11757" y="10145"/>
                </a:cubicBezTo>
                <a:cubicBezTo>
                  <a:pt x="11792" y="10093"/>
                  <a:pt x="11873" y="10058"/>
                  <a:pt x="11931" y="10046"/>
                </a:cubicBezTo>
                <a:cubicBezTo>
                  <a:pt x="11992" y="10033"/>
                  <a:pt x="12066" y="10046"/>
                  <a:pt x="12129" y="10046"/>
                </a:cubicBezTo>
              </a:path>
              <a:path w="16868" h="6078">
                <a:moveTo>
                  <a:pt x="11906" y="10319"/>
                </a:moveTo>
                <a:cubicBezTo>
                  <a:pt x="11880" y="10371"/>
                  <a:pt x="11966" y="10298"/>
                  <a:pt x="12030" y="10294"/>
                </a:cubicBezTo>
                <a:cubicBezTo>
                  <a:pt x="12080" y="10291"/>
                  <a:pt x="12182" y="10322"/>
                  <a:pt x="12179" y="10393"/>
                </a:cubicBezTo>
                <a:cubicBezTo>
                  <a:pt x="12175" y="10470"/>
                  <a:pt x="12078" y="10572"/>
                  <a:pt x="12005" y="10592"/>
                </a:cubicBezTo>
                <a:cubicBezTo>
                  <a:pt x="11989" y="10592"/>
                  <a:pt x="11972" y="10592"/>
                  <a:pt x="11956" y="10592"/>
                </a:cubicBezTo>
                <a:cubicBezTo>
                  <a:pt x="12009" y="10577"/>
                  <a:pt x="12079" y="10586"/>
                  <a:pt x="12129" y="10641"/>
                </a:cubicBezTo>
                <a:cubicBezTo>
                  <a:pt x="12184" y="10700"/>
                  <a:pt x="12195" y="10769"/>
                  <a:pt x="12154" y="10840"/>
                </a:cubicBezTo>
                <a:cubicBezTo>
                  <a:pt x="12122" y="10895"/>
                  <a:pt x="12009" y="10906"/>
                  <a:pt x="11956" y="10889"/>
                </a:cubicBezTo>
                <a:cubicBezTo>
                  <a:pt x="11910" y="10874"/>
                  <a:pt x="11854" y="10859"/>
                  <a:pt x="11807" y="10840"/>
                </a:cubicBezTo>
              </a:path>
              <a:path w="16868" h="6078">
                <a:moveTo>
                  <a:pt x="11584" y="10815"/>
                </a:moveTo>
                <a:cubicBezTo>
                  <a:pt x="11702" y="10833"/>
                  <a:pt x="11837" y="10857"/>
                  <a:pt x="11956" y="10864"/>
                </a:cubicBezTo>
                <a:cubicBezTo>
                  <a:pt x="12071" y="10871"/>
                  <a:pt x="12153" y="10872"/>
                  <a:pt x="12254" y="10840"/>
                </a:cubicBezTo>
              </a:path>
              <a:path w="16868" h="6078">
                <a:moveTo>
                  <a:pt x="11857" y="11137"/>
                </a:moveTo>
                <a:cubicBezTo>
                  <a:pt x="11911" y="11170"/>
                  <a:pt x="11989" y="11156"/>
                  <a:pt x="12055" y="11137"/>
                </a:cubicBezTo>
                <a:cubicBezTo>
                  <a:pt x="12125" y="11117"/>
                  <a:pt x="12195" y="11086"/>
                  <a:pt x="12254" y="11162"/>
                </a:cubicBezTo>
                <a:cubicBezTo>
                  <a:pt x="12318" y="11245"/>
                  <a:pt x="12218" y="11241"/>
                  <a:pt x="12179" y="11286"/>
                </a:cubicBezTo>
                <a:cubicBezTo>
                  <a:pt x="12156" y="11312"/>
                  <a:pt x="12054" y="11417"/>
                  <a:pt x="12005" y="11385"/>
                </a:cubicBezTo>
                <a:cubicBezTo>
                  <a:pt x="12013" y="11377"/>
                  <a:pt x="12022" y="11369"/>
                  <a:pt x="12030" y="11361"/>
                </a:cubicBezTo>
                <a:cubicBezTo>
                  <a:pt x="12108" y="11361"/>
                  <a:pt x="12150" y="11349"/>
                  <a:pt x="12179" y="11435"/>
                </a:cubicBezTo>
                <a:cubicBezTo>
                  <a:pt x="12202" y="11505"/>
                  <a:pt x="12225" y="11632"/>
                  <a:pt x="12204" y="11708"/>
                </a:cubicBezTo>
                <a:cubicBezTo>
                  <a:pt x="12171" y="11826"/>
                  <a:pt x="12125" y="11805"/>
                  <a:pt x="12030" y="11832"/>
                </a:cubicBezTo>
                <a:cubicBezTo>
                  <a:pt x="11925" y="11862"/>
                  <a:pt x="11838" y="11818"/>
                  <a:pt x="11733" y="11782"/>
                </a:cubicBezTo>
              </a:path>
              <a:path w="16868" h="6078">
                <a:moveTo>
                  <a:pt x="12849" y="10840"/>
                </a:moveTo>
                <a:cubicBezTo>
                  <a:pt x="12849" y="10932"/>
                  <a:pt x="12859" y="11012"/>
                  <a:pt x="12874" y="11088"/>
                </a:cubicBezTo>
                <a:cubicBezTo>
                  <a:pt x="12886" y="11147"/>
                  <a:pt x="12885" y="11212"/>
                  <a:pt x="12923" y="11237"/>
                </a:cubicBezTo>
              </a:path>
              <a:path w="16868" h="6078">
                <a:moveTo>
                  <a:pt x="12626" y="11038"/>
                </a:moveTo>
                <a:cubicBezTo>
                  <a:pt x="12717" y="11038"/>
                  <a:pt x="12807" y="11038"/>
                  <a:pt x="12898" y="11038"/>
                </a:cubicBezTo>
              </a:path>
              <a:path w="16868" h="6078">
                <a:moveTo>
                  <a:pt x="13370" y="10641"/>
                </a:moveTo>
                <a:cubicBezTo>
                  <a:pt x="13373" y="10712"/>
                  <a:pt x="13363" y="10903"/>
                  <a:pt x="13395" y="10988"/>
                </a:cubicBezTo>
                <a:cubicBezTo>
                  <a:pt x="13423" y="11017"/>
                  <a:pt x="13431" y="11030"/>
                  <a:pt x="13419" y="11063"/>
                </a:cubicBezTo>
                <a:cubicBezTo>
                  <a:pt x="13445" y="11011"/>
                  <a:pt x="13406" y="10938"/>
                  <a:pt x="13395" y="10864"/>
                </a:cubicBezTo>
                <a:cubicBezTo>
                  <a:pt x="13382" y="10775"/>
                  <a:pt x="13407" y="10701"/>
                  <a:pt x="13419" y="10616"/>
                </a:cubicBezTo>
                <a:cubicBezTo>
                  <a:pt x="13429" y="10545"/>
                  <a:pt x="13478" y="10522"/>
                  <a:pt x="13494" y="10468"/>
                </a:cubicBezTo>
                <a:cubicBezTo>
                  <a:pt x="13526" y="10356"/>
                  <a:pt x="13523" y="10372"/>
                  <a:pt x="13643" y="10319"/>
                </a:cubicBezTo>
                <a:cubicBezTo>
                  <a:pt x="13693" y="10297"/>
                  <a:pt x="13713" y="10294"/>
                  <a:pt x="13767" y="10294"/>
                </a:cubicBezTo>
              </a:path>
              <a:path w="16868" h="6078">
                <a:moveTo>
                  <a:pt x="13692" y="10592"/>
                </a:moveTo>
                <a:cubicBezTo>
                  <a:pt x="13743" y="10541"/>
                  <a:pt x="13788" y="10523"/>
                  <a:pt x="13866" y="10542"/>
                </a:cubicBezTo>
                <a:cubicBezTo>
                  <a:pt x="13940" y="10560"/>
                  <a:pt x="13930" y="10646"/>
                  <a:pt x="13891" y="10691"/>
                </a:cubicBezTo>
                <a:cubicBezTo>
                  <a:pt x="13840" y="10749"/>
                  <a:pt x="13772" y="10765"/>
                  <a:pt x="13717" y="10815"/>
                </a:cubicBezTo>
                <a:cubicBezTo>
                  <a:pt x="13709" y="10823"/>
                  <a:pt x="13700" y="10832"/>
                  <a:pt x="13692" y="10840"/>
                </a:cubicBezTo>
                <a:cubicBezTo>
                  <a:pt x="13760" y="10840"/>
                  <a:pt x="13831" y="10827"/>
                  <a:pt x="13891" y="10864"/>
                </a:cubicBezTo>
                <a:cubicBezTo>
                  <a:pt x="13976" y="10916"/>
                  <a:pt x="13991" y="11054"/>
                  <a:pt x="13965" y="11137"/>
                </a:cubicBezTo>
                <a:cubicBezTo>
                  <a:pt x="13947" y="11195"/>
                  <a:pt x="13882" y="11252"/>
                  <a:pt x="13816" y="11237"/>
                </a:cubicBezTo>
                <a:cubicBezTo>
                  <a:pt x="13800" y="11229"/>
                  <a:pt x="13783" y="11220"/>
                  <a:pt x="13767" y="11212"/>
                </a:cubicBezTo>
              </a:path>
              <a:path w="16868" h="6078">
                <a:moveTo>
                  <a:pt x="13395" y="11063"/>
                </a:moveTo>
                <a:cubicBezTo>
                  <a:pt x="13378" y="11063"/>
                  <a:pt x="13362" y="11063"/>
                  <a:pt x="13345" y="11063"/>
                </a:cubicBezTo>
                <a:cubicBezTo>
                  <a:pt x="13399" y="11096"/>
                  <a:pt x="13456" y="11096"/>
                  <a:pt x="13519" y="11112"/>
                </a:cubicBezTo>
                <a:cubicBezTo>
                  <a:pt x="13628" y="11141"/>
                  <a:pt x="13728" y="11137"/>
                  <a:pt x="13841" y="11137"/>
                </a:cubicBezTo>
                <a:cubicBezTo>
                  <a:pt x="13890" y="11137"/>
                  <a:pt x="13920" y="11121"/>
                  <a:pt x="13965" y="11112"/>
                </a:cubicBezTo>
              </a:path>
              <a:path w="16868" h="6078">
                <a:moveTo>
                  <a:pt x="13643" y="11385"/>
                </a:moveTo>
                <a:cubicBezTo>
                  <a:pt x="13709" y="11425"/>
                  <a:pt x="13740" y="11389"/>
                  <a:pt x="13816" y="11385"/>
                </a:cubicBezTo>
                <a:cubicBezTo>
                  <a:pt x="13864" y="11382"/>
                  <a:pt x="13972" y="11374"/>
                  <a:pt x="13965" y="11460"/>
                </a:cubicBezTo>
                <a:cubicBezTo>
                  <a:pt x="13963" y="11487"/>
                  <a:pt x="13878" y="11593"/>
                  <a:pt x="13841" y="11609"/>
                </a:cubicBezTo>
                <a:cubicBezTo>
                  <a:pt x="13806" y="11625"/>
                  <a:pt x="13776" y="11631"/>
                  <a:pt x="13742" y="11658"/>
                </a:cubicBezTo>
                <a:cubicBezTo>
                  <a:pt x="13845" y="11696"/>
                  <a:pt x="13851" y="11708"/>
                  <a:pt x="13915" y="11782"/>
                </a:cubicBezTo>
                <a:cubicBezTo>
                  <a:pt x="14017" y="11900"/>
                  <a:pt x="14018" y="11921"/>
                  <a:pt x="13965" y="12055"/>
                </a:cubicBezTo>
                <a:cubicBezTo>
                  <a:pt x="13940" y="12118"/>
                  <a:pt x="13918" y="12186"/>
                  <a:pt x="13841" y="12204"/>
                </a:cubicBezTo>
                <a:cubicBezTo>
                  <a:pt x="13777" y="12219"/>
                  <a:pt x="13686" y="12244"/>
                  <a:pt x="13618" y="12229"/>
                </a:cubicBezTo>
                <a:cubicBezTo>
                  <a:pt x="13485" y="12200"/>
                  <a:pt x="13470" y="12152"/>
                  <a:pt x="13494" y="12030"/>
                </a:cubicBezTo>
              </a:path>
              <a:path w="16868" h="6078">
                <a:moveTo>
                  <a:pt x="14461" y="11336"/>
                </a:moveTo>
                <a:cubicBezTo>
                  <a:pt x="14585" y="11364"/>
                  <a:pt x="14708" y="11397"/>
                  <a:pt x="14833" y="11410"/>
                </a:cubicBezTo>
              </a:path>
              <a:path w="16868" h="6078">
                <a:moveTo>
                  <a:pt x="15478" y="10592"/>
                </a:moveTo>
                <a:cubicBezTo>
                  <a:pt x="15467" y="10676"/>
                  <a:pt x="15440" y="10752"/>
                  <a:pt x="15429" y="10840"/>
                </a:cubicBezTo>
                <a:cubicBezTo>
                  <a:pt x="15412" y="10979"/>
                  <a:pt x="15435" y="11137"/>
                  <a:pt x="15453" y="11261"/>
                </a:cubicBezTo>
                <a:cubicBezTo>
                  <a:pt x="15453" y="11286"/>
                  <a:pt x="15453" y="11311"/>
                  <a:pt x="15453" y="11336"/>
                </a:cubicBezTo>
              </a:path>
              <a:path w="16868" h="6078">
                <a:moveTo>
                  <a:pt x="15255" y="11410"/>
                </a:moveTo>
                <a:cubicBezTo>
                  <a:pt x="15354" y="11369"/>
                  <a:pt x="15470" y="11306"/>
                  <a:pt x="15577" y="11286"/>
                </a:cubicBezTo>
                <a:cubicBezTo>
                  <a:pt x="15662" y="11270"/>
                  <a:pt x="15743" y="11296"/>
                  <a:pt x="15825" y="11311"/>
                </a:cubicBezTo>
              </a:path>
              <a:path w="16868" h="6078">
                <a:moveTo>
                  <a:pt x="15503" y="11609"/>
                </a:moveTo>
                <a:cubicBezTo>
                  <a:pt x="15593" y="11575"/>
                  <a:pt x="15689" y="11561"/>
                  <a:pt x="15776" y="11609"/>
                </a:cubicBezTo>
                <a:cubicBezTo>
                  <a:pt x="15842" y="11646"/>
                  <a:pt x="15784" y="11722"/>
                  <a:pt x="15751" y="11757"/>
                </a:cubicBezTo>
                <a:cubicBezTo>
                  <a:pt x="15690" y="11822"/>
                  <a:pt x="15635" y="11811"/>
                  <a:pt x="15577" y="11857"/>
                </a:cubicBezTo>
                <a:cubicBezTo>
                  <a:pt x="15534" y="11891"/>
                  <a:pt x="15515" y="11942"/>
                  <a:pt x="15577" y="11981"/>
                </a:cubicBezTo>
                <a:cubicBezTo>
                  <a:pt x="15660" y="12033"/>
                  <a:pt x="15739" y="12042"/>
                  <a:pt x="15751" y="12154"/>
                </a:cubicBezTo>
                <a:cubicBezTo>
                  <a:pt x="15760" y="12237"/>
                  <a:pt x="15690" y="12308"/>
                  <a:pt x="15627" y="12353"/>
                </a:cubicBezTo>
                <a:cubicBezTo>
                  <a:pt x="15563" y="12399"/>
                  <a:pt x="15480" y="12423"/>
                  <a:pt x="15404" y="12427"/>
                </a:cubicBezTo>
                <a:cubicBezTo>
                  <a:pt x="15309" y="12432"/>
                  <a:pt x="15254" y="12379"/>
                  <a:pt x="15180" y="12328"/>
                </a:cubicBezTo>
              </a:path>
              <a:path w="16868" h="6078">
                <a:moveTo>
                  <a:pt x="12551" y="9922"/>
                </a:moveTo>
                <a:cubicBezTo>
                  <a:pt x="12505" y="10022"/>
                  <a:pt x="12433" y="10097"/>
                  <a:pt x="12378" y="10195"/>
                </a:cubicBezTo>
                <a:cubicBezTo>
                  <a:pt x="12300" y="10333"/>
                  <a:pt x="12235" y="10482"/>
                  <a:pt x="12154" y="10616"/>
                </a:cubicBezTo>
                <a:cubicBezTo>
                  <a:pt x="12011" y="10851"/>
                  <a:pt x="11856" y="11080"/>
                  <a:pt x="11708" y="11311"/>
                </a:cubicBezTo>
                <a:cubicBezTo>
                  <a:pt x="11617" y="11453"/>
                  <a:pt x="11549" y="11593"/>
                  <a:pt x="11460" y="11733"/>
                </a:cubicBezTo>
                <a:cubicBezTo>
                  <a:pt x="11399" y="11829"/>
                  <a:pt x="11314" y="11849"/>
                  <a:pt x="11435" y="11832"/>
                </a:cubicBezTo>
              </a:path>
              <a:path w="16868" h="6078">
                <a:moveTo>
                  <a:pt x="14015" y="10319"/>
                </a:moveTo>
                <a:cubicBezTo>
                  <a:pt x="14006" y="10465"/>
                  <a:pt x="13960" y="10574"/>
                  <a:pt x="13915" y="10716"/>
                </a:cubicBezTo>
                <a:cubicBezTo>
                  <a:pt x="13850" y="10920"/>
                  <a:pt x="13764" y="11074"/>
                  <a:pt x="13667" y="11261"/>
                </a:cubicBezTo>
                <a:cubicBezTo>
                  <a:pt x="13573" y="11443"/>
                  <a:pt x="13485" y="11623"/>
                  <a:pt x="13395" y="11807"/>
                </a:cubicBezTo>
                <a:cubicBezTo>
                  <a:pt x="13370" y="11857"/>
                  <a:pt x="13345" y="11906"/>
                  <a:pt x="13320" y="11956"/>
                </a:cubicBezTo>
              </a:path>
              <a:path w="16868" h="6078">
                <a:moveTo>
                  <a:pt x="9872" y="7640"/>
                </a:moveTo>
                <a:cubicBezTo>
                  <a:pt x="9918" y="7575"/>
                  <a:pt x="9965" y="7554"/>
                  <a:pt x="10046" y="7541"/>
                </a:cubicBezTo>
                <a:cubicBezTo>
                  <a:pt x="10124" y="7529"/>
                  <a:pt x="10187" y="7538"/>
                  <a:pt x="10244" y="7590"/>
                </a:cubicBezTo>
                <a:cubicBezTo>
                  <a:pt x="10311" y="7651"/>
                  <a:pt x="10270" y="7715"/>
                  <a:pt x="10220" y="7764"/>
                </a:cubicBezTo>
                <a:cubicBezTo>
                  <a:pt x="10172" y="7812"/>
                  <a:pt x="10119" y="7840"/>
                  <a:pt x="10071" y="7888"/>
                </a:cubicBezTo>
                <a:cubicBezTo>
                  <a:pt x="10164" y="7888"/>
                  <a:pt x="10244" y="7868"/>
                  <a:pt x="10319" y="7938"/>
                </a:cubicBezTo>
                <a:cubicBezTo>
                  <a:pt x="10372" y="7987"/>
                  <a:pt x="10349" y="8109"/>
                  <a:pt x="10319" y="8161"/>
                </a:cubicBezTo>
                <a:cubicBezTo>
                  <a:pt x="10291" y="8210"/>
                  <a:pt x="10246" y="8233"/>
                  <a:pt x="10195" y="8235"/>
                </a:cubicBezTo>
                <a:cubicBezTo>
                  <a:pt x="10133" y="8235"/>
                  <a:pt x="10118" y="8245"/>
                  <a:pt x="10096" y="8210"/>
                </a:cubicBezTo>
              </a:path>
              <a:path w="16868" h="6078">
                <a:moveTo>
                  <a:pt x="10071" y="8310"/>
                </a:moveTo>
                <a:cubicBezTo>
                  <a:pt x="10194" y="8285"/>
                  <a:pt x="10321" y="8253"/>
                  <a:pt x="10443" y="8235"/>
                </a:cubicBezTo>
                <a:cubicBezTo>
                  <a:pt x="10494" y="8235"/>
                  <a:pt x="10513" y="8234"/>
                  <a:pt x="10542" y="8210"/>
                </a:cubicBezTo>
              </a:path>
              <a:path w="16868" h="6078">
                <a:moveTo>
                  <a:pt x="10096" y="8607"/>
                </a:moveTo>
                <a:cubicBezTo>
                  <a:pt x="10172" y="8596"/>
                  <a:pt x="10209" y="8563"/>
                  <a:pt x="10269" y="8508"/>
                </a:cubicBezTo>
                <a:cubicBezTo>
                  <a:pt x="10317" y="8463"/>
                  <a:pt x="10369" y="8479"/>
                  <a:pt x="10418" y="8508"/>
                </a:cubicBezTo>
                <a:cubicBezTo>
                  <a:pt x="10405" y="8567"/>
                  <a:pt x="10370" y="8684"/>
                  <a:pt x="10319" y="8731"/>
                </a:cubicBezTo>
                <a:cubicBezTo>
                  <a:pt x="10272" y="8775"/>
                  <a:pt x="10249" y="8790"/>
                  <a:pt x="10195" y="8806"/>
                </a:cubicBezTo>
                <a:cubicBezTo>
                  <a:pt x="10258" y="8806"/>
                  <a:pt x="10365" y="8787"/>
                  <a:pt x="10418" y="8830"/>
                </a:cubicBezTo>
                <a:cubicBezTo>
                  <a:pt x="10508" y="8903"/>
                  <a:pt x="10415" y="8987"/>
                  <a:pt x="10368" y="9029"/>
                </a:cubicBezTo>
                <a:cubicBezTo>
                  <a:pt x="10315" y="9076"/>
                  <a:pt x="10269" y="9136"/>
                  <a:pt x="10195" y="9153"/>
                </a:cubicBezTo>
                <a:cubicBezTo>
                  <a:pt x="10145" y="9164"/>
                  <a:pt x="10112" y="9127"/>
                  <a:pt x="10071" y="9103"/>
                </a:cubicBezTo>
              </a:path>
              <a:path w="16868" h="6078">
                <a:moveTo>
                  <a:pt x="9748" y="10096"/>
                </a:moveTo>
                <a:cubicBezTo>
                  <a:pt x="9818" y="10043"/>
                  <a:pt x="9854" y="10055"/>
                  <a:pt x="9922" y="10021"/>
                </a:cubicBezTo>
                <a:cubicBezTo>
                  <a:pt x="9965" y="9999"/>
                  <a:pt x="10063" y="9974"/>
                  <a:pt x="10120" y="9996"/>
                </a:cubicBezTo>
                <a:cubicBezTo>
                  <a:pt x="10145" y="10021"/>
                  <a:pt x="10153" y="10029"/>
                  <a:pt x="10170" y="10046"/>
                </a:cubicBezTo>
                <a:cubicBezTo>
                  <a:pt x="10117" y="10099"/>
                  <a:pt x="10065" y="10161"/>
                  <a:pt x="9996" y="10195"/>
                </a:cubicBezTo>
                <a:cubicBezTo>
                  <a:pt x="9938" y="10223"/>
                  <a:pt x="9897" y="10229"/>
                  <a:pt x="9847" y="10269"/>
                </a:cubicBezTo>
                <a:cubicBezTo>
                  <a:pt x="9904" y="10275"/>
                  <a:pt x="10027" y="10275"/>
                  <a:pt x="10071" y="10319"/>
                </a:cubicBezTo>
                <a:cubicBezTo>
                  <a:pt x="10104" y="10352"/>
                  <a:pt x="10112" y="10475"/>
                  <a:pt x="10096" y="10517"/>
                </a:cubicBezTo>
                <a:cubicBezTo>
                  <a:pt x="10082" y="10553"/>
                  <a:pt x="9951" y="10597"/>
                  <a:pt x="9922" y="10592"/>
                </a:cubicBezTo>
                <a:cubicBezTo>
                  <a:pt x="9892" y="10562"/>
                  <a:pt x="9878" y="10551"/>
                  <a:pt x="9847" y="10542"/>
                </a:cubicBezTo>
              </a:path>
              <a:path w="16868" h="6078">
                <a:moveTo>
                  <a:pt x="9599" y="10666"/>
                </a:moveTo>
                <a:cubicBezTo>
                  <a:pt x="9707" y="10666"/>
                  <a:pt x="9795" y="10643"/>
                  <a:pt x="9897" y="10616"/>
                </a:cubicBezTo>
                <a:cubicBezTo>
                  <a:pt x="10003" y="10588"/>
                  <a:pt x="10112" y="10554"/>
                  <a:pt x="10220" y="10542"/>
                </a:cubicBezTo>
                <a:cubicBezTo>
                  <a:pt x="10281" y="10542"/>
                  <a:pt x="10297" y="10533"/>
                  <a:pt x="10319" y="10567"/>
                </a:cubicBezTo>
              </a:path>
              <a:path w="16868" h="6078">
                <a:moveTo>
                  <a:pt x="9897" y="10914"/>
                </a:moveTo>
                <a:cubicBezTo>
                  <a:pt x="9957" y="10901"/>
                  <a:pt x="10109" y="10843"/>
                  <a:pt x="10170" y="10864"/>
                </a:cubicBezTo>
                <a:cubicBezTo>
                  <a:pt x="10265" y="10897"/>
                  <a:pt x="10262" y="10980"/>
                  <a:pt x="10195" y="11038"/>
                </a:cubicBezTo>
                <a:cubicBezTo>
                  <a:pt x="10185" y="11047"/>
                  <a:pt x="10068" y="11162"/>
                  <a:pt x="10071" y="11162"/>
                </a:cubicBezTo>
                <a:cubicBezTo>
                  <a:pt x="10102" y="11161"/>
                  <a:pt x="10200" y="11103"/>
                  <a:pt x="10244" y="11137"/>
                </a:cubicBezTo>
                <a:cubicBezTo>
                  <a:pt x="10309" y="11188"/>
                  <a:pt x="10294" y="11291"/>
                  <a:pt x="10294" y="11361"/>
                </a:cubicBezTo>
                <a:cubicBezTo>
                  <a:pt x="10294" y="11468"/>
                  <a:pt x="10245" y="11483"/>
                  <a:pt x="10170" y="11509"/>
                </a:cubicBezTo>
                <a:cubicBezTo>
                  <a:pt x="10079" y="11541"/>
                  <a:pt x="10048" y="11559"/>
                  <a:pt x="9947" y="11559"/>
                </a:cubicBezTo>
                <a:cubicBezTo>
                  <a:pt x="9888" y="11559"/>
                  <a:pt x="9812" y="11504"/>
                  <a:pt x="9773" y="11460"/>
                </a:cubicBezTo>
                <a:cubicBezTo>
                  <a:pt x="9727" y="11391"/>
                  <a:pt x="9715" y="11371"/>
                  <a:pt x="9674" y="11336"/>
                </a:cubicBezTo>
              </a:path>
              <a:path w="16868" h="6078">
                <a:moveTo>
                  <a:pt x="16892" y="9475"/>
                </a:moveTo>
                <a:cubicBezTo>
                  <a:pt x="16965" y="9452"/>
                  <a:pt x="17046" y="9474"/>
                  <a:pt x="17115" y="9451"/>
                </a:cubicBezTo>
                <a:cubicBezTo>
                  <a:pt x="17181" y="9429"/>
                  <a:pt x="17238" y="9438"/>
                  <a:pt x="17314" y="9426"/>
                </a:cubicBezTo>
                <a:cubicBezTo>
                  <a:pt x="17392" y="9413"/>
                  <a:pt x="17436" y="9401"/>
                  <a:pt x="17512" y="9401"/>
                </a:cubicBezTo>
              </a:path>
              <a:path w="16868" h="6078">
                <a:moveTo>
                  <a:pt x="16991" y="9847"/>
                </a:moveTo>
                <a:lnTo>
                  <a:pt x="16991" y="9847"/>
                </a:lnTo>
              </a:path>
              <a:path w="16868" h="6078">
                <a:moveTo>
                  <a:pt x="16991" y="9847"/>
                </a:moveTo>
                <a:cubicBezTo>
                  <a:pt x="17008" y="9864"/>
                  <a:pt x="17024" y="9880"/>
                  <a:pt x="17041" y="9897"/>
                </a:cubicBezTo>
              </a:path>
              <a:path w="16868" h="6078">
                <a:moveTo>
                  <a:pt x="17041" y="9897"/>
                </a:moveTo>
                <a:cubicBezTo>
                  <a:pt x="17181" y="9897"/>
                  <a:pt x="17322" y="9897"/>
                  <a:pt x="17462" y="9897"/>
                </a:cubicBezTo>
              </a:path>
              <a:path w="16868" h="6078">
                <a:moveTo>
                  <a:pt x="12055" y="9971"/>
                </a:moveTo>
                <a:cubicBezTo>
                  <a:pt x="11982" y="10034"/>
                  <a:pt x="11983" y="10081"/>
                  <a:pt x="11956" y="10170"/>
                </a:cubicBezTo>
                <a:cubicBezTo>
                  <a:pt x="11928" y="10264"/>
                  <a:pt x="11887" y="10388"/>
                  <a:pt x="11832" y="10468"/>
                </a:cubicBezTo>
                <a:cubicBezTo>
                  <a:pt x="11754" y="10582"/>
                  <a:pt x="11715" y="10731"/>
                  <a:pt x="11658" y="10864"/>
                </a:cubicBezTo>
                <a:cubicBezTo>
                  <a:pt x="11584" y="11039"/>
                  <a:pt x="11520" y="11215"/>
                  <a:pt x="11435" y="11385"/>
                </a:cubicBezTo>
                <a:cubicBezTo>
                  <a:pt x="11376" y="11503"/>
                  <a:pt x="11334" y="11648"/>
                  <a:pt x="11261" y="11757"/>
                </a:cubicBezTo>
                <a:cubicBezTo>
                  <a:pt x="11220" y="11799"/>
                  <a:pt x="11212" y="11807"/>
                  <a:pt x="11187" y="11832"/>
                </a:cubicBezTo>
                <a:cubicBezTo>
                  <a:pt x="11187" y="11678"/>
                  <a:pt x="11237" y="11579"/>
                  <a:pt x="11286" y="11435"/>
                </a:cubicBezTo>
                <a:cubicBezTo>
                  <a:pt x="11342" y="11272"/>
                  <a:pt x="11381" y="11101"/>
                  <a:pt x="11435" y="10939"/>
                </a:cubicBezTo>
                <a:cubicBezTo>
                  <a:pt x="11482" y="10798"/>
                  <a:pt x="11540" y="10660"/>
                  <a:pt x="11584" y="10517"/>
                </a:cubicBezTo>
                <a:cubicBezTo>
                  <a:pt x="11630" y="10370"/>
                  <a:pt x="11707" y="10182"/>
                  <a:pt x="11782" y="10046"/>
                </a:cubicBezTo>
                <a:cubicBezTo>
                  <a:pt x="11813" y="9990"/>
                  <a:pt x="11907" y="9909"/>
                  <a:pt x="11931" y="9847"/>
                </a:cubicBezTo>
                <a:cubicBezTo>
                  <a:pt x="11931" y="9831"/>
                  <a:pt x="11931" y="9814"/>
                  <a:pt x="11931" y="9798"/>
                </a:cubicBezTo>
                <a:cubicBezTo>
                  <a:pt x="11883" y="9840"/>
                  <a:pt x="11835" y="9887"/>
                  <a:pt x="11782" y="9922"/>
                </a:cubicBezTo>
                <a:cubicBezTo>
                  <a:pt x="11678" y="9992"/>
                  <a:pt x="11584" y="10115"/>
                  <a:pt x="11509" y="10220"/>
                </a:cubicBezTo>
                <a:cubicBezTo>
                  <a:pt x="11317" y="10490"/>
                  <a:pt x="11139" y="10738"/>
                  <a:pt x="10988" y="11038"/>
                </a:cubicBezTo>
                <a:cubicBezTo>
                  <a:pt x="10887" y="11238"/>
                  <a:pt x="10810" y="11446"/>
                  <a:pt x="10740" y="11658"/>
                </a:cubicBezTo>
                <a:cubicBezTo>
                  <a:pt x="10702" y="11772"/>
                  <a:pt x="10650" y="11880"/>
                  <a:pt x="10616" y="11981"/>
                </a:cubicBezTo>
                <a:cubicBezTo>
                  <a:pt x="10616" y="11846"/>
                  <a:pt x="10633" y="11718"/>
                  <a:pt x="10641" y="11584"/>
                </a:cubicBezTo>
              </a:path>
              <a:path w="16868" h="6078">
                <a:moveTo>
                  <a:pt x="10939" y="10691"/>
                </a:moveTo>
                <a:cubicBezTo>
                  <a:pt x="11018" y="10572"/>
                  <a:pt x="11062" y="10496"/>
                  <a:pt x="11212" y="10492"/>
                </a:cubicBezTo>
                <a:cubicBezTo>
                  <a:pt x="11361" y="10488"/>
                  <a:pt x="11276" y="10760"/>
                  <a:pt x="11261" y="10840"/>
                </a:cubicBezTo>
                <a:cubicBezTo>
                  <a:pt x="11233" y="10995"/>
                  <a:pt x="11199" y="11161"/>
                  <a:pt x="11162" y="11311"/>
                </a:cubicBezTo>
                <a:cubicBezTo>
                  <a:pt x="11138" y="11407"/>
                  <a:pt x="11150" y="11388"/>
                  <a:pt x="11162" y="11460"/>
                </a:cubicBezTo>
                <a:cubicBezTo>
                  <a:pt x="11243" y="11367"/>
                  <a:pt x="11284" y="11301"/>
                  <a:pt x="11336" y="11187"/>
                </a:cubicBezTo>
                <a:cubicBezTo>
                  <a:pt x="11400" y="11047"/>
                  <a:pt x="11483" y="10910"/>
                  <a:pt x="11534" y="10765"/>
                </a:cubicBezTo>
                <a:cubicBezTo>
                  <a:pt x="11581" y="10631"/>
                  <a:pt x="11649" y="10520"/>
                  <a:pt x="11708" y="10393"/>
                </a:cubicBezTo>
                <a:cubicBezTo>
                  <a:pt x="11760" y="10281"/>
                  <a:pt x="11776" y="10272"/>
                  <a:pt x="11881" y="10220"/>
                </a:cubicBezTo>
                <a:cubicBezTo>
                  <a:pt x="11926" y="10314"/>
                  <a:pt x="11968" y="10379"/>
                  <a:pt x="11981" y="10492"/>
                </a:cubicBezTo>
                <a:cubicBezTo>
                  <a:pt x="11999" y="10649"/>
                  <a:pt x="11959" y="10807"/>
                  <a:pt x="11956" y="10964"/>
                </a:cubicBezTo>
                <a:cubicBezTo>
                  <a:pt x="11953" y="11117"/>
                  <a:pt x="11949" y="11283"/>
                  <a:pt x="11931" y="11435"/>
                </a:cubicBezTo>
                <a:cubicBezTo>
                  <a:pt x="11916" y="11560"/>
                  <a:pt x="11922" y="11645"/>
                  <a:pt x="11931" y="11757"/>
                </a:cubicBezTo>
                <a:cubicBezTo>
                  <a:pt x="11957" y="11642"/>
                  <a:pt x="11982" y="11527"/>
                  <a:pt x="12005" y="11410"/>
                </a:cubicBezTo>
                <a:cubicBezTo>
                  <a:pt x="12040" y="11232"/>
                  <a:pt x="12088" y="11065"/>
                  <a:pt x="12129" y="10889"/>
                </a:cubicBezTo>
                <a:cubicBezTo>
                  <a:pt x="12165" y="10735"/>
                  <a:pt x="12230" y="10526"/>
                  <a:pt x="12353" y="10418"/>
                </a:cubicBezTo>
                <a:cubicBezTo>
                  <a:pt x="12402" y="10393"/>
                  <a:pt x="12419" y="10384"/>
                  <a:pt x="12452" y="10368"/>
                </a:cubicBezTo>
                <a:cubicBezTo>
                  <a:pt x="12512" y="10461"/>
                  <a:pt x="12544" y="10479"/>
                  <a:pt x="12576" y="10592"/>
                </a:cubicBezTo>
                <a:cubicBezTo>
                  <a:pt x="12616" y="10732"/>
                  <a:pt x="12623" y="10893"/>
                  <a:pt x="12626" y="11038"/>
                </a:cubicBezTo>
                <a:cubicBezTo>
                  <a:pt x="12632" y="11290"/>
                  <a:pt x="12594" y="11566"/>
                  <a:pt x="12650" y="11807"/>
                </a:cubicBezTo>
                <a:cubicBezTo>
                  <a:pt x="12658" y="11815"/>
                  <a:pt x="12667" y="11824"/>
                  <a:pt x="12675" y="11832"/>
                </a:cubicBezTo>
                <a:cubicBezTo>
                  <a:pt x="12716" y="11722"/>
                  <a:pt x="12746" y="11606"/>
                  <a:pt x="12774" y="11485"/>
                </a:cubicBezTo>
                <a:cubicBezTo>
                  <a:pt x="12825" y="11262"/>
                  <a:pt x="12861" y="11028"/>
                  <a:pt x="12948" y="10815"/>
                </a:cubicBezTo>
                <a:cubicBezTo>
                  <a:pt x="12993" y="10705"/>
                  <a:pt x="13038" y="10593"/>
                  <a:pt x="13097" y="10492"/>
                </a:cubicBezTo>
                <a:cubicBezTo>
                  <a:pt x="13164" y="10541"/>
                  <a:pt x="13197" y="10519"/>
                  <a:pt x="13221" y="10641"/>
                </a:cubicBezTo>
                <a:cubicBezTo>
                  <a:pt x="13255" y="10819"/>
                  <a:pt x="13246" y="11006"/>
                  <a:pt x="13246" y="11187"/>
                </a:cubicBezTo>
                <a:cubicBezTo>
                  <a:pt x="13246" y="11408"/>
                  <a:pt x="13220" y="11644"/>
                  <a:pt x="13271" y="11857"/>
                </a:cubicBezTo>
                <a:cubicBezTo>
                  <a:pt x="13292" y="11944"/>
                  <a:pt x="13295" y="11915"/>
                  <a:pt x="13320" y="11981"/>
                </a:cubicBezTo>
                <a:cubicBezTo>
                  <a:pt x="13354" y="11869"/>
                  <a:pt x="13372" y="11776"/>
                  <a:pt x="13395" y="11658"/>
                </a:cubicBezTo>
                <a:cubicBezTo>
                  <a:pt x="13436" y="11444"/>
                  <a:pt x="13451" y="11228"/>
                  <a:pt x="13494" y="11013"/>
                </a:cubicBezTo>
                <a:cubicBezTo>
                  <a:pt x="13523" y="10871"/>
                  <a:pt x="13554" y="10725"/>
                  <a:pt x="13593" y="10592"/>
                </a:cubicBezTo>
                <a:cubicBezTo>
                  <a:pt x="13621" y="10495"/>
                  <a:pt x="13685" y="10443"/>
                  <a:pt x="13742" y="10368"/>
                </a:cubicBezTo>
                <a:cubicBezTo>
                  <a:pt x="13778" y="10444"/>
                  <a:pt x="13803" y="10445"/>
                  <a:pt x="13816" y="10542"/>
                </a:cubicBezTo>
                <a:cubicBezTo>
                  <a:pt x="13859" y="10862"/>
                  <a:pt x="13815" y="11215"/>
                  <a:pt x="13791" y="11534"/>
                </a:cubicBezTo>
                <a:cubicBezTo>
                  <a:pt x="13782" y="11657"/>
                  <a:pt x="13791" y="11783"/>
                  <a:pt x="13791" y="11906"/>
                </a:cubicBezTo>
                <a:cubicBezTo>
                  <a:pt x="13809" y="11829"/>
                  <a:pt x="13835" y="11723"/>
                  <a:pt x="13841" y="11633"/>
                </a:cubicBezTo>
                <a:cubicBezTo>
                  <a:pt x="13854" y="11434"/>
                  <a:pt x="13880" y="11234"/>
                  <a:pt x="13915" y="11038"/>
                </a:cubicBezTo>
                <a:cubicBezTo>
                  <a:pt x="13939" y="10907"/>
                  <a:pt x="13940" y="10770"/>
                  <a:pt x="13965" y="10641"/>
                </a:cubicBezTo>
                <a:cubicBezTo>
                  <a:pt x="13978" y="10576"/>
                  <a:pt x="14009" y="10544"/>
                  <a:pt x="14039" y="10492"/>
                </a:cubicBezTo>
                <a:cubicBezTo>
                  <a:pt x="14095" y="10558"/>
                  <a:pt x="14127" y="10589"/>
                  <a:pt x="14139" y="10716"/>
                </a:cubicBezTo>
                <a:cubicBezTo>
                  <a:pt x="14152" y="10851"/>
                  <a:pt x="14124" y="10983"/>
                  <a:pt x="14114" y="11112"/>
                </a:cubicBezTo>
                <a:cubicBezTo>
                  <a:pt x="14103" y="11258"/>
                  <a:pt x="14123" y="11389"/>
                  <a:pt x="14089" y="11534"/>
                </a:cubicBezTo>
                <a:cubicBezTo>
                  <a:pt x="14089" y="11579"/>
                  <a:pt x="14092" y="11592"/>
                  <a:pt x="14064" y="11609"/>
                </a:cubicBezTo>
                <a:cubicBezTo>
                  <a:pt x="14032" y="11513"/>
                  <a:pt x="14009" y="11438"/>
                  <a:pt x="13990" y="11336"/>
                </a:cubicBezTo>
                <a:cubicBezTo>
                  <a:pt x="13952" y="11130"/>
                  <a:pt x="13934" y="10922"/>
                  <a:pt x="13891" y="10716"/>
                </a:cubicBezTo>
                <a:cubicBezTo>
                  <a:pt x="13862" y="10574"/>
                  <a:pt x="13840" y="10434"/>
                  <a:pt x="13816" y="10294"/>
                </a:cubicBezTo>
                <a:cubicBezTo>
                  <a:pt x="13791" y="10143"/>
                  <a:pt x="13785" y="10164"/>
                  <a:pt x="13717" y="10096"/>
                </a:cubicBezTo>
                <a:cubicBezTo>
                  <a:pt x="13654" y="10197"/>
                  <a:pt x="13639" y="10290"/>
                  <a:pt x="13593" y="10418"/>
                </a:cubicBezTo>
                <a:cubicBezTo>
                  <a:pt x="13512" y="10640"/>
                  <a:pt x="13444" y="10865"/>
                  <a:pt x="13370" y="11088"/>
                </a:cubicBezTo>
                <a:cubicBezTo>
                  <a:pt x="13319" y="11242"/>
                  <a:pt x="13277" y="11472"/>
                  <a:pt x="13196" y="11609"/>
                </a:cubicBezTo>
                <a:cubicBezTo>
                  <a:pt x="13140" y="11705"/>
                  <a:pt x="13054" y="11777"/>
                  <a:pt x="12973" y="11832"/>
                </a:cubicBezTo>
                <a:cubicBezTo>
                  <a:pt x="12830" y="11749"/>
                  <a:pt x="12827" y="11713"/>
                  <a:pt x="12750" y="11534"/>
                </a:cubicBezTo>
                <a:cubicBezTo>
                  <a:pt x="12684" y="11381"/>
                  <a:pt x="12681" y="11217"/>
                  <a:pt x="12626" y="11063"/>
                </a:cubicBezTo>
                <a:cubicBezTo>
                  <a:pt x="12575" y="10920"/>
                  <a:pt x="12501" y="10780"/>
                  <a:pt x="12452" y="10641"/>
                </a:cubicBezTo>
                <a:cubicBezTo>
                  <a:pt x="12419" y="10548"/>
                  <a:pt x="12380" y="10478"/>
                  <a:pt x="12328" y="10393"/>
                </a:cubicBezTo>
                <a:cubicBezTo>
                  <a:pt x="12320" y="10385"/>
                  <a:pt x="12311" y="10376"/>
                  <a:pt x="12303" y="10368"/>
                </a:cubicBezTo>
                <a:cubicBezTo>
                  <a:pt x="12261" y="10410"/>
                  <a:pt x="12196" y="10454"/>
                  <a:pt x="12154" y="10517"/>
                </a:cubicBezTo>
                <a:cubicBezTo>
                  <a:pt x="12059" y="10659"/>
                  <a:pt x="12045" y="10856"/>
                  <a:pt x="11981" y="11013"/>
                </a:cubicBezTo>
                <a:cubicBezTo>
                  <a:pt x="11921" y="11159"/>
                  <a:pt x="11860" y="11310"/>
                  <a:pt x="11807" y="11460"/>
                </a:cubicBezTo>
                <a:cubicBezTo>
                  <a:pt x="11780" y="11535"/>
                  <a:pt x="11773" y="11627"/>
                  <a:pt x="11708" y="11683"/>
                </a:cubicBezTo>
                <a:cubicBezTo>
                  <a:pt x="11680" y="11711"/>
                  <a:pt x="11666" y="11720"/>
                  <a:pt x="11633" y="11708"/>
                </a:cubicBezTo>
                <a:cubicBezTo>
                  <a:pt x="11543" y="11592"/>
                  <a:pt x="11523" y="11562"/>
                  <a:pt x="11485" y="11410"/>
                </a:cubicBezTo>
                <a:cubicBezTo>
                  <a:pt x="11446" y="11254"/>
                  <a:pt x="11419" y="11097"/>
                  <a:pt x="11385" y="10939"/>
                </a:cubicBezTo>
                <a:cubicBezTo>
                  <a:pt x="11351" y="10784"/>
                  <a:pt x="11361" y="10624"/>
                  <a:pt x="11336" y="10468"/>
                </a:cubicBezTo>
                <a:cubicBezTo>
                  <a:pt x="11316" y="10347"/>
                  <a:pt x="11292" y="10202"/>
                  <a:pt x="11237" y="10096"/>
                </a:cubicBezTo>
                <a:cubicBezTo>
                  <a:pt x="11229" y="10088"/>
                  <a:pt x="11220" y="10079"/>
                  <a:pt x="11212" y="10071"/>
                </a:cubicBezTo>
                <a:cubicBezTo>
                  <a:pt x="11195" y="10134"/>
                  <a:pt x="11169" y="10221"/>
                  <a:pt x="11162" y="10294"/>
                </a:cubicBezTo>
                <a:cubicBezTo>
                  <a:pt x="11149" y="10435"/>
                  <a:pt x="11129" y="10576"/>
                  <a:pt x="11112" y="10716"/>
                </a:cubicBezTo>
                <a:cubicBezTo>
                  <a:pt x="11089" y="10899"/>
                  <a:pt x="11043" y="11081"/>
                  <a:pt x="11013" y="11261"/>
                </a:cubicBezTo>
                <a:cubicBezTo>
                  <a:pt x="10976" y="11483"/>
                  <a:pt x="11005" y="11483"/>
                  <a:pt x="10988" y="11311"/>
                </a:cubicBezTo>
                <a:cubicBezTo>
                  <a:pt x="11015" y="11204"/>
                  <a:pt x="11017" y="11095"/>
                  <a:pt x="11038" y="10988"/>
                </a:cubicBezTo>
                <a:cubicBezTo>
                  <a:pt x="11061" y="10868"/>
                  <a:pt x="11116" y="10776"/>
                  <a:pt x="11162" y="10666"/>
                </a:cubicBezTo>
                <a:cubicBezTo>
                  <a:pt x="11198" y="10579"/>
                  <a:pt x="11215" y="10459"/>
                  <a:pt x="11336" y="10443"/>
                </a:cubicBezTo>
                <a:cubicBezTo>
                  <a:pt x="11395" y="10443"/>
                  <a:pt x="11421" y="10446"/>
                  <a:pt x="11460" y="10468"/>
                </a:cubicBezTo>
                <a:cubicBezTo>
                  <a:pt x="11507" y="10549"/>
                  <a:pt x="11514" y="10600"/>
                  <a:pt x="11534" y="10691"/>
                </a:cubicBezTo>
                <a:cubicBezTo>
                  <a:pt x="11568" y="10847"/>
                  <a:pt x="11596" y="11004"/>
                  <a:pt x="11609" y="11162"/>
                </a:cubicBezTo>
                <a:cubicBezTo>
                  <a:pt x="11621" y="11311"/>
                  <a:pt x="11646" y="11440"/>
                  <a:pt x="11683" y="11584"/>
                </a:cubicBezTo>
                <a:cubicBezTo>
                  <a:pt x="11712" y="11697"/>
                  <a:pt x="11709" y="11695"/>
                  <a:pt x="11807" y="11757"/>
                </a:cubicBezTo>
                <a:cubicBezTo>
                  <a:pt x="11873" y="11700"/>
                  <a:pt x="11925" y="11654"/>
                  <a:pt x="11981" y="11584"/>
                </a:cubicBezTo>
                <a:cubicBezTo>
                  <a:pt x="12080" y="11460"/>
                  <a:pt x="12118" y="11326"/>
                  <a:pt x="12179" y="11187"/>
                </a:cubicBezTo>
                <a:cubicBezTo>
                  <a:pt x="12259" y="11005"/>
                  <a:pt x="12335" y="10847"/>
                  <a:pt x="12452" y="10691"/>
                </a:cubicBezTo>
                <a:cubicBezTo>
                  <a:pt x="12561" y="10546"/>
                  <a:pt x="12614" y="10497"/>
                  <a:pt x="12799" y="10468"/>
                </a:cubicBezTo>
                <a:cubicBezTo>
                  <a:pt x="12816" y="10468"/>
                  <a:pt x="12832" y="10468"/>
                  <a:pt x="12849" y="10468"/>
                </a:cubicBezTo>
                <a:cubicBezTo>
                  <a:pt x="12936" y="10532"/>
                  <a:pt x="13005" y="10581"/>
                  <a:pt x="13022" y="10716"/>
                </a:cubicBezTo>
                <a:cubicBezTo>
                  <a:pt x="13042" y="10871"/>
                  <a:pt x="13024" y="11032"/>
                  <a:pt x="13047" y="11187"/>
                </a:cubicBezTo>
                <a:cubicBezTo>
                  <a:pt x="13070" y="11337"/>
                  <a:pt x="13090" y="11483"/>
                  <a:pt x="13122" y="11633"/>
                </a:cubicBezTo>
                <a:cubicBezTo>
                  <a:pt x="13148" y="11758"/>
                  <a:pt x="13175" y="11871"/>
                  <a:pt x="13246" y="11981"/>
                </a:cubicBezTo>
                <a:cubicBezTo>
                  <a:pt x="13262" y="11997"/>
                  <a:pt x="13279" y="12014"/>
                  <a:pt x="13295" y="12030"/>
                </a:cubicBezTo>
                <a:cubicBezTo>
                  <a:pt x="13401" y="11965"/>
                  <a:pt x="13367" y="12022"/>
                  <a:pt x="13419" y="11881"/>
                </a:cubicBezTo>
                <a:cubicBezTo>
                  <a:pt x="13458" y="11777"/>
                  <a:pt x="13455" y="11667"/>
                  <a:pt x="13494" y="11559"/>
                </a:cubicBezTo>
                <a:cubicBezTo>
                  <a:pt x="13572" y="11346"/>
                  <a:pt x="13614" y="11118"/>
                  <a:pt x="13717" y="10914"/>
                </a:cubicBezTo>
                <a:cubicBezTo>
                  <a:pt x="13767" y="10814"/>
                  <a:pt x="13787" y="10710"/>
                  <a:pt x="13866" y="10641"/>
                </a:cubicBezTo>
                <a:cubicBezTo>
                  <a:pt x="13956" y="10563"/>
                  <a:pt x="14017" y="10607"/>
                  <a:pt x="14039" y="10716"/>
                </a:cubicBezTo>
                <a:cubicBezTo>
                  <a:pt x="14081" y="10927"/>
                  <a:pt x="13988" y="11152"/>
                  <a:pt x="14064" y="11361"/>
                </a:cubicBezTo>
                <a:cubicBezTo>
                  <a:pt x="14081" y="11386"/>
                  <a:pt x="14097" y="11410"/>
                  <a:pt x="14114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Ink 7"/>
          <p:cNvSpPr/>
          <p:nvPr/>
        </p:nvSpPr>
        <p:spPr>
          <a:xfrm>
            <a:off x="6697800" y="2687760"/>
            <a:ext cx="1687320" cy="1785960"/>
          </a:xfrm>
          <a:custGeom>
            <a:avLst/>
            <a:gdLst/>
            <a:ahLst/>
            <a:rect l="l" t="t" r="r" b="b"/>
            <a:pathLst>
              <a:path w="4689" h="4962">
                <a:moveTo>
                  <a:pt x="18604" y="9996"/>
                </a:moveTo>
                <a:cubicBezTo>
                  <a:pt x="18612" y="9980"/>
                  <a:pt x="18620" y="9963"/>
                  <a:pt x="18628" y="9947"/>
                </a:cubicBezTo>
              </a:path>
              <a:path w="4689" h="4962">
                <a:moveTo>
                  <a:pt x="18628" y="9897"/>
                </a:moveTo>
                <a:cubicBezTo>
                  <a:pt x="18687" y="9901"/>
                  <a:pt x="18756" y="9917"/>
                  <a:pt x="18802" y="9922"/>
                </a:cubicBezTo>
                <a:cubicBezTo>
                  <a:pt x="18930" y="9936"/>
                  <a:pt x="19084" y="9935"/>
                  <a:pt x="19199" y="9947"/>
                </a:cubicBezTo>
                <a:cubicBezTo>
                  <a:pt x="19345" y="9962"/>
                  <a:pt x="19501" y="9960"/>
                  <a:pt x="19645" y="9971"/>
                </a:cubicBezTo>
                <a:cubicBezTo>
                  <a:pt x="19869" y="9988"/>
                  <a:pt x="20097" y="9962"/>
                  <a:pt x="20315" y="9947"/>
                </a:cubicBezTo>
                <a:cubicBezTo>
                  <a:pt x="20801" y="9914"/>
                  <a:pt x="21293" y="9954"/>
                  <a:pt x="21779" y="9922"/>
                </a:cubicBezTo>
                <a:cubicBezTo>
                  <a:pt x="21945" y="9911"/>
                  <a:pt x="22113" y="9911"/>
                  <a:pt x="22275" y="9897"/>
                </a:cubicBezTo>
                <a:cubicBezTo>
                  <a:pt x="22461" y="9881"/>
                  <a:pt x="22660" y="9877"/>
                  <a:pt x="22845" y="9872"/>
                </a:cubicBezTo>
                <a:cubicBezTo>
                  <a:pt x="22994" y="9868"/>
                  <a:pt x="23143" y="9872"/>
                  <a:pt x="23292" y="9872"/>
                </a:cubicBezTo>
              </a:path>
              <a:path w="4689" h="4962">
                <a:moveTo>
                  <a:pt x="19943" y="10344"/>
                </a:moveTo>
                <a:cubicBezTo>
                  <a:pt x="19935" y="10352"/>
                  <a:pt x="19926" y="10360"/>
                  <a:pt x="19918" y="10368"/>
                </a:cubicBezTo>
              </a:path>
              <a:path w="4689" h="4962">
                <a:moveTo>
                  <a:pt x="19893" y="10443"/>
                </a:moveTo>
                <a:cubicBezTo>
                  <a:pt x="19958" y="10378"/>
                  <a:pt x="20010" y="10315"/>
                  <a:pt x="20067" y="10244"/>
                </a:cubicBezTo>
                <a:cubicBezTo>
                  <a:pt x="20100" y="10203"/>
                  <a:pt x="20191" y="10134"/>
                  <a:pt x="20241" y="10120"/>
                </a:cubicBezTo>
                <a:cubicBezTo>
                  <a:pt x="20279" y="10109"/>
                  <a:pt x="20353" y="10155"/>
                  <a:pt x="20365" y="10195"/>
                </a:cubicBezTo>
                <a:cubicBezTo>
                  <a:pt x="20390" y="10282"/>
                  <a:pt x="20347" y="10367"/>
                  <a:pt x="20315" y="10443"/>
                </a:cubicBezTo>
                <a:cubicBezTo>
                  <a:pt x="20268" y="10556"/>
                  <a:pt x="20224" y="10652"/>
                  <a:pt x="20141" y="10740"/>
                </a:cubicBezTo>
                <a:cubicBezTo>
                  <a:pt x="20080" y="10805"/>
                  <a:pt x="20033" y="10874"/>
                  <a:pt x="19968" y="10939"/>
                </a:cubicBezTo>
                <a:cubicBezTo>
                  <a:pt x="19919" y="10987"/>
                  <a:pt x="19873" y="11043"/>
                  <a:pt x="19794" y="11013"/>
                </a:cubicBezTo>
                <a:cubicBezTo>
                  <a:pt x="19744" y="10994"/>
                  <a:pt x="19723" y="10933"/>
                  <a:pt x="19720" y="10889"/>
                </a:cubicBezTo>
                <a:cubicBezTo>
                  <a:pt x="19715" y="10809"/>
                  <a:pt x="19789" y="10770"/>
                  <a:pt x="19844" y="10716"/>
                </a:cubicBezTo>
                <a:cubicBezTo>
                  <a:pt x="19902" y="10658"/>
                  <a:pt x="19996" y="10660"/>
                  <a:pt x="20067" y="10691"/>
                </a:cubicBezTo>
                <a:cubicBezTo>
                  <a:pt x="20133" y="10719"/>
                  <a:pt x="20190" y="10799"/>
                  <a:pt x="20265" y="10815"/>
                </a:cubicBezTo>
                <a:cubicBezTo>
                  <a:pt x="20290" y="10815"/>
                  <a:pt x="20315" y="10815"/>
                  <a:pt x="20340" y="10815"/>
                </a:cubicBezTo>
              </a:path>
              <a:path w="4689" h="4962">
                <a:moveTo>
                  <a:pt x="19447" y="11088"/>
                </a:moveTo>
                <a:cubicBezTo>
                  <a:pt x="19503" y="11143"/>
                  <a:pt x="19544" y="11136"/>
                  <a:pt x="19621" y="11112"/>
                </a:cubicBezTo>
                <a:cubicBezTo>
                  <a:pt x="19704" y="11086"/>
                  <a:pt x="19779" y="11067"/>
                  <a:pt x="19869" y="11063"/>
                </a:cubicBezTo>
                <a:cubicBezTo>
                  <a:pt x="19970" y="11058"/>
                  <a:pt x="20064" y="11038"/>
                  <a:pt x="20166" y="11038"/>
                </a:cubicBezTo>
                <a:cubicBezTo>
                  <a:pt x="20265" y="11038"/>
                  <a:pt x="20365" y="11038"/>
                  <a:pt x="20464" y="11038"/>
                </a:cubicBezTo>
              </a:path>
              <a:path w="4689" h="4962">
                <a:moveTo>
                  <a:pt x="19745" y="11385"/>
                </a:moveTo>
                <a:cubicBezTo>
                  <a:pt x="19794" y="11356"/>
                  <a:pt x="19825" y="11356"/>
                  <a:pt x="19869" y="11311"/>
                </a:cubicBezTo>
                <a:cubicBezTo>
                  <a:pt x="19916" y="11263"/>
                  <a:pt x="19998" y="11223"/>
                  <a:pt x="20067" y="11237"/>
                </a:cubicBezTo>
                <a:cubicBezTo>
                  <a:pt x="20167" y="11257"/>
                  <a:pt x="20103" y="11380"/>
                  <a:pt x="20067" y="11435"/>
                </a:cubicBezTo>
                <a:cubicBezTo>
                  <a:pt x="20025" y="11500"/>
                  <a:pt x="19948" y="11554"/>
                  <a:pt x="19893" y="11609"/>
                </a:cubicBezTo>
                <a:cubicBezTo>
                  <a:pt x="19937" y="11565"/>
                  <a:pt x="19968" y="11560"/>
                  <a:pt x="20017" y="11534"/>
                </a:cubicBezTo>
                <a:cubicBezTo>
                  <a:pt x="20100" y="11489"/>
                  <a:pt x="20118" y="11520"/>
                  <a:pt x="20191" y="11559"/>
                </a:cubicBezTo>
                <a:cubicBezTo>
                  <a:pt x="20281" y="11607"/>
                  <a:pt x="20265" y="11662"/>
                  <a:pt x="20265" y="11757"/>
                </a:cubicBezTo>
                <a:cubicBezTo>
                  <a:pt x="20265" y="11852"/>
                  <a:pt x="20268" y="11924"/>
                  <a:pt x="20216" y="12005"/>
                </a:cubicBezTo>
                <a:cubicBezTo>
                  <a:pt x="20167" y="12082"/>
                  <a:pt x="20123" y="12140"/>
                  <a:pt x="20067" y="12204"/>
                </a:cubicBezTo>
                <a:cubicBezTo>
                  <a:pt x="19986" y="12297"/>
                  <a:pt x="19905" y="12330"/>
                  <a:pt x="19794" y="12378"/>
                </a:cubicBezTo>
                <a:cubicBezTo>
                  <a:pt x="19735" y="12403"/>
                  <a:pt x="19665" y="12454"/>
                  <a:pt x="19596" y="12427"/>
                </a:cubicBezTo>
                <a:cubicBezTo>
                  <a:pt x="19588" y="12419"/>
                  <a:pt x="19579" y="12410"/>
                  <a:pt x="19571" y="12402"/>
                </a:cubicBezTo>
              </a:path>
              <a:path w="4689" h="4962">
                <a:moveTo>
                  <a:pt x="19124" y="7888"/>
                </a:moveTo>
                <a:cubicBezTo>
                  <a:pt x="19184" y="7924"/>
                  <a:pt x="19248" y="7934"/>
                  <a:pt x="19323" y="7938"/>
                </a:cubicBezTo>
                <a:cubicBezTo>
                  <a:pt x="19372" y="7940"/>
                  <a:pt x="19423" y="7938"/>
                  <a:pt x="19472" y="7938"/>
                </a:cubicBezTo>
              </a:path>
              <a:path w="4689" h="4962">
                <a:moveTo>
                  <a:pt x="19670" y="7516"/>
                </a:moveTo>
                <a:cubicBezTo>
                  <a:pt x="19670" y="7590"/>
                  <a:pt x="19675" y="7652"/>
                  <a:pt x="19645" y="7714"/>
                </a:cubicBezTo>
                <a:cubicBezTo>
                  <a:pt x="19621" y="7764"/>
                  <a:pt x="19559" y="7840"/>
                  <a:pt x="19546" y="7888"/>
                </a:cubicBezTo>
                <a:cubicBezTo>
                  <a:pt x="19525" y="7968"/>
                  <a:pt x="19545" y="8007"/>
                  <a:pt x="19621" y="8012"/>
                </a:cubicBezTo>
                <a:cubicBezTo>
                  <a:pt x="19692" y="8016"/>
                  <a:pt x="19754" y="8028"/>
                  <a:pt x="19819" y="8037"/>
                </a:cubicBezTo>
                <a:cubicBezTo>
                  <a:pt x="19877" y="8037"/>
                  <a:pt x="19885" y="8037"/>
                  <a:pt x="19918" y="8037"/>
                </a:cubicBezTo>
              </a:path>
              <a:path w="4689" h="4962">
                <a:moveTo>
                  <a:pt x="19968" y="7466"/>
                </a:moveTo>
                <a:cubicBezTo>
                  <a:pt x="19968" y="7589"/>
                  <a:pt x="19960" y="7695"/>
                  <a:pt x="19943" y="7813"/>
                </a:cubicBezTo>
                <a:cubicBezTo>
                  <a:pt x="19932" y="7886"/>
                  <a:pt x="19922" y="7964"/>
                  <a:pt x="19918" y="8037"/>
                </a:cubicBezTo>
                <a:cubicBezTo>
                  <a:pt x="19910" y="8196"/>
                  <a:pt x="19922" y="8363"/>
                  <a:pt x="19893" y="8508"/>
                </a:cubicBezTo>
                <a:cubicBezTo>
                  <a:pt x="19893" y="8550"/>
                  <a:pt x="19885" y="8566"/>
                  <a:pt x="19918" y="8558"/>
                </a:cubicBezTo>
              </a:path>
              <a:path w="4689" h="4962">
                <a:moveTo>
                  <a:pt x="20315" y="8136"/>
                </a:moveTo>
                <a:cubicBezTo>
                  <a:pt x="20396" y="8136"/>
                  <a:pt x="20442" y="8158"/>
                  <a:pt x="20513" y="8161"/>
                </a:cubicBezTo>
                <a:cubicBezTo>
                  <a:pt x="20591" y="8165"/>
                  <a:pt x="20710" y="8216"/>
                  <a:pt x="20786" y="8186"/>
                </a:cubicBezTo>
                <a:cubicBezTo>
                  <a:pt x="20794" y="8178"/>
                  <a:pt x="20803" y="8169"/>
                  <a:pt x="20811" y="8161"/>
                </a:cubicBezTo>
              </a:path>
              <a:path w="4689" h="4962">
                <a:moveTo>
                  <a:pt x="20538" y="7838"/>
                </a:moveTo>
                <a:cubicBezTo>
                  <a:pt x="20597" y="7897"/>
                  <a:pt x="20567" y="7913"/>
                  <a:pt x="20588" y="7987"/>
                </a:cubicBezTo>
                <a:cubicBezTo>
                  <a:pt x="20612" y="8072"/>
                  <a:pt x="20613" y="8144"/>
                  <a:pt x="20613" y="8235"/>
                </a:cubicBezTo>
                <a:cubicBezTo>
                  <a:pt x="20613" y="8276"/>
                  <a:pt x="20613" y="8318"/>
                  <a:pt x="20613" y="8359"/>
                </a:cubicBezTo>
              </a:path>
              <a:path w="4689" h="4962">
                <a:moveTo>
                  <a:pt x="20935" y="7739"/>
                </a:moveTo>
                <a:cubicBezTo>
                  <a:pt x="20990" y="7690"/>
                  <a:pt x="21069" y="7595"/>
                  <a:pt x="21158" y="7615"/>
                </a:cubicBezTo>
                <a:cubicBezTo>
                  <a:pt x="21247" y="7635"/>
                  <a:pt x="21275" y="7684"/>
                  <a:pt x="21307" y="7739"/>
                </a:cubicBezTo>
                <a:cubicBezTo>
                  <a:pt x="21354" y="7819"/>
                  <a:pt x="21301" y="7836"/>
                  <a:pt x="21258" y="7913"/>
                </a:cubicBezTo>
                <a:cubicBezTo>
                  <a:pt x="21228" y="7967"/>
                  <a:pt x="21182" y="8032"/>
                  <a:pt x="21158" y="8086"/>
                </a:cubicBezTo>
                <a:cubicBezTo>
                  <a:pt x="21125" y="8161"/>
                  <a:pt x="21089" y="8197"/>
                  <a:pt x="21034" y="8260"/>
                </a:cubicBezTo>
                <a:cubicBezTo>
                  <a:pt x="20999" y="8300"/>
                  <a:pt x="20992" y="8358"/>
                  <a:pt x="20985" y="8409"/>
                </a:cubicBezTo>
                <a:cubicBezTo>
                  <a:pt x="21075" y="8409"/>
                  <a:pt x="21149" y="8398"/>
                  <a:pt x="21233" y="8384"/>
                </a:cubicBezTo>
                <a:cubicBezTo>
                  <a:pt x="21313" y="8371"/>
                  <a:pt x="21375" y="8381"/>
                  <a:pt x="21456" y="8359"/>
                </a:cubicBezTo>
              </a:path>
              <a:path w="4689" h="4962">
                <a:moveTo>
                  <a:pt x="21630" y="8037"/>
                </a:moveTo>
                <a:cubicBezTo>
                  <a:pt x="21630" y="8118"/>
                  <a:pt x="21615" y="8195"/>
                  <a:pt x="21605" y="8260"/>
                </a:cubicBezTo>
                <a:cubicBezTo>
                  <a:pt x="21595" y="8324"/>
                  <a:pt x="21622" y="8373"/>
                  <a:pt x="21630" y="8434"/>
                </a:cubicBezTo>
                <a:cubicBezTo>
                  <a:pt x="21630" y="8357"/>
                  <a:pt x="21608" y="8304"/>
                  <a:pt x="21605" y="8235"/>
                </a:cubicBezTo>
                <a:cubicBezTo>
                  <a:pt x="21601" y="8149"/>
                  <a:pt x="21608" y="8090"/>
                  <a:pt x="21630" y="8012"/>
                </a:cubicBezTo>
                <a:cubicBezTo>
                  <a:pt x="21659" y="7908"/>
                  <a:pt x="21653" y="7891"/>
                  <a:pt x="21704" y="7813"/>
                </a:cubicBezTo>
                <a:cubicBezTo>
                  <a:pt x="21752" y="7739"/>
                  <a:pt x="21770" y="7714"/>
                  <a:pt x="21853" y="7689"/>
                </a:cubicBezTo>
                <a:cubicBezTo>
                  <a:pt x="21934" y="7665"/>
                  <a:pt x="22002" y="7637"/>
                  <a:pt x="22076" y="7615"/>
                </a:cubicBezTo>
                <a:cubicBezTo>
                  <a:pt x="22172" y="7586"/>
                  <a:pt x="22223" y="7589"/>
                  <a:pt x="22324" y="7615"/>
                </a:cubicBezTo>
              </a:path>
              <a:path w="4689" h="4962">
                <a:moveTo>
                  <a:pt x="21977" y="7813"/>
                </a:moveTo>
                <a:cubicBezTo>
                  <a:pt x="22068" y="7813"/>
                  <a:pt x="22190" y="7811"/>
                  <a:pt x="22275" y="7838"/>
                </a:cubicBezTo>
                <a:cubicBezTo>
                  <a:pt x="22326" y="7854"/>
                  <a:pt x="22399" y="7883"/>
                  <a:pt x="22374" y="7962"/>
                </a:cubicBezTo>
                <a:cubicBezTo>
                  <a:pt x="22358" y="8014"/>
                  <a:pt x="22264" y="8038"/>
                  <a:pt x="22225" y="8062"/>
                </a:cubicBezTo>
                <a:cubicBezTo>
                  <a:pt x="22200" y="8078"/>
                  <a:pt x="22176" y="8095"/>
                  <a:pt x="22151" y="8111"/>
                </a:cubicBezTo>
                <a:cubicBezTo>
                  <a:pt x="22202" y="8203"/>
                  <a:pt x="22235" y="8185"/>
                  <a:pt x="22324" y="8235"/>
                </a:cubicBezTo>
                <a:cubicBezTo>
                  <a:pt x="22385" y="8269"/>
                  <a:pt x="22388" y="8330"/>
                  <a:pt x="22349" y="8384"/>
                </a:cubicBezTo>
                <a:cubicBezTo>
                  <a:pt x="22310" y="8438"/>
                  <a:pt x="22170" y="8484"/>
                  <a:pt x="22101" y="8508"/>
                </a:cubicBezTo>
                <a:cubicBezTo>
                  <a:pt x="22068" y="8516"/>
                  <a:pt x="22035" y="8525"/>
                  <a:pt x="22002" y="8533"/>
                </a:cubicBezTo>
              </a:path>
              <a:path w="4689" h="4962">
                <a:moveTo>
                  <a:pt x="20117" y="8682"/>
                </a:moveTo>
                <a:cubicBezTo>
                  <a:pt x="20209" y="8712"/>
                  <a:pt x="20297" y="8685"/>
                  <a:pt x="20389" y="8706"/>
                </a:cubicBezTo>
                <a:cubicBezTo>
                  <a:pt x="20475" y="8726"/>
                  <a:pt x="20545" y="8731"/>
                  <a:pt x="20638" y="8731"/>
                </a:cubicBezTo>
                <a:cubicBezTo>
                  <a:pt x="20831" y="8731"/>
                  <a:pt x="21017" y="8737"/>
                  <a:pt x="21208" y="8706"/>
                </a:cubicBezTo>
                <a:cubicBezTo>
                  <a:pt x="21339" y="8685"/>
                  <a:pt x="21475" y="8680"/>
                  <a:pt x="21605" y="8657"/>
                </a:cubicBezTo>
                <a:cubicBezTo>
                  <a:pt x="21708" y="8639"/>
                  <a:pt x="21827" y="8655"/>
                  <a:pt x="21927" y="8632"/>
                </a:cubicBezTo>
                <a:cubicBezTo>
                  <a:pt x="21975" y="8608"/>
                  <a:pt x="21990" y="8600"/>
                  <a:pt x="22027" y="8607"/>
                </a:cubicBezTo>
              </a:path>
              <a:path w="4689" h="4962">
                <a:moveTo>
                  <a:pt x="20985" y="9054"/>
                </a:moveTo>
                <a:cubicBezTo>
                  <a:pt x="21034" y="9014"/>
                  <a:pt x="21096" y="8989"/>
                  <a:pt x="21158" y="8979"/>
                </a:cubicBezTo>
                <a:cubicBezTo>
                  <a:pt x="21234" y="8966"/>
                  <a:pt x="21304" y="8954"/>
                  <a:pt x="21382" y="8954"/>
                </a:cubicBezTo>
                <a:cubicBezTo>
                  <a:pt x="21452" y="8954"/>
                  <a:pt x="21477" y="8947"/>
                  <a:pt x="21530" y="8979"/>
                </a:cubicBezTo>
                <a:cubicBezTo>
                  <a:pt x="21486" y="9035"/>
                  <a:pt x="21443" y="9088"/>
                  <a:pt x="21382" y="9128"/>
                </a:cubicBezTo>
                <a:cubicBezTo>
                  <a:pt x="21333" y="9159"/>
                  <a:pt x="21280" y="9172"/>
                  <a:pt x="21233" y="9203"/>
                </a:cubicBezTo>
                <a:cubicBezTo>
                  <a:pt x="21302" y="9257"/>
                  <a:pt x="21380" y="9262"/>
                  <a:pt x="21456" y="9302"/>
                </a:cubicBezTo>
                <a:cubicBezTo>
                  <a:pt x="21488" y="9319"/>
                  <a:pt x="21566" y="9329"/>
                  <a:pt x="21580" y="9376"/>
                </a:cubicBezTo>
                <a:cubicBezTo>
                  <a:pt x="21596" y="9433"/>
                  <a:pt x="21520" y="9494"/>
                  <a:pt x="21481" y="9525"/>
                </a:cubicBezTo>
                <a:cubicBezTo>
                  <a:pt x="21408" y="9582"/>
                  <a:pt x="21315" y="9639"/>
                  <a:pt x="21233" y="9674"/>
                </a:cubicBezTo>
                <a:cubicBezTo>
                  <a:pt x="21130" y="9718"/>
                  <a:pt x="21017" y="9741"/>
                  <a:pt x="20910" y="9773"/>
                </a:cubicBezTo>
                <a:cubicBezTo>
                  <a:pt x="20885" y="9781"/>
                  <a:pt x="20861" y="9790"/>
                  <a:pt x="20836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Ink 8"/>
          <p:cNvSpPr/>
          <p:nvPr/>
        </p:nvSpPr>
        <p:spPr>
          <a:xfrm>
            <a:off x="3946680" y="4633920"/>
            <a:ext cx="3975120" cy="822240"/>
          </a:xfrm>
          <a:custGeom>
            <a:avLst/>
            <a:gdLst/>
            <a:ahLst/>
            <a:rect l="l" t="t" r="r" b="b"/>
            <a:pathLst>
              <a:path w="11039" h="2283">
                <a:moveTo>
                  <a:pt x="10964" y="13494"/>
                </a:moveTo>
                <a:cubicBezTo>
                  <a:pt x="11098" y="13494"/>
                  <a:pt x="11236" y="13481"/>
                  <a:pt x="11361" y="13519"/>
                </a:cubicBezTo>
              </a:path>
              <a:path w="11039" h="2283">
                <a:moveTo>
                  <a:pt x="10964" y="13742"/>
                </a:moveTo>
                <a:cubicBezTo>
                  <a:pt x="11034" y="13763"/>
                  <a:pt x="11135" y="13789"/>
                  <a:pt x="11212" y="13767"/>
                </a:cubicBezTo>
                <a:cubicBezTo>
                  <a:pt x="11281" y="13732"/>
                  <a:pt x="11321" y="13723"/>
                  <a:pt x="11385" y="13742"/>
                </a:cubicBezTo>
              </a:path>
              <a:path w="11039" h="2283">
                <a:moveTo>
                  <a:pt x="11683" y="13444"/>
                </a:moveTo>
                <a:cubicBezTo>
                  <a:pt x="11766" y="13432"/>
                  <a:pt x="11869" y="13417"/>
                  <a:pt x="11956" y="13395"/>
                </a:cubicBezTo>
                <a:cubicBezTo>
                  <a:pt x="11972" y="13387"/>
                  <a:pt x="11989" y="13378"/>
                  <a:pt x="12005" y="13370"/>
                </a:cubicBezTo>
              </a:path>
              <a:path w="11039" h="2283">
                <a:moveTo>
                  <a:pt x="12378" y="13022"/>
                </a:moveTo>
                <a:cubicBezTo>
                  <a:pt x="12342" y="13085"/>
                  <a:pt x="12307" y="13121"/>
                  <a:pt x="12303" y="13196"/>
                </a:cubicBezTo>
                <a:cubicBezTo>
                  <a:pt x="12299" y="13271"/>
                  <a:pt x="12308" y="13332"/>
                  <a:pt x="12353" y="13395"/>
                </a:cubicBezTo>
                <a:cubicBezTo>
                  <a:pt x="12402" y="13465"/>
                  <a:pt x="12474" y="13444"/>
                  <a:pt x="12551" y="13444"/>
                </a:cubicBezTo>
              </a:path>
              <a:path w="11039" h="2283">
                <a:moveTo>
                  <a:pt x="12675" y="12874"/>
                </a:moveTo>
                <a:cubicBezTo>
                  <a:pt x="12625" y="12923"/>
                  <a:pt x="12611" y="12974"/>
                  <a:pt x="12601" y="13047"/>
                </a:cubicBezTo>
                <a:cubicBezTo>
                  <a:pt x="12583" y="13171"/>
                  <a:pt x="12576" y="13294"/>
                  <a:pt x="12576" y="13419"/>
                </a:cubicBezTo>
                <a:cubicBezTo>
                  <a:pt x="12576" y="13515"/>
                  <a:pt x="12596" y="13599"/>
                  <a:pt x="12601" y="13692"/>
                </a:cubicBezTo>
                <a:cubicBezTo>
                  <a:pt x="12605" y="13764"/>
                  <a:pt x="12580" y="13834"/>
                  <a:pt x="12650" y="13816"/>
                </a:cubicBezTo>
              </a:path>
              <a:path w="11039" h="2283">
                <a:moveTo>
                  <a:pt x="12898" y="13097"/>
                </a:moveTo>
                <a:cubicBezTo>
                  <a:pt x="12898" y="13202"/>
                  <a:pt x="12912" y="13294"/>
                  <a:pt x="12923" y="13395"/>
                </a:cubicBezTo>
                <a:cubicBezTo>
                  <a:pt x="12933" y="13485"/>
                  <a:pt x="12954" y="13534"/>
                  <a:pt x="12973" y="13618"/>
                </a:cubicBezTo>
                <a:cubicBezTo>
                  <a:pt x="12973" y="13634"/>
                  <a:pt x="12973" y="13651"/>
                  <a:pt x="12973" y="13667"/>
                </a:cubicBezTo>
              </a:path>
              <a:path w="11039" h="2283">
                <a:moveTo>
                  <a:pt x="12774" y="13345"/>
                </a:moveTo>
                <a:cubicBezTo>
                  <a:pt x="12891" y="13320"/>
                  <a:pt x="13004" y="13317"/>
                  <a:pt x="13122" y="13295"/>
                </a:cubicBezTo>
              </a:path>
              <a:path w="11039" h="2283">
                <a:moveTo>
                  <a:pt x="13271" y="13072"/>
                </a:moveTo>
                <a:cubicBezTo>
                  <a:pt x="13335" y="13081"/>
                  <a:pt x="13418" y="13098"/>
                  <a:pt x="13444" y="13171"/>
                </a:cubicBezTo>
                <a:cubicBezTo>
                  <a:pt x="13461" y="13220"/>
                  <a:pt x="13449" y="13310"/>
                  <a:pt x="13419" y="13345"/>
                </a:cubicBezTo>
                <a:cubicBezTo>
                  <a:pt x="13363" y="13410"/>
                  <a:pt x="13297" y="13453"/>
                  <a:pt x="13246" y="13519"/>
                </a:cubicBezTo>
                <a:cubicBezTo>
                  <a:pt x="13220" y="13553"/>
                  <a:pt x="13157" y="13649"/>
                  <a:pt x="13171" y="13692"/>
                </a:cubicBezTo>
                <a:cubicBezTo>
                  <a:pt x="13188" y="13744"/>
                  <a:pt x="13250" y="13789"/>
                  <a:pt x="13295" y="13816"/>
                </a:cubicBezTo>
                <a:cubicBezTo>
                  <a:pt x="13353" y="13851"/>
                  <a:pt x="13402" y="13841"/>
                  <a:pt x="13469" y="13841"/>
                </a:cubicBezTo>
              </a:path>
              <a:path w="11039" h="2283">
                <a:moveTo>
                  <a:pt x="13643" y="13246"/>
                </a:moveTo>
                <a:cubicBezTo>
                  <a:pt x="13576" y="13224"/>
                  <a:pt x="13613" y="13353"/>
                  <a:pt x="13618" y="13419"/>
                </a:cubicBezTo>
                <a:cubicBezTo>
                  <a:pt x="13626" y="13531"/>
                  <a:pt x="13649" y="13631"/>
                  <a:pt x="13667" y="13742"/>
                </a:cubicBezTo>
                <a:cubicBezTo>
                  <a:pt x="13677" y="13802"/>
                  <a:pt x="13672" y="13973"/>
                  <a:pt x="13692" y="13915"/>
                </a:cubicBezTo>
                <a:cubicBezTo>
                  <a:pt x="13716" y="13846"/>
                  <a:pt x="13667" y="13674"/>
                  <a:pt x="13667" y="13593"/>
                </a:cubicBezTo>
                <a:cubicBezTo>
                  <a:pt x="13667" y="13496"/>
                  <a:pt x="13685" y="13413"/>
                  <a:pt x="13692" y="13320"/>
                </a:cubicBezTo>
                <a:cubicBezTo>
                  <a:pt x="13696" y="13264"/>
                  <a:pt x="13753" y="13257"/>
                  <a:pt x="13791" y="13221"/>
                </a:cubicBezTo>
                <a:cubicBezTo>
                  <a:pt x="13866" y="13149"/>
                  <a:pt x="13905" y="13145"/>
                  <a:pt x="13990" y="13097"/>
                </a:cubicBezTo>
              </a:path>
              <a:path w="11039" h="2283">
                <a:moveTo>
                  <a:pt x="13891" y="13370"/>
                </a:moveTo>
                <a:cubicBezTo>
                  <a:pt x="13869" y="13413"/>
                  <a:pt x="13856" y="13425"/>
                  <a:pt x="13891" y="13444"/>
                </a:cubicBezTo>
                <a:cubicBezTo>
                  <a:pt x="13960" y="13434"/>
                  <a:pt x="13993" y="13400"/>
                  <a:pt x="14064" y="13444"/>
                </a:cubicBezTo>
                <a:cubicBezTo>
                  <a:pt x="14089" y="13469"/>
                  <a:pt x="14097" y="13477"/>
                  <a:pt x="14114" y="13494"/>
                </a:cubicBezTo>
                <a:cubicBezTo>
                  <a:pt x="14063" y="13581"/>
                  <a:pt x="14045" y="13556"/>
                  <a:pt x="13965" y="13593"/>
                </a:cubicBezTo>
                <a:cubicBezTo>
                  <a:pt x="13937" y="13621"/>
                  <a:pt x="13924" y="13630"/>
                  <a:pt x="13891" y="13618"/>
                </a:cubicBezTo>
                <a:cubicBezTo>
                  <a:pt x="13944" y="13638"/>
                  <a:pt x="14015" y="13658"/>
                  <a:pt x="14064" y="13667"/>
                </a:cubicBezTo>
                <a:cubicBezTo>
                  <a:pt x="14113" y="13676"/>
                  <a:pt x="14192" y="13746"/>
                  <a:pt x="14188" y="13816"/>
                </a:cubicBezTo>
                <a:cubicBezTo>
                  <a:pt x="14182" y="13922"/>
                  <a:pt x="14072" y="13897"/>
                  <a:pt x="14015" y="13891"/>
                </a:cubicBezTo>
                <a:cubicBezTo>
                  <a:pt x="13927" y="13882"/>
                  <a:pt x="13873" y="13859"/>
                  <a:pt x="13791" y="13841"/>
                </a:cubicBezTo>
                <a:cubicBezTo>
                  <a:pt x="13732" y="13828"/>
                  <a:pt x="13708" y="13831"/>
                  <a:pt x="13692" y="13767"/>
                </a:cubicBezTo>
              </a:path>
              <a:path w="11039" h="2283">
                <a:moveTo>
                  <a:pt x="14039" y="14015"/>
                </a:moveTo>
                <a:cubicBezTo>
                  <a:pt x="13919" y="14040"/>
                  <a:pt x="13787" y="14075"/>
                  <a:pt x="13667" y="14089"/>
                </a:cubicBezTo>
                <a:cubicBezTo>
                  <a:pt x="13535" y="14104"/>
                  <a:pt x="13403" y="14150"/>
                  <a:pt x="13271" y="14163"/>
                </a:cubicBezTo>
                <a:cubicBezTo>
                  <a:pt x="13124" y="14177"/>
                  <a:pt x="12971" y="14184"/>
                  <a:pt x="12824" y="14188"/>
                </a:cubicBezTo>
                <a:cubicBezTo>
                  <a:pt x="12711" y="14191"/>
                  <a:pt x="12589" y="14198"/>
                  <a:pt x="12477" y="14213"/>
                </a:cubicBezTo>
                <a:cubicBezTo>
                  <a:pt x="12376" y="14233"/>
                  <a:pt x="12356" y="14231"/>
                  <a:pt x="12303" y="14263"/>
                </a:cubicBezTo>
              </a:path>
              <a:path w="11039" h="2283">
                <a:moveTo>
                  <a:pt x="13072" y="14188"/>
                </a:moveTo>
                <a:cubicBezTo>
                  <a:pt x="13132" y="14195"/>
                  <a:pt x="13220" y="14201"/>
                  <a:pt x="13271" y="14238"/>
                </a:cubicBezTo>
                <a:cubicBezTo>
                  <a:pt x="13322" y="14275"/>
                  <a:pt x="13381" y="14350"/>
                  <a:pt x="13395" y="14412"/>
                </a:cubicBezTo>
                <a:cubicBezTo>
                  <a:pt x="13416" y="14504"/>
                  <a:pt x="13311" y="14508"/>
                  <a:pt x="13246" y="14511"/>
                </a:cubicBezTo>
                <a:cubicBezTo>
                  <a:pt x="13180" y="14511"/>
                  <a:pt x="13163" y="14511"/>
                  <a:pt x="13122" y="14511"/>
                </a:cubicBezTo>
                <a:cubicBezTo>
                  <a:pt x="13171" y="14580"/>
                  <a:pt x="13204" y="14574"/>
                  <a:pt x="13271" y="14610"/>
                </a:cubicBezTo>
                <a:cubicBezTo>
                  <a:pt x="13333" y="14643"/>
                  <a:pt x="13369" y="14684"/>
                  <a:pt x="13419" y="14734"/>
                </a:cubicBezTo>
                <a:cubicBezTo>
                  <a:pt x="13501" y="14817"/>
                  <a:pt x="13484" y="14861"/>
                  <a:pt x="13519" y="14957"/>
                </a:cubicBezTo>
                <a:cubicBezTo>
                  <a:pt x="13533" y="14996"/>
                  <a:pt x="13537" y="15087"/>
                  <a:pt x="13469" y="15106"/>
                </a:cubicBezTo>
                <a:cubicBezTo>
                  <a:pt x="13429" y="15117"/>
                  <a:pt x="13294" y="15066"/>
                  <a:pt x="13271" y="15032"/>
                </a:cubicBezTo>
                <a:cubicBezTo>
                  <a:pt x="13249" y="14965"/>
                  <a:pt x="13237" y="14947"/>
                  <a:pt x="13271" y="14908"/>
                </a:cubicBezTo>
              </a:path>
              <a:path w="11039" h="2283">
                <a:moveTo>
                  <a:pt x="14412" y="14114"/>
                </a:moveTo>
                <a:cubicBezTo>
                  <a:pt x="14389" y="14137"/>
                  <a:pt x="14378" y="14145"/>
                  <a:pt x="14412" y="14139"/>
                </a:cubicBezTo>
              </a:path>
              <a:path w="11039" h="2283">
                <a:moveTo>
                  <a:pt x="14858" y="13320"/>
                </a:moveTo>
                <a:cubicBezTo>
                  <a:pt x="14956" y="13286"/>
                  <a:pt x="15061" y="13231"/>
                  <a:pt x="15156" y="13295"/>
                </a:cubicBezTo>
                <a:cubicBezTo>
                  <a:pt x="15225" y="13341"/>
                  <a:pt x="15191" y="13365"/>
                  <a:pt x="15180" y="13419"/>
                </a:cubicBezTo>
                <a:cubicBezTo>
                  <a:pt x="15161" y="13512"/>
                  <a:pt x="15104" y="13484"/>
                  <a:pt x="15032" y="13543"/>
                </a:cubicBezTo>
                <a:cubicBezTo>
                  <a:pt x="14993" y="13575"/>
                  <a:pt x="14954" y="13595"/>
                  <a:pt x="14908" y="13618"/>
                </a:cubicBezTo>
                <a:cubicBezTo>
                  <a:pt x="14975" y="13618"/>
                  <a:pt x="15027" y="13632"/>
                  <a:pt x="15081" y="13643"/>
                </a:cubicBezTo>
                <a:cubicBezTo>
                  <a:pt x="15150" y="13657"/>
                  <a:pt x="15230" y="13658"/>
                  <a:pt x="15255" y="13742"/>
                </a:cubicBezTo>
                <a:cubicBezTo>
                  <a:pt x="15269" y="13790"/>
                  <a:pt x="15269" y="13897"/>
                  <a:pt x="15205" y="13915"/>
                </a:cubicBezTo>
                <a:cubicBezTo>
                  <a:pt x="15157" y="13928"/>
                  <a:pt x="15059" y="13960"/>
                  <a:pt x="15007" y="13940"/>
                </a:cubicBezTo>
                <a:cubicBezTo>
                  <a:pt x="14979" y="13912"/>
                  <a:pt x="14965" y="13903"/>
                  <a:pt x="14932" y="13915"/>
                </a:cubicBezTo>
              </a:path>
              <a:path w="11039" h="2283">
                <a:moveTo>
                  <a:pt x="15429" y="14114"/>
                </a:moveTo>
                <a:cubicBezTo>
                  <a:pt x="15285" y="14189"/>
                  <a:pt x="15227" y="14217"/>
                  <a:pt x="15081" y="14238"/>
                </a:cubicBezTo>
                <a:cubicBezTo>
                  <a:pt x="14999" y="14250"/>
                  <a:pt x="14913" y="14259"/>
                  <a:pt x="14833" y="14263"/>
                </a:cubicBezTo>
                <a:cubicBezTo>
                  <a:pt x="14773" y="14266"/>
                  <a:pt x="14775" y="14272"/>
                  <a:pt x="14734" y="14312"/>
                </a:cubicBezTo>
              </a:path>
              <a:path w="11039" h="2283">
                <a:moveTo>
                  <a:pt x="15032" y="14387"/>
                </a:moveTo>
                <a:cubicBezTo>
                  <a:pt x="15148" y="14387"/>
                  <a:pt x="15247" y="14390"/>
                  <a:pt x="15354" y="14436"/>
                </a:cubicBezTo>
                <a:cubicBezTo>
                  <a:pt x="15402" y="14456"/>
                  <a:pt x="15422" y="14543"/>
                  <a:pt x="15429" y="14585"/>
                </a:cubicBezTo>
                <a:cubicBezTo>
                  <a:pt x="15439" y="14644"/>
                  <a:pt x="15413" y="14784"/>
                  <a:pt x="15379" y="14833"/>
                </a:cubicBezTo>
                <a:cubicBezTo>
                  <a:pt x="15334" y="14898"/>
                  <a:pt x="15278" y="14969"/>
                  <a:pt x="15230" y="15032"/>
                </a:cubicBezTo>
                <a:cubicBezTo>
                  <a:pt x="15206" y="15063"/>
                  <a:pt x="15120" y="15122"/>
                  <a:pt x="15081" y="15131"/>
                </a:cubicBezTo>
                <a:cubicBezTo>
                  <a:pt x="15065" y="15131"/>
                  <a:pt x="15048" y="15131"/>
                  <a:pt x="15032" y="15131"/>
                </a:cubicBezTo>
                <a:cubicBezTo>
                  <a:pt x="15032" y="15052"/>
                  <a:pt x="15027" y="15023"/>
                  <a:pt x="15106" y="15007"/>
                </a:cubicBezTo>
                <a:cubicBezTo>
                  <a:pt x="15178" y="14993"/>
                  <a:pt x="15235" y="15028"/>
                  <a:pt x="15304" y="15032"/>
                </a:cubicBezTo>
                <a:cubicBezTo>
                  <a:pt x="15394" y="15037"/>
                  <a:pt x="15471" y="15093"/>
                  <a:pt x="15553" y="15131"/>
                </a:cubicBezTo>
                <a:cubicBezTo>
                  <a:pt x="15629" y="15166"/>
                  <a:pt x="15628" y="15156"/>
                  <a:pt x="15726" y="15156"/>
                </a:cubicBezTo>
              </a:path>
              <a:path w="11039" h="2283">
                <a:moveTo>
                  <a:pt x="12998" y="14660"/>
                </a:moveTo>
                <a:cubicBezTo>
                  <a:pt x="13104" y="14660"/>
                  <a:pt x="13194" y="14650"/>
                  <a:pt x="13295" y="14610"/>
                </a:cubicBezTo>
                <a:cubicBezTo>
                  <a:pt x="13371" y="14580"/>
                  <a:pt x="13454" y="14555"/>
                  <a:pt x="13519" y="14511"/>
                </a:cubicBezTo>
                <a:cubicBezTo>
                  <a:pt x="13575" y="14474"/>
                  <a:pt x="13697" y="14435"/>
                  <a:pt x="13742" y="14387"/>
                </a:cubicBezTo>
                <a:cubicBezTo>
                  <a:pt x="13794" y="14331"/>
                  <a:pt x="13837" y="14274"/>
                  <a:pt x="13891" y="14213"/>
                </a:cubicBezTo>
              </a:path>
              <a:path w="11039" h="2283">
                <a:moveTo>
                  <a:pt x="14684" y="13643"/>
                </a:moveTo>
                <a:cubicBezTo>
                  <a:pt x="14801" y="13568"/>
                  <a:pt x="14919" y="13494"/>
                  <a:pt x="15032" y="13419"/>
                </a:cubicBezTo>
                <a:cubicBezTo>
                  <a:pt x="15095" y="13377"/>
                  <a:pt x="15166" y="13333"/>
                  <a:pt x="15230" y="13295"/>
                </a:cubicBezTo>
                <a:cubicBezTo>
                  <a:pt x="15289" y="13260"/>
                  <a:pt x="15353" y="13242"/>
                  <a:pt x="15404" y="13196"/>
                </a:cubicBezTo>
                <a:cubicBezTo>
                  <a:pt x="15429" y="13171"/>
                  <a:pt x="15437" y="13163"/>
                  <a:pt x="15453" y="13146"/>
                </a:cubicBezTo>
              </a:path>
              <a:path w="11039" h="2283">
                <a:moveTo>
                  <a:pt x="15875" y="13866"/>
                </a:moveTo>
                <a:cubicBezTo>
                  <a:pt x="15974" y="13866"/>
                  <a:pt x="16007" y="13866"/>
                  <a:pt x="16073" y="13866"/>
                </a:cubicBezTo>
              </a:path>
              <a:path w="11039" h="2283">
                <a:moveTo>
                  <a:pt x="15751" y="14139"/>
                </a:moveTo>
                <a:cubicBezTo>
                  <a:pt x="15833" y="14210"/>
                  <a:pt x="15865" y="14213"/>
                  <a:pt x="15974" y="14213"/>
                </a:cubicBezTo>
                <a:cubicBezTo>
                  <a:pt x="15991" y="14213"/>
                  <a:pt x="16007" y="14213"/>
                  <a:pt x="16024" y="14213"/>
                </a:cubicBezTo>
              </a:path>
              <a:path w="11039" h="2283">
                <a:moveTo>
                  <a:pt x="16396" y="13667"/>
                </a:moveTo>
                <a:cubicBezTo>
                  <a:pt x="16498" y="13652"/>
                  <a:pt x="16574" y="13644"/>
                  <a:pt x="16669" y="13618"/>
                </a:cubicBezTo>
              </a:path>
              <a:path w="11039" h="2283">
                <a:moveTo>
                  <a:pt x="16917" y="13295"/>
                </a:moveTo>
                <a:cubicBezTo>
                  <a:pt x="16907" y="13364"/>
                  <a:pt x="16869" y="13382"/>
                  <a:pt x="16842" y="13444"/>
                </a:cubicBezTo>
                <a:cubicBezTo>
                  <a:pt x="16806" y="13526"/>
                  <a:pt x="16808" y="13579"/>
                  <a:pt x="16867" y="13643"/>
                </a:cubicBezTo>
                <a:cubicBezTo>
                  <a:pt x="16904" y="13684"/>
                  <a:pt x="16945" y="13770"/>
                  <a:pt x="17016" y="13767"/>
                </a:cubicBezTo>
                <a:cubicBezTo>
                  <a:pt x="17041" y="13759"/>
                  <a:pt x="17065" y="13750"/>
                  <a:pt x="17090" y="13742"/>
                </a:cubicBezTo>
              </a:path>
              <a:path w="11039" h="2283">
                <a:moveTo>
                  <a:pt x="17140" y="13072"/>
                </a:moveTo>
                <a:cubicBezTo>
                  <a:pt x="17102" y="13135"/>
                  <a:pt x="17093" y="13216"/>
                  <a:pt x="17090" y="13295"/>
                </a:cubicBezTo>
                <a:cubicBezTo>
                  <a:pt x="17081" y="13542"/>
                  <a:pt x="17090" y="13791"/>
                  <a:pt x="17090" y="14039"/>
                </a:cubicBezTo>
              </a:path>
              <a:path w="11039" h="2283">
                <a:moveTo>
                  <a:pt x="17462" y="13295"/>
                </a:moveTo>
                <a:cubicBezTo>
                  <a:pt x="17446" y="13409"/>
                  <a:pt x="17417" y="13550"/>
                  <a:pt x="17438" y="13667"/>
                </a:cubicBezTo>
                <a:cubicBezTo>
                  <a:pt x="17450" y="13736"/>
                  <a:pt x="17465" y="13801"/>
                  <a:pt x="17487" y="13866"/>
                </a:cubicBezTo>
              </a:path>
              <a:path w="11039" h="2283">
                <a:moveTo>
                  <a:pt x="17314" y="13618"/>
                </a:moveTo>
                <a:cubicBezTo>
                  <a:pt x="17404" y="13592"/>
                  <a:pt x="17476" y="13587"/>
                  <a:pt x="17562" y="13568"/>
                </a:cubicBezTo>
                <a:cubicBezTo>
                  <a:pt x="17587" y="13560"/>
                  <a:pt x="17611" y="13551"/>
                  <a:pt x="17636" y="13543"/>
                </a:cubicBezTo>
              </a:path>
              <a:path w="11039" h="2283">
                <a:moveTo>
                  <a:pt x="17884" y="13295"/>
                </a:moveTo>
                <a:cubicBezTo>
                  <a:pt x="17910" y="13283"/>
                  <a:pt x="17993" y="13288"/>
                  <a:pt x="18008" y="13345"/>
                </a:cubicBezTo>
                <a:cubicBezTo>
                  <a:pt x="18037" y="13454"/>
                  <a:pt x="17964" y="13497"/>
                  <a:pt x="17909" y="13568"/>
                </a:cubicBezTo>
                <a:cubicBezTo>
                  <a:pt x="17854" y="13639"/>
                  <a:pt x="17815" y="13721"/>
                  <a:pt x="17760" y="13791"/>
                </a:cubicBezTo>
                <a:cubicBezTo>
                  <a:pt x="17718" y="13846"/>
                  <a:pt x="17774" y="13935"/>
                  <a:pt x="17835" y="13965"/>
                </a:cubicBezTo>
                <a:cubicBezTo>
                  <a:pt x="17925" y="14010"/>
                  <a:pt x="17990" y="13966"/>
                  <a:pt x="18058" y="13915"/>
                </a:cubicBezTo>
              </a:path>
              <a:path w="11039" h="2283">
                <a:moveTo>
                  <a:pt x="18207" y="13469"/>
                </a:moveTo>
                <a:cubicBezTo>
                  <a:pt x="18181" y="13573"/>
                  <a:pt x="18202" y="13619"/>
                  <a:pt x="18207" y="13717"/>
                </a:cubicBezTo>
                <a:cubicBezTo>
                  <a:pt x="18211" y="13784"/>
                  <a:pt x="18211" y="13828"/>
                  <a:pt x="18231" y="13891"/>
                </a:cubicBezTo>
                <a:cubicBezTo>
                  <a:pt x="18231" y="14027"/>
                  <a:pt x="18231" y="13743"/>
                  <a:pt x="18231" y="13717"/>
                </a:cubicBezTo>
                <a:cubicBezTo>
                  <a:pt x="18231" y="13595"/>
                  <a:pt x="18239" y="13487"/>
                  <a:pt x="18256" y="13370"/>
                </a:cubicBezTo>
                <a:cubicBezTo>
                  <a:pt x="18270" y="13275"/>
                  <a:pt x="18346" y="13295"/>
                  <a:pt x="18430" y="13295"/>
                </a:cubicBezTo>
                <a:cubicBezTo>
                  <a:pt x="18496" y="13295"/>
                  <a:pt x="18562" y="13295"/>
                  <a:pt x="18628" y="13295"/>
                </a:cubicBezTo>
              </a:path>
              <a:path w="11039" h="2283">
                <a:moveTo>
                  <a:pt x="18455" y="13519"/>
                </a:moveTo>
                <a:cubicBezTo>
                  <a:pt x="18511" y="13611"/>
                  <a:pt x="18539" y="13488"/>
                  <a:pt x="18653" y="13519"/>
                </a:cubicBezTo>
                <a:cubicBezTo>
                  <a:pt x="18747" y="13545"/>
                  <a:pt x="18685" y="13629"/>
                  <a:pt x="18653" y="13667"/>
                </a:cubicBezTo>
                <a:cubicBezTo>
                  <a:pt x="18612" y="13715"/>
                  <a:pt x="18531" y="13693"/>
                  <a:pt x="18479" y="13717"/>
                </a:cubicBezTo>
                <a:cubicBezTo>
                  <a:pt x="18457" y="13740"/>
                  <a:pt x="18452" y="13748"/>
                  <a:pt x="18430" y="13742"/>
                </a:cubicBezTo>
                <a:cubicBezTo>
                  <a:pt x="18500" y="13772"/>
                  <a:pt x="18580" y="13765"/>
                  <a:pt x="18653" y="13816"/>
                </a:cubicBezTo>
                <a:cubicBezTo>
                  <a:pt x="18697" y="13846"/>
                  <a:pt x="18740" y="13937"/>
                  <a:pt x="18728" y="13990"/>
                </a:cubicBezTo>
                <a:cubicBezTo>
                  <a:pt x="18706" y="14087"/>
                  <a:pt x="18633" y="14086"/>
                  <a:pt x="18554" y="14089"/>
                </a:cubicBezTo>
                <a:cubicBezTo>
                  <a:pt x="18463" y="14092"/>
                  <a:pt x="18461" y="14053"/>
                  <a:pt x="18380" y="14039"/>
                </a:cubicBezTo>
                <a:cubicBezTo>
                  <a:pt x="18334" y="14031"/>
                  <a:pt x="18277" y="14039"/>
                  <a:pt x="18231" y="14039"/>
                </a:cubicBezTo>
              </a:path>
              <a:path w="11039" h="2283">
                <a:moveTo>
                  <a:pt x="18653" y="14238"/>
                </a:moveTo>
                <a:cubicBezTo>
                  <a:pt x="18512" y="14256"/>
                  <a:pt x="18369" y="14266"/>
                  <a:pt x="18231" y="14288"/>
                </a:cubicBezTo>
                <a:cubicBezTo>
                  <a:pt x="18052" y="14317"/>
                  <a:pt x="17867" y="14356"/>
                  <a:pt x="17686" y="14362"/>
                </a:cubicBezTo>
                <a:cubicBezTo>
                  <a:pt x="17573" y="14365"/>
                  <a:pt x="17425" y="14365"/>
                  <a:pt x="17314" y="14387"/>
                </a:cubicBezTo>
                <a:cubicBezTo>
                  <a:pt x="17245" y="14401"/>
                  <a:pt x="17187" y="14431"/>
                  <a:pt x="17115" y="14436"/>
                </a:cubicBezTo>
                <a:cubicBezTo>
                  <a:pt x="17107" y="14436"/>
                  <a:pt x="17098" y="14436"/>
                  <a:pt x="17090" y="14436"/>
                </a:cubicBezTo>
              </a:path>
              <a:path w="11039" h="2283">
                <a:moveTo>
                  <a:pt x="17859" y="14461"/>
                </a:moveTo>
                <a:cubicBezTo>
                  <a:pt x="17934" y="14470"/>
                  <a:pt x="18017" y="14494"/>
                  <a:pt x="18083" y="14536"/>
                </a:cubicBezTo>
                <a:cubicBezTo>
                  <a:pt x="18152" y="14580"/>
                  <a:pt x="18220" y="14633"/>
                  <a:pt x="18182" y="14734"/>
                </a:cubicBezTo>
                <a:cubicBezTo>
                  <a:pt x="18169" y="14769"/>
                  <a:pt x="18043" y="14911"/>
                  <a:pt x="18008" y="14932"/>
                </a:cubicBezTo>
                <a:cubicBezTo>
                  <a:pt x="17968" y="14955"/>
                  <a:pt x="17857" y="15021"/>
                  <a:pt x="17810" y="15032"/>
                </a:cubicBezTo>
                <a:cubicBezTo>
                  <a:pt x="17755" y="15045"/>
                  <a:pt x="17749" y="15051"/>
                  <a:pt x="17711" y="15032"/>
                </a:cubicBezTo>
                <a:cubicBezTo>
                  <a:pt x="17746" y="14996"/>
                  <a:pt x="17783" y="14944"/>
                  <a:pt x="17835" y="14932"/>
                </a:cubicBezTo>
                <a:cubicBezTo>
                  <a:pt x="17888" y="14919"/>
                  <a:pt x="18020" y="15008"/>
                  <a:pt x="18058" y="15032"/>
                </a:cubicBezTo>
                <a:cubicBezTo>
                  <a:pt x="18130" y="15077"/>
                  <a:pt x="18167" y="15081"/>
                  <a:pt x="18256" y="15081"/>
                </a:cubicBezTo>
              </a:path>
              <a:path w="11039" h="2283">
                <a:moveTo>
                  <a:pt x="18901" y="14412"/>
                </a:moveTo>
                <a:cubicBezTo>
                  <a:pt x="19000" y="14426"/>
                  <a:pt x="19077" y="14436"/>
                  <a:pt x="19174" y="14436"/>
                </a:cubicBezTo>
              </a:path>
              <a:path w="11039" h="2283">
                <a:moveTo>
                  <a:pt x="19000" y="14610"/>
                </a:moveTo>
                <a:cubicBezTo>
                  <a:pt x="19073" y="14634"/>
                  <a:pt x="19097" y="14643"/>
                  <a:pt x="19149" y="14635"/>
                </a:cubicBezTo>
              </a:path>
              <a:path w="11039" h="2283">
                <a:moveTo>
                  <a:pt x="19546" y="14139"/>
                </a:moveTo>
                <a:cubicBezTo>
                  <a:pt x="19736" y="14101"/>
                  <a:pt x="19759" y="14084"/>
                  <a:pt x="19869" y="14089"/>
                </a:cubicBezTo>
              </a:path>
              <a:path w="11039" h="2283">
                <a:moveTo>
                  <a:pt x="20117" y="13841"/>
                </a:moveTo>
                <a:cubicBezTo>
                  <a:pt x="20210" y="13787"/>
                  <a:pt x="20235" y="13792"/>
                  <a:pt x="20340" y="13866"/>
                </a:cubicBezTo>
                <a:cubicBezTo>
                  <a:pt x="20468" y="13957"/>
                  <a:pt x="20407" y="14112"/>
                  <a:pt x="20365" y="14238"/>
                </a:cubicBezTo>
                <a:cubicBezTo>
                  <a:pt x="20338" y="14320"/>
                  <a:pt x="20294" y="14356"/>
                  <a:pt x="20216" y="14387"/>
                </a:cubicBezTo>
                <a:cubicBezTo>
                  <a:pt x="20124" y="14423"/>
                  <a:pt x="20087" y="14388"/>
                  <a:pt x="20067" y="14288"/>
                </a:cubicBezTo>
                <a:cubicBezTo>
                  <a:pt x="20067" y="14271"/>
                  <a:pt x="20067" y="14255"/>
                  <a:pt x="20067" y="14238"/>
                </a:cubicBezTo>
                <a:cubicBezTo>
                  <a:pt x="20160" y="14182"/>
                  <a:pt x="20269" y="14248"/>
                  <a:pt x="20365" y="14288"/>
                </a:cubicBezTo>
                <a:cubicBezTo>
                  <a:pt x="20426" y="14313"/>
                  <a:pt x="20473" y="14330"/>
                  <a:pt x="20538" y="14337"/>
                </a:cubicBezTo>
              </a:path>
              <a:path w="11039" h="2283">
                <a:moveTo>
                  <a:pt x="20886" y="13791"/>
                </a:moveTo>
                <a:cubicBezTo>
                  <a:pt x="20886" y="14014"/>
                  <a:pt x="20886" y="14238"/>
                  <a:pt x="20886" y="14461"/>
                </a:cubicBezTo>
              </a:path>
              <a:path w="11039" h="2283">
                <a:moveTo>
                  <a:pt x="20737" y="13990"/>
                </a:moveTo>
                <a:cubicBezTo>
                  <a:pt x="20827" y="13929"/>
                  <a:pt x="20844" y="13955"/>
                  <a:pt x="20935" y="13965"/>
                </a:cubicBezTo>
                <a:cubicBezTo>
                  <a:pt x="21020" y="13965"/>
                  <a:pt x="21040" y="13971"/>
                  <a:pt x="21084" y="13940"/>
                </a:cubicBezTo>
              </a:path>
              <a:path w="11039" h="2283">
                <a:moveTo>
                  <a:pt x="21258" y="13841"/>
                </a:moveTo>
                <a:cubicBezTo>
                  <a:pt x="21258" y="13939"/>
                  <a:pt x="21272" y="14020"/>
                  <a:pt x="21282" y="14114"/>
                </a:cubicBezTo>
                <a:cubicBezTo>
                  <a:pt x="21291" y="14193"/>
                  <a:pt x="21307" y="14256"/>
                  <a:pt x="21307" y="14337"/>
                </a:cubicBezTo>
                <a:cubicBezTo>
                  <a:pt x="21349" y="14240"/>
                  <a:pt x="21319" y="14189"/>
                  <a:pt x="21307" y="14089"/>
                </a:cubicBezTo>
                <a:cubicBezTo>
                  <a:pt x="21289" y="13934"/>
                  <a:pt x="21312" y="13757"/>
                  <a:pt x="21332" y="13618"/>
                </a:cubicBezTo>
                <a:cubicBezTo>
                  <a:pt x="21348" y="13505"/>
                  <a:pt x="21393" y="13463"/>
                  <a:pt x="21506" y="13444"/>
                </a:cubicBezTo>
                <a:cubicBezTo>
                  <a:pt x="21580" y="13432"/>
                  <a:pt x="21707" y="13407"/>
                  <a:pt x="21779" y="13419"/>
                </a:cubicBezTo>
                <a:cubicBezTo>
                  <a:pt x="21795" y="13427"/>
                  <a:pt x="21812" y="13436"/>
                  <a:pt x="21828" y="13444"/>
                </a:cubicBezTo>
              </a:path>
              <a:path w="11039" h="2283">
                <a:moveTo>
                  <a:pt x="21654" y="13692"/>
                </a:moveTo>
                <a:cubicBezTo>
                  <a:pt x="21716" y="13669"/>
                  <a:pt x="21810" y="13627"/>
                  <a:pt x="21878" y="13643"/>
                </a:cubicBezTo>
                <a:cubicBezTo>
                  <a:pt x="21965" y="13664"/>
                  <a:pt x="22017" y="13721"/>
                  <a:pt x="22002" y="13816"/>
                </a:cubicBezTo>
                <a:cubicBezTo>
                  <a:pt x="21995" y="13862"/>
                  <a:pt x="21930" y="13950"/>
                  <a:pt x="21878" y="13965"/>
                </a:cubicBezTo>
                <a:cubicBezTo>
                  <a:pt x="21831" y="13978"/>
                  <a:pt x="21802" y="13983"/>
                  <a:pt x="21754" y="13990"/>
                </a:cubicBezTo>
                <a:cubicBezTo>
                  <a:pt x="21801" y="14019"/>
                  <a:pt x="21851" y="14033"/>
                  <a:pt x="21903" y="14064"/>
                </a:cubicBezTo>
                <a:cubicBezTo>
                  <a:pt x="22002" y="14124"/>
                  <a:pt x="22021" y="14214"/>
                  <a:pt x="21977" y="14312"/>
                </a:cubicBezTo>
                <a:cubicBezTo>
                  <a:pt x="21962" y="14346"/>
                  <a:pt x="21894" y="14425"/>
                  <a:pt x="21853" y="14436"/>
                </a:cubicBezTo>
                <a:cubicBezTo>
                  <a:pt x="21784" y="14455"/>
                  <a:pt x="21764" y="14445"/>
                  <a:pt x="21704" y="14436"/>
                </a:cubicBezTo>
                <a:cubicBezTo>
                  <a:pt x="21679" y="14436"/>
                  <a:pt x="21655" y="14436"/>
                  <a:pt x="21630" y="144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Ink 9"/>
          <p:cNvSpPr/>
          <p:nvPr/>
        </p:nvSpPr>
        <p:spPr>
          <a:xfrm>
            <a:off x="3581280" y="1411200"/>
            <a:ext cx="2222640" cy="108000"/>
          </a:xfrm>
          <a:custGeom>
            <a:avLst/>
            <a:gdLst/>
            <a:ahLst/>
            <a:rect l="l" t="t" r="r" b="b"/>
            <a:pathLst>
              <a:path w="6177" h="299">
                <a:moveTo>
                  <a:pt x="9947" y="4043"/>
                </a:moveTo>
                <a:cubicBezTo>
                  <a:pt x="10124" y="4043"/>
                  <a:pt x="10293" y="4032"/>
                  <a:pt x="10468" y="4018"/>
                </a:cubicBezTo>
                <a:cubicBezTo>
                  <a:pt x="10624" y="4005"/>
                  <a:pt x="10800" y="3973"/>
                  <a:pt x="10964" y="3969"/>
                </a:cubicBezTo>
                <a:cubicBezTo>
                  <a:pt x="11142" y="3965"/>
                  <a:pt x="11331" y="3962"/>
                  <a:pt x="11509" y="3944"/>
                </a:cubicBezTo>
                <a:cubicBezTo>
                  <a:pt x="11717" y="3923"/>
                  <a:pt x="11919" y="3919"/>
                  <a:pt x="12129" y="3919"/>
                </a:cubicBezTo>
                <a:cubicBezTo>
                  <a:pt x="12486" y="3919"/>
                  <a:pt x="12840" y="3939"/>
                  <a:pt x="13196" y="3944"/>
                </a:cubicBezTo>
                <a:cubicBezTo>
                  <a:pt x="13470" y="3948"/>
                  <a:pt x="13741" y="3965"/>
                  <a:pt x="14015" y="3969"/>
                </a:cubicBezTo>
                <a:cubicBezTo>
                  <a:pt x="14281" y="3973"/>
                  <a:pt x="14543" y="4007"/>
                  <a:pt x="14808" y="4018"/>
                </a:cubicBezTo>
                <a:cubicBezTo>
                  <a:pt x="15061" y="4028"/>
                  <a:pt x="15281" y="4063"/>
                  <a:pt x="15528" y="4118"/>
                </a:cubicBezTo>
                <a:cubicBezTo>
                  <a:pt x="15750" y="4168"/>
                  <a:pt x="15859" y="4317"/>
                  <a:pt x="16049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Ink 10"/>
          <p:cNvSpPr/>
          <p:nvPr/>
        </p:nvSpPr>
        <p:spPr>
          <a:xfrm>
            <a:off x="3473280" y="3446640"/>
            <a:ext cx="2098800" cy="134640"/>
          </a:xfrm>
          <a:custGeom>
            <a:avLst/>
            <a:gdLst/>
            <a:ahLst/>
            <a:rect l="l" t="t" r="r" b="b"/>
            <a:pathLst>
              <a:path w="5830" h="373">
                <a:moveTo>
                  <a:pt x="9649" y="9599"/>
                </a:moveTo>
                <a:cubicBezTo>
                  <a:pt x="9730" y="9599"/>
                  <a:pt x="9837" y="9599"/>
                  <a:pt x="9897" y="9599"/>
                </a:cubicBezTo>
                <a:cubicBezTo>
                  <a:pt x="10043" y="9599"/>
                  <a:pt x="10178" y="9603"/>
                  <a:pt x="10319" y="9624"/>
                </a:cubicBezTo>
                <a:cubicBezTo>
                  <a:pt x="10482" y="9649"/>
                  <a:pt x="10650" y="9685"/>
                  <a:pt x="10815" y="9699"/>
                </a:cubicBezTo>
                <a:cubicBezTo>
                  <a:pt x="11063" y="9720"/>
                  <a:pt x="11311" y="9749"/>
                  <a:pt x="11559" y="9773"/>
                </a:cubicBezTo>
                <a:cubicBezTo>
                  <a:pt x="11824" y="9798"/>
                  <a:pt x="12090" y="9810"/>
                  <a:pt x="12353" y="9847"/>
                </a:cubicBezTo>
                <a:cubicBezTo>
                  <a:pt x="12568" y="9877"/>
                  <a:pt x="12783" y="9876"/>
                  <a:pt x="12998" y="9897"/>
                </a:cubicBezTo>
                <a:cubicBezTo>
                  <a:pt x="13222" y="9919"/>
                  <a:pt x="13442" y="9943"/>
                  <a:pt x="13667" y="9947"/>
                </a:cubicBezTo>
                <a:cubicBezTo>
                  <a:pt x="14195" y="9956"/>
                  <a:pt x="14737" y="9955"/>
                  <a:pt x="15255" y="9922"/>
                </a:cubicBezTo>
                <a:cubicBezTo>
                  <a:pt x="15328" y="9917"/>
                  <a:pt x="15404" y="9922"/>
                  <a:pt x="15478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ebd40"/>
                </a:solidFill>
                <a:latin typeface="Arial"/>
              </a:rPr>
              <a:t>Double Angle Formulas</a:t>
            </a:r>
            <a:endParaRPr b="0" lang="en-US" sz="6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Use the figure to find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6172200" y="1295280"/>
            <a:ext cx="2666880" cy="381024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7010280" y="5181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5867280" y="3124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76960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80773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Ink 5"/>
          <p:cNvSpPr/>
          <p:nvPr/>
        </p:nvSpPr>
        <p:spPr>
          <a:xfrm>
            <a:off x="1866960" y="1714680"/>
            <a:ext cx="231840" cy="107640"/>
          </a:xfrm>
          <a:custGeom>
            <a:avLst/>
            <a:gdLst/>
            <a:ahLst/>
            <a:rect l="l" t="t" r="r" b="b"/>
            <a:pathLst>
              <a:path w="646" h="299">
                <a:moveTo>
                  <a:pt x="5184" y="4762"/>
                </a:moveTo>
                <a:cubicBezTo>
                  <a:pt x="5258" y="4762"/>
                  <a:pt x="5312" y="4783"/>
                  <a:pt x="5383" y="4787"/>
                </a:cubicBezTo>
                <a:cubicBezTo>
                  <a:pt x="5474" y="4792"/>
                  <a:pt x="5714" y="4750"/>
                  <a:pt x="5755" y="4812"/>
                </a:cubicBezTo>
              </a:path>
              <a:path w="646" h="299">
                <a:moveTo>
                  <a:pt x="5184" y="5011"/>
                </a:moveTo>
                <a:cubicBezTo>
                  <a:pt x="5280" y="5030"/>
                  <a:pt x="5390" y="5013"/>
                  <a:pt x="5482" y="5035"/>
                </a:cubicBezTo>
                <a:cubicBezTo>
                  <a:pt x="5567" y="5056"/>
                  <a:pt x="5638" y="5060"/>
                  <a:pt x="5730" y="5060"/>
                </a:cubicBezTo>
                <a:cubicBezTo>
                  <a:pt x="5771" y="5060"/>
                  <a:pt x="5845" y="5060"/>
                  <a:pt x="5804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Ink 6"/>
          <p:cNvSpPr/>
          <p:nvPr/>
        </p:nvSpPr>
        <p:spPr>
          <a:xfrm>
            <a:off x="2320920" y="1374840"/>
            <a:ext cx="304920" cy="662040"/>
          </a:xfrm>
          <a:custGeom>
            <a:avLst/>
            <a:gdLst/>
            <a:ahLst/>
            <a:rect l="l" t="t" r="r" b="b"/>
            <a:pathLst>
              <a:path w="845" h="1836">
                <a:moveTo>
                  <a:pt x="6697" y="3944"/>
                </a:moveTo>
                <a:cubicBezTo>
                  <a:pt x="6697" y="4010"/>
                  <a:pt x="6699" y="4087"/>
                  <a:pt x="6672" y="4142"/>
                </a:cubicBezTo>
                <a:cubicBezTo>
                  <a:pt x="6639" y="4210"/>
                  <a:pt x="6608" y="4264"/>
                  <a:pt x="6598" y="4341"/>
                </a:cubicBezTo>
                <a:cubicBezTo>
                  <a:pt x="6726" y="4341"/>
                  <a:pt x="6856" y="4339"/>
                  <a:pt x="6970" y="4316"/>
                </a:cubicBezTo>
                <a:cubicBezTo>
                  <a:pt x="6987" y="4316"/>
                  <a:pt x="7003" y="4316"/>
                  <a:pt x="7020" y="4316"/>
                </a:cubicBezTo>
              </a:path>
              <a:path w="845" h="1836">
                <a:moveTo>
                  <a:pt x="6970" y="3820"/>
                </a:moveTo>
                <a:cubicBezTo>
                  <a:pt x="6950" y="3934"/>
                  <a:pt x="6945" y="4027"/>
                  <a:pt x="6945" y="4142"/>
                </a:cubicBezTo>
                <a:cubicBezTo>
                  <a:pt x="6945" y="4218"/>
                  <a:pt x="6921" y="4286"/>
                  <a:pt x="6921" y="4366"/>
                </a:cubicBezTo>
                <a:cubicBezTo>
                  <a:pt x="6921" y="4465"/>
                  <a:pt x="6921" y="4564"/>
                  <a:pt x="6921" y="4663"/>
                </a:cubicBezTo>
              </a:path>
              <a:path w="845" h="1836">
                <a:moveTo>
                  <a:pt x="6449" y="4713"/>
                </a:moveTo>
                <a:cubicBezTo>
                  <a:pt x="6548" y="4731"/>
                  <a:pt x="6624" y="4738"/>
                  <a:pt x="6722" y="4738"/>
                </a:cubicBezTo>
                <a:cubicBezTo>
                  <a:pt x="6912" y="4738"/>
                  <a:pt x="7103" y="4738"/>
                  <a:pt x="7293" y="4738"/>
                </a:cubicBezTo>
              </a:path>
              <a:path w="845" h="1836">
                <a:moveTo>
                  <a:pt x="6672" y="4936"/>
                </a:moveTo>
                <a:cubicBezTo>
                  <a:pt x="6769" y="4936"/>
                  <a:pt x="6862" y="4927"/>
                  <a:pt x="6945" y="4911"/>
                </a:cubicBezTo>
                <a:cubicBezTo>
                  <a:pt x="6987" y="4911"/>
                  <a:pt x="6995" y="4911"/>
                  <a:pt x="7020" y="4911"/>
                </a:cubicBezTo>
              </a:path>
              <a:path w="845" h="1836">
                <a:moveTo>
                  <a:pt x="6648" y="5011"/>
                </a:moveTo>
                <a:cubicBezTo>
                  <a:pt x="6632" y="5069"/>
                  <a:pt x="6599" y="5172"/>
                  <a:pt x="6623" y="5234"/>
                </a:cubicBezTo>
                <a:cubicBezTo>
                  <a:pt x="6648" y="5259"/>
                  <a:pt x="6656" y="5267"/>
                  <a:pt x="6672" y="5283"/>
                </a:cubicBezTo>
                <a:cubicBezTo>
                  <a:pt x="6715" y="5241"/>
                  <a:pt x="6737" y="5177"/>
                  <a:pt x="6796" y="5159"/>
                </a:cubicBezTo>
                <a:cubicBezTo>
                  <a:pt x="6861" y="5140"/>
                  <a:pt x="6924" y="5166"/>
                  <a:pt x="6970" y="5209"/>
                </a:cubicBezTo>
                <a:cubicBezTo>
                  <a:pt x="7042" y="5276"/>
                  <a:pt x="7078" y="5314"/>
                  <a:pt x="7094" y="5407"/>
                </a:cubicBezTo>
                <a:cubicBezTo>
                  <a:pt x="7104" y="5468"/>
                  <a:pt x="7072" y="5569"/>
                  <a:pt x="7020" y="5606"/>
                </a:cubicBezTo>
                <a:cubicBezTo>
                  <a:pt x="6972" y="5640"/>
                  <a:pt x="6853" y="5647"/>
                  <a:pt x="6796" y="5655"/>
                </a:cubicBezTo>
                <a:cubicBezTo>
                  <a:pt x="6742" y="5663"/>
                  <a:pt x="6666" y="5633"/>
                  <a:pt x="6648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Ink 7"/>
          <p:cNvSpPr/>
          <p:nvPr/>
        </p:nvSpPr>
        <p:spPr>
          <a:xfrm>
            <a:off x="2125800" y="2170080"/>
            <a:ext cx="2840040" cy="374760"/>
          </a:xfrm>
          <a:custGeom>
            <a:avLst/>
            <a:gdLst/>
            <a:ahLst/>
            <a:rect l="l" t="t" r="r" b="b"/>
            <a:pathLst>
              <a:path w="7888" h="1042">
                <a:moveTo>
                  <a:pt x="5904" y="6598"/>
                </a:moveTo>
                <a:cubicBezTo>
                  <a:pt x="6069" y="6598"/>
                  <a:pt x="6235" y="6598"/>
                  <a:pt x="6400" y="6598"/>
                </a:cubicBezTo>
              </a:path>
              <a:path w="7888" h="1042">
                <a:moveTo>
                  <a:pt x="5904" y="6796"/>
                </a:moveTo>
                <a:cubicBezTo>
                  <a:pt x="6011" y="6796"/>
                  <a:pt x="6119" y="6796"/>
                  <a:pt x="6226" y="6796"/>
                </a:cubicBezTo>
              </a:path>
              <a:path w="7888" h="1042">
                <a:moveTo>
                  <a:pt x="6995" y="6226"/>
                </a:moveTo>
                <a:cubicBezTo>
                  <a:pt x="6974" y="6260"/>
                  <a:pt x="6959" y="6365"/>
                  <a:pt x="6970" y="6300"/>
                </a:cubicBezTo>
                <a:cubicBezTo>
                  <a:pt x="6983" y="6225"/>
                  <a:pt x="7010" y="6194"/>
                  <a:pt x="7045" y="6127"/>
                </a:cubicBezTo>
                <a:cubicBezTo>
                  <a:pt x="7069" y="6081"/>
                  <a:pt x="7083" y="6063"/>
                  <a:pt x="7119" y="6028"/>
                </a:cubicBezTo>
                <a:cubicBezTo>
                  <a:pt x="7193" y="6069"/>
                  <a:pt x="7226" y="6111"/>
                  <a:pt x="7243" y="6201"/>
                </a:cubicBezTo>
                <a:cubicBezTo>
                  <a:pt x="7258" y="6277"/>
                  <a:pt x="7260" y="6373"/>
                  <a:pt x="7268" y="6449"/>
                </a:cubicBezTo>
                <a:cubicBezTo>
                  <a:pt x="7278" y="6540"/>
                  <a:pt x="7267" y="6662"/>
                  <a:pt x="7243" y="6747"/>
                </a:cubicBezTo>
                <a:cubicBezTo>
                  <a:pt x="7216" y="6844"/>
                  <a:pt x="7163" y="6901"/>
                  <a:pt x="7094" y="6970"/>
                </a:cubicBezTo>
                <a:cubicBezTo>
                  <a:pt x="7039" y="7025"/>
                  <a:pt x="6949" y="7058"/>
                  <a:pt x="6871" y="7045"/>
                </a:cubicBezTo>
                <a:cubicBezTo>
                  <a:pt x="6796" y="7033"/>
                  <a:pt x="6748" y="6995"/>
                  <a:pt x="6697" y="6945"/>
                </a:cubicBezTo>
                <a:cubicBezTo>
                  <a:pt x="6638" y="6887"/>
                  <a:pt x="6675" y="6842"/>
                  <a:pt x="6722" y="6796"/>
                </a:cubicBezTo>
                <a:cubicBezTo>
                  <a:pt x="6778" y="6741"/>
                  <a:pt x="6938" y="6781"/>
                  <a:pt x="6995" y="6796"/>
                </a:cubicBezTo>
                <a:cubicBezTo>
                  <a:pt x="7046" y="6810"/>
                  <a:pt x="7098" y="6887"/>
                  <a:pt x="7144" y="6921"/>
                </a:cubicBezTo>
                <a:cubicBezTo>
                  <a:pt x="7191" y="6955"/>
                  <a:pt x="7187" y="6994"/>
                  <a:pt x="7193" y="7045"/>
                </a:cubicBezTo>
              </a:path>
              <a:path w="7888" h="1042">
                <a:moveTo>
                  <a:pt x="7689" y="6722"/>
                </a:moveTo>
                <a:lnTo>
                  <a:pt x="7689" y="6722"/>
                </a:lnTo>
              </a:path>
              <a:path w="7888" h="1042">
                <a:moveTo>
                  <a:pt x="8359" y="6424"/>
                </a:moveTo>
                <a:cubicBezTo>
                  <a:pt x="8289" y="6410"/>
                  <a:pt x="8185" y="6380"/>
                  <a:pt x="8111" y="6400"/>
                </a:cubicBezTo>
                <a:cubicBezTo>
                  <a:pt x="8040" y="6419"/>
                  <a:pt x="7972" y="6473"/>
                  <a:pt x="7987" y="6548"/>
                </a:cubicBezTo>
                <a:cubicBezTo>
                  <a:pt x="7996" y="6595"/>
                  <a:pt x="8102" y="6631"/>
                  <a:pt x="8136" y="6648"/>
                </a:cubicBezTo>
                <a:cubicBezTo>
                  <a:pt x="8197" y="6678"/>
                  <a:pt x="8249" y="6716"/>
                  <a:pt x="8310" y="6747"/>
                </a:cubicBezTo>
                <a:cubicBezTo>
                  <a:pt x="8370" y="6777"/>
                  <a:pt x="8393" y="6838"/>
                  <a:pt x="8359" y="6896"/>
                </a:cubicBezTo>
                <a:cubicBezTo>
                  <a:pt x="8320" y="6963"/>
                  <a:pt x="8223" y="6945"/>
                  <a:pt x="8161" y="6945"/>
                </a:cubicBezTo>
                <a:cubicBezTo>
                  <a:pt x="8091" y="6945"/>
                  <a:pt x="8043" y="6957"/>
                  <a:pt x="8012" y="6896"/>
                </a:cubicBezTo>
              </a:path>
              <a:path w="7888" h="1042">
                <a:moveTo>
                  <a:pt x="8582" y="6548"/>
                </a:moveTo>
                <a:cubicBezTo>
                  <a:pt x="8575" y="6628"/>
                  <a:pt x="8558" y="6691"/>
                  <a:pt x="8558" y="6772"/>
                </a:cubicBezTo>
                <a:cubicBezTo>
                  <a:pt x="8558" y="6856"/>
                  <a:pt x="8570" y="6917"/>
                  <a:pt x="8582" y="6995"/>
                </a:cubicBezTo>
                <a:cubicBezTo>
                  <a:pt x="8582" y="7045"/>
                  <a:pt x="8582" y="7062"/>
                  <a:pt x="8582" y="6995"/>
                </a:cubicBezTo>
              </a:path>
              <a:path w="7888" h="1042">
                <a:moveTo>
                  <a:pt x="8607" y="6276"/>
                </a:moveTo>
                <a:cubicBezTo>
                  <a:pt x="8615" y="6259"/>
                  <a:pt x="8624" y="6243"/>
                  <a:pt x="8632" y="6226"/>
                </a:cubicBezTo>
              </a:path>
              <a:path w="7888" h="1042">
                <a:moveTo>
                  <a:pt x="8806" y="6747"/>
                </a:moveTo>
                <a:cubicBezTo>
                  <a:pt x="8806" y="6839"/>
                  <a:pt x="8821" y="6880"/>
                  <a:pt x="8781" y="6945"/>
                </a:cubicBezTo>
                <a:cubicBezTo>
                  <a:pt x="8781" y="6854"/>
                  <a:pt x="8793" y="6784"/>
                  <a:pt x="8806" y="6697"/>
                </a:cubicBezTo>
                <a:cubicBezTo>
                  <a:pt x="8819" y="6606"/>
                  <a:pt x="8839" y="6606"/>
                  <a:pt x="8905" y="6548"/>
                </a:cubicBezTo>
                <a:cubicBezTo>
                  <a:pt x="8989" y="6474"/>
                  <a:pt x="9042" y="6513"/>
                  <a:pt x="9128" y="6573"/>
                </a:cubicBezTo>
                <a:cubicBezTo>
                  <a:pt x="9183" y="6612"/>
                  <a:pt x="9194" y="6714"/>
                  <a:pt x="9203" y="6772"/>
                </a:cubicBezTo>
                <a:cubicBezTo>
                  <a:pt x="9215" y="6846"/>
                  <a:pt x="9224" y="6921"/>
                  <a:pt x="9227" y="6995"/>
                </a:cubicBezTo>
                <a:cubicBezTo>
                  <a:pt x="9227" y="7036"/>
                  <a:pt x="9227" y="7044"/>
                  <a:pt x="9227" y="7069"/>
                </a:cubicBezTo>
              </a:path>
              <a:path w="7888" h="1042">
                <a:moveTo>
                  <a:pt x="9723" y="6350"/>
                </a:moveTo>
                <a:cubicBezTo>
                  <a:pt x="9695" y="6428"/>
                  <a:pt x="9661" y="6499"/>
                  <a:pt x="9624" y="6573"/>
                </a:cubicBezTo>
                <a:cubicBezTo>
                  <a:pt x="9589" y="6643"/>
                  <a:pt x="9553" y="6719"/>
                  <a:pt x="9550" y="6796"/>
                </a:cubicBezTo>
                <a:cubicBezTo>
                  <a:pt x="9546" y="6890"/>
                  <a:pt x="9579" y="6982"/>
                  <a:pt x="9674" y="7020"/>
                </a:cubicBezTo>
                <a:cubicBezTo>
                  <a:pt x="9738" y="7046"/>
                  <a:pt x="9845" y="7004"/>
                  <a:pt x="9897" y="6970"/>
                </a:cubicBezTo>
                <a:cubicBezTo>
                  <a:pt x="9953" y="6934"/>
                  <a:pt x="9991" y="6829"/>
                  <a:pt x="10021" y="6772"/>
                </a:cubicBezTo>
                <a:cubicBezTo>
                  <a:pt x="10054" y="6709"/>
                  <a:pt x="10065" y="6595"/>
                  <a:pt x="10046" y="6524"/>
                </a:cubicBezTo>
                <a:cubicBezTo>
                  <a:pt x="10022" y="6432"/>
                  <a:pt x="9938" y="6354"/>
                  <a:pt x="9872" y="6300"/>
                </a:cubicBezTo>
                <a:cubicBezTo>
                  <a:pt x="9816" y="6254"/>
                  <a:pt x="9781" y="6228"/>
                  <a:pt x="9723" y="6251"/>
                </a:cubicBezTo>
              </a:path>
              <a:path w="7888" h="1042">
                <a:moveTo>
                  <a:pt x="9451" y="6623"/>
                </a:moveTo>
                <a:cubicBezTo>
                  <a:pt x="9569" y="6663"/>
                  <a:pt x="9696" y="6648"/>
                  <a:pt x="9823" y="6648"/>
                </a:cubicBezTo>
                <a:cubicBezTo>
                  <a:pt x="9924" y="6648"/>
                  <a:pt x="10017" y="6672"/>
                  <a:pt x="10120" y="6672"/>
                </a:cubicBezTo>
                <a:cubicBezTo>
                  <a:pt x="10185" y="6672"/>
                  <a:pt x="10266" y="6689"/>
                  <a:pt x="10294" y="6648"/>
                </a:cubicBezTo>
              </a:path>
              <a:path w="7888" h="1042">
                <a:moveTo>
                  <a:pt x="10691" y="6722"/>
                </a:moveTo>
                <a:cubicBezTo>
                  <a:pt x="10691" y="6714"/>
                  <a:pt x="10691" y="6705"/>
                  <a:pt x="10691" y="6697"/>
                </a:cubicBezTo>
              </a:path>
              <a:path w="7888" h="1042">
                <a:moveTo>
                  <a:pt x="11435" y="6524"/>
                </a:moveTo>
                <a:cubicBezTo>
                  <a:pt x="11506" y="6592"/>
                  <a:pt x="11394" y="6477"/>
                  <a:pt x="11385" y="6474"/>
                </a:cubicBezTo>
                <a:cubicBezTo>
                  <a:pt x="11291" y="6447"/>
                  <a:pt x="11255" y="6515"/>
                  <a:pt x="11212" y="6573"/>
                </a:cubicBezTo>
                <a:cubicBezTo>
                  <a:pt x="11176" y="6621"/>
                  <a:pt x="11099" y="6686"/>
                  <a:pt x="11088" y="6747"/>
                </a:cubicBezTo>
                <a:cubicBezTo>
                  <a:pt x="11067" y="6869"/>
                  <a:pt x="11082" y="6886"/>
                  <a:pt x="11162" y="6945"/>
                </a:cubicBezTo>
                <a:cubicBezTo>
                  <a:pt x="11222" y="6989"/>
                  <a:pt x="11256" y="7031"/>
                  <a:pt x="11336" y="7020"/>
                </a:cubicBezTo>
                <a:cubicBezTo>
                  <a:pt x="11420" y="6999"/>
                  <a:pt x="11439" y="6997"/>
                  <a:pt x="11485" y="6970"/>
                </a:cubicBezTo>
              </a:path>
              <a:path w="7888" h="1042">
                <a:moveTo>
                  <a:pt x="11708" y="6499"/>
                </a:moveTo>
                <a:cubicBezTo>
                  <a:pt x="11660" y="6567"/>
                  <a:pt x="11622" y="6616"/>
                  <a:pt x="11609" y="6697"/>
                </a:cubicBezTo>
                <a:cubicBezTo>
                  <a:pt x="11598" y="6765"/>
                  <a:pt x="11596" y="6910"/>
                  <a:pt x="11658" y="6945"/>
                </a:cubicBezTo>
                <a:cubicBezTo>
                  <a:pt x="11706" y="6972"/>
                  <a:pt x="11800" y="6970"/>
                  <a:pt x="11857" y="6970"/>
                </a:cubicBezTo>
                <a:cubicBezTo>
                  <a:pt x="11944" y="6970"/>
                  <a:pt x="11986" y="6946"/>
                  <a:pt x="12030" y="6871"/>
                </a:cubicBezTo>
                <a:cubicBezTo>
                  <a:pt x="12073" y="6799"/>
                  <a:pt x="12063" y="6741"/>
                  <a:pt x="12055" y="6672"/>
                </a:cubicBezTo>
                <a:cubicBezTo>
                  <a:pt x="12047" y="6598"/>
                  <a:pt x="11977" y="6553"/>
                  <a:pt x="11906" y="6524"/>
                </a:cubicBezTo>
                <a:cubicBezTo>
                  <a:pt x="11841" y="6502"/>
                  <a:pt x="11826" y="6494"/>
                  <a:pt x="11782" y="6499"/>
                </a:cubicBezTo>
              </a:path>
              <a:path w="7888" h="1042">
                <a:moveTo>
                  <a:pt x="12378" y="6524"/>
                </a:moveTo>
                <a:cubicBezTo>
                  <a:pt x="12307" y="6497"/>
                  <a:pt x="12250" y="6481"/>
                  <a:pt x="12179" y="6524"/>
                </a:cubicBezTo>
                <a:cubicBezTo>
                  <a:pt x="12123" y="6557"/>
                  <a:pt x="12169" y="6640"/>
                  <a:pt x="12204" y="6672"/>
                </a:cubicBezTo>
                <a:cubicBezTo>
                  <a:pt x="12280" y="6740"/>
                  <a:pt x="12337" y="6768"/>
                  <a:pt x="12402" y="6846"/>
                </a:cubicBezTo>
                <a:cubicBezTo>
                  <a:pt x="12448" y="6892"/>
                  <a:pt x="12463" y="6904"/>
                  <a:pt x="12477" y="6945"/>
                </a:cubicBezTo>
                <a:cubicBezTo>
                  <a:pt x="12400" y="6997"/>
                  <a:pt x="12344" y="6991"/>
                  <a:pt x="12254" y="6970"/>
                </a:cubicBezTo>
                <a:cubicBezTo>
                  <a:pt x="12189" y="6948"/>
                  <a:pt x="12164" y="6950"/>
                  <a:pt x="12179" y="6896"/>
                </a:cubicBezTo>
              </a:path>
              <a:path w="7888" h="1042">
                <a:moveTo>
                  <a:pt x="13122" y="6350"/>
                </a:moveTo>
                <a:cubicBezTo>
                  <a:pt x="13076" y="6469"/>
                  <a:pt x="12991" y="6579"/>
                  <a:pt x="12948" y="6697"/>
                </a:cubicBezTo>
                <a:cubicBezTo>
                  <a:pt x="12910" y="6799"/>
                  <a:pt x="12945" y="6942"/>
                  <a:pt x="13022" y="6995"/>
                </a:cubicBezTo>
                <a:cubicBezTo>
                  <a:pt x="13095" y="7045"/>
                  <a:pt x="13197" y="7025"/>
                  <a:pt x="13271" y="6995"/>
                </a:cubicBezTo>
                <a:cubicBezTo>
                  <a:pt x="13385" y="6949"/>
                  <a:pt x="13428" y="6880"/>
                  <a:pt x="13469" y="6772"/>
                </a:cubicBezTo>
                <a:cubicBezTo>
                  <a:pt x="13499" y="6691"/>
                  <a:pt x="13505" y="6578"/>
                  <a:pt x="13469" y="6499"/>
                </a:cubicBezTo>
                <a:cubicBezTo>
                  <a:pt x="13437" y="6429"/>
                  <a:pt x="13357" y="6346"/>
                  <a:pt x="13295" y="6300"/>
                </a:cubicBezTo>
                <a:cubicBezTo>
                  <a:pt x="13217" y="6242"/>
                  <a:pt x="13141" y="6235"/>
                  <a:pt x="13047" y="6226"/>
                </a:cubicBezTo>
              </a:path>
              <a:path w="7888" h="1042">
                <a:moveTo>
                  <a:pt x="12824" y="6623"/>
                </a:moveTo>
                <a:cubicBezTo>
                  <a:pt x="12932" y="6672"/>
                  <a:pt x="13026" y="6676"/>
                  <a:pt x="13146" y="6697"/>
                </a:cubicBezTo>
                <a:cubicBezTo>
                  <a:pt x="13265" y="6717"/>
                  <a:pt x="13405" y="6740"/>
                  <a:pt x="13519" y="6747"/>
                </a:cubicBezTo>
                <a:cubicBezTo>
                  <a:pt x="13569" y="6750"/>
                  <a:pt x="13767" y="6784"/>
                  <a:pt x="13791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Ink 8"/>
          <p:cNvSpPr/>
          <p:nvPr/>
        </p:nvSpPr>
        <p:spPr>
          <a:xfrm>
            <a:off x="2224080" y="2705040"/>
            <a:ext cx="687240" cy="384120"/>
          </a:xfrm>
          <a:custGeom>
            <a:avLst/>
            <a:gdLst/>
            <a:ahLst/>
            <a:rect l="l" t="t" r="r" b="b"/>
            <a:pathLst>
              <a:path w="1911" h="1067">
                <a:moveTo>
                  <a:pt x="6201" y="7838"/>
                </a:moveTo>
                <a:cubicBezTo>
                  <a:pt x="6350" y="7838"/>
                  <a:pt x="6499" y="7838"/>
                  <a:pt x="6648" y="7838"/>
                </a:cubicBezTo>
              </a:path>
              <a:path w="1911" h="1067">
                <a:moveTo>
                  <a:pt x="6176" y="8111"/>
                </a:moveTo>
                <a:cubicBezTo>
                  <a:pt x="6241" y="8136"/>
                  <a:pt x="6305" y="8157"/>
                  <a:pt x="6375" y="8161"/>
                </a:cubicBezTo>
                <a:cubicBezTo>
                  <a:pt x="6441" y="8165"/>
                  <a:pt x="6566" y="8192"/>
                  <a:pt x="6623" y="8186"/>
                </a:cubicBezTo>
                <a:cubicBezTo>
                  <a:pt x="6651" y="8158"/>
                  <a:pt x="6655" y="8149"/>
                  <a:pt x="6598" y="8161"/>
                </a:cubicBezTo>
              </a:path>
              <a:path w="1911" h="1067">
                <a:moveTo>
                  <a:pt x="7243" y="7689"/>
                </a:moveTo>
                <a:cubicBezTo>
                  <a:pt x="7243" y="7706"/>
                  <a:pt x="7243" y="7722"/>
                  <a:pt x="7243" y="7739"/>
                </a:cubicBezTo>
                <a:cubicBezTo>
                  <a:pt x="7221" y="7696"/>
                  <a:pt x="7256" y="7644"/>
                  <a:pt x="7293" y="7590"/>
                </a:cubicBezTo>
                <a:cubicBezTo>
                  <a:pt x="7327" y="7540"/>
                  <a:pt x="7420" y="7476"/>
                  <a:pt x="7466" y="7541"/>
                </a:cubicBezTo>
                <a:cubicBezTo>
                  <a:pt x="7506" y="7597"/>
                  <a:pt x="7513" y="7725"/>
                  <a:pt x="7516" y="7789"/>
                </a:cubicBezTo>
                <a:cubicBezTo>
                  <a:pt x="7520" y="7878"/>
                  <a:pt x="7500" y="7952"/>
                  <a:pt x="7491" y="8037"/>
                </a:cubicBezTo>
                <a:cubicBezTo>
                  <a:pt x="7479" y="8143"/>
                  <a:pt x="7453" y="8232"/>
                  <a:pt x="7417" y="8334"/>
                </a:cubicBezTo>
                <a:cubicBezTo>
                  <a:pt x="7382" y="8433"/>
                  <a:pt x="7344" y="8426"/>
                  <a:pt x="7268" y="8483"/>
                </a:cubicBezTo>
                <a:cubicBezTo>
                  <a:pt x="7222" y="8518"/>
                  <a:pt x="7189" y="8560"/>
                  <a:pt x="7119" y="8533"/>
                </a:cubicBezTo>
                <a:cubicBezTo>
                  <a:pt x="7081" y="8518"/>
                  <a:pt x="7003" y="8451"/>
                  <a:pt x="6995" y="8409"/>
                </a:cubicBezTo>
                <a:cubicBezTo>
                  <a:pt x="6986" y="8363"/>
                  <a:pt x="6981" y="8254"/>
                  <a:pt x="7045" y="8235"/>
                </a:cubicBezTo>
                <a:cubicBezTo>
                  <a:pt x="7101" y="8219"/>
                  <a:pt x="7201" y="8223"/>
                  <a:pt x="7243" y="8260"/>
                </a:cubicBezTo>
                <a:cubicBezTo>
                  <a:pt x="7303" y="8312"/>
                  <a:pt x="7340" y="8352"/>
                  <a:pt x="7392" y="8409"/>
                </a:cubicBezTo>
                <a:cubicBezTo>
                  <a:pt x="7448" y="8471"/>
                  <a:pt x="7414" y="8488"/>
                  <a:pt x="7441" y="8558"/>
                </a:cubicBezTo>
                <a:cubicBezTo>
                  <a:pt x="7463" y="8580"/>
                  <a:pt x="7472" y="8591"/>
                  <a:pt x="7466" y="8558"/>
                </a:cubicBezTo>
              </a:path>
              <a:path w="1911" h="1067">
                <a:moveTo>
                  <a:pt x="8012" y="8310"/>
                </a:moveTo>
                <a:cubicBezTo>
                  <a:pt x="8002" y="8377"/>
                  <a:pt x="8039" y="8519"/>
                  <a:pt x="8086" y="8384"/>
                </a:cubicBezTo>
                <a:cubicBezTo>
                  <a:pt x="8120" y="8288"/>
                  <a:pt x="7993" y="8356"/>
                  <a:pt x="8012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Ink 9"/>
          <p:cNvSpPr/>
          <p:nvPr/>
        </p:nvSpPr>
        <p:spPr>
          <a:xfrm>
            <a:off x="3205080" y="2751120"/>
            <a:ext cx="527040" cy="687240"/>
          </a:xfrm>
          <a:custGeom>
            <a:avLst/>
            <a:gdLst/>
            <a:ahLst/>
            <a:rect l="l" t="t" r="r" b="b"/>
            <a:pathLst>
              <a:path w="1464" h="1911">
                <a:moveTo>
                  <a:pt x="9004" y="7789"/>
                </a:moveTo>
                <a:cubicBezTo>
                  <a:pt x="8993" y="7862"/>
                  <a:pt x="8945" y="7908"/>
                  <a:pt x="8930" y="7987"/>
                </a:cubicBezTo>
                <a:cubicBezTo>
                  <a:pt x="8917" y="8056"/>
                  <a:pt x="8993" y="8100"/>
                  <a:pt x="9054" y="8111"/>
                </a:cubicBezTo>
                <a:cubicBezTo>
                  <a:pt x="9148" y="8127"/>
                  <a:pt x="9241" y="8105"/>
                  <a:pt x="9327" y="8086"/>
                </a:cubicBezTo>
                <a:cubicBezTo>
                  <a:pt x="9335" y="8086"/>
                  <a:pt x="9343" y="8086"/>
                  <a:pt x="9351" y="8086"/>
                </a:cubicBezTo>
              </a:path>
              <a:path w="1464" h="1911">
                <a:moveTo>
                  <a:pt x="9401" y="7640"/>
                </a:moveTo>
                <a:cubicBezTo>
                  <a:pt x="9361" y="7758"/>
                  <a:pt x="9351" y="7819"/>
                  <a:pt x="9351" y="7938"/>
                </a:cubicBezTo>
                <a:cubicBezTo>
                  <a:pt x="9351" y="8075"/>
                  <a:pt x="9360" y="8200"/>
                  <a:pt x="9376" y="8334"/>
                </a:cubicBezTo>
                <a:cubicBezTo>
                  <a:pt x="9386" y="8414"/>
                  <a:pt x="9376" y="8501"/>
                  <a:pt x="9376" y="8582"/>
                </a:cubicBezTo>
              </a:path>
              <a:path w="1464" h="1911">
                <a:moveTo>
                  <a:pt x="8905" y="8558"/>
                </a:moveTo>
                <a:cubicBezTo>
                  <a:pt x="9030" y="8566"/>
                  <a:pt x="9151" y="8582"/>
                  <a:pt x="9277" y="8582"/>
                </a:cubicBezTo>
                <a:cubicBezTo>
                  <a:pt x="9470" y="8582"/>
                  <a:pt x="9696" y="8609"/>
                  <a:pt x="9872" y="8558"/>
                </a:cubicBezTo>
                <a:cubicBezTo>
                  <a:pt x="9880" y="8558"/>
                  <a:pt x="9889" y="8558"/>
                  <a:pt x="9897" y="8558"/>
                </a:cubicBezTo>
              </a:path>
              <a:path w="1464" h="1911">
                <a:moveTo>
                  <a:pt x="9252" y="8781"/>
                </a:moveTo>
                <a:cubicBezTo>
                  <a:pt x="9382" y="8781"/>
                  <a:pt x="9502" y="8784"/>
                  <a:pt x="9624" y="8756"/>
                </a:cubicBezTo>
                <a:cubicBezTo>
                  <a:pt x="9632" y="8756"/>
                  <a:pt x="9641" y="8756"/>
                  <a:pt x="9649" y="8756"/>
                </a:cubicBezTo>
              </a:path>
              <a:path w="1464" h="1911">
                <a:moveTo>
                  <a:pt x="9376" y="8781"/>
                </a:moveTo>
                <a:cubicBezTo>
                  <a:pt x="9312" y="8871"/>
                  <a:pt x="9289" y="8883"/>
                  <a:pt x="9277" y="8979"/>
                </a:cubicBezTo>
                <a:cubicBezTo>
                  <a:pt x="9343" y="9019"/>
                  <a:pt x="9364" y="8992"/>
                  <a:pt x="9426" y="8979"/>
                </a:cubicBezTo>
                <a:cubicBezTo>
                  <a:pt x="9497" y="8965"/>
                  <a:pt x="9588" y="8995"/>
                  <a:pt x="9649" y="9029"/>
                </a:cubicBezTo>
                <a:cubicBezTo>
                  <a:pt x="9711" y="9064"/>
                  <a:pt x="9729" y="9173"/>
                  <a:pt x="9748" y="9227"/>
                </a:cubicBezTo>
                <a:cubicBezTo>
                  <a:pt x="9767" y="9281"/>
                  <a:pt x="9795" y="9366"/>
                  <a:pt x="9773" y="9426"/>
                </a:cubicBezTo>
                <a:cubicBezTo>
                  <a:pt x="9728" y="9551"/>
                  <a:pt x="9688" y="9550"/>
                  <a:pt x="9575" y="9550"/>
                </a:cubicBezTo>
                <a:cubicBezTo>
                  <a:pt x="9483" y="9550"/>
                  <a:pt x="9418" y="9512"/>
                  <a:pt x="9351" y="9451"/>
                </a:cubicBezTo>
                <a:cubicBezTo>
                  <a:pt x="9323" y="9422"/>
                  <a:pt x="9315" y="9409"/>
                  <a:pt x="9327" y="9376"/>
                </a:cubicBezTo>
              </a:path>
              <a:path w="1464" h="1911">
                <a:moveTo>
                  <a:pt x="10344" y="8632"/>
                </a:moveTo>
                <a:cubicBezTo>
                  <a:pt x="10253" y="8746"/>
                  <a:pt x="10331" y="8662"/>
                  <a:pt x="10368" y="8632"/>
                </a:cubicBezTo>
                <a:cubicBezTo>
                  <a:pt x="10320" y="8639"/>
                  <a:pt x="10310" y="8647"/>
                  <a:pt x="10269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Ink 10"/>
          <p:cNvSpPr/>
          <p:nvPr/>
        </p:nvSpPr>
        <p:spPr>
          <a:xfrm>
            <a:off x="2473200" y="3106800"/>
            <a:ext cx="420840" cy="385560"/>
          </a:xfrm>
          <a:custGeom>
            <a:avLst/>
            <a:gdLst/>
            <a:ahLst/>
            <a:rect l="l" t="t" r="r" b="b"/>
            <a:pathLst>
              <a:path w="1167" h="1068">
                <a:moveTo>
                  <a:pt x="6871" y="8632"/>
                </a:moveTo>
                <a:cubicBezTo>
                  <a:pt x="6984" y="8655"/>
                  <a:pt x="7078" y="8657"/>
                  <a:pt x="7193" y="8657"/>
                </a:cubicBezTo>
                <a:cubicBezTo>
                  <a:pt x="7474" y="8657"/>
                  <a:pt x="7756" y="8657"/>
                  <a:pt x="8037" y="8657"/>
                </a:cubicBezTo>
              </a:path>
              <a:path w="1167" h="1068">
                <a:moveTo>
                  <a:pt x="7516" y="8806"/>
                </a:moveTo>
                <a:cubicBezTo>
                  <a:pt x="7516" y="9027"/>
                  <a:pt x="7516" y="9237"/>
                  <a:pt x="7541" y="9451"/>
                </a:cubicBezTo>
                <a:cubicBezTo>
                  <a:pt x="7551" y="9537"/>
                  <a:pt x="7565" y="9610"/>
                  <a:pt x="7565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Ink 11"/>
          <p:cNvSpPr/>
          <p:nvPr/>
        </p:nvSpPr>
        <p:spPr>
          <a:xfrm>
            <a:off x="3902040" y="2803680"/>
            <a:ext cx="285840" cy="652320"/>
          </a:xfrm>
          <a:custGeom>
            <a:avLst/>
            <a:gdLst/>
            <a:ahLst/>
            <a:rect l="l" t="t" r="r" b="b"/>
            <a:pathLst>
              <a:path w="794" h="1811">
                <a:moveTo>
                  <a:pt x="11038" y="7838"/>
                </a:moveTo>
                <a:cubicBezTo>
                  <a:pt x="11098" y="7829"/>
                  <a:pt x="11157" y="7799"/>
                  <a:pt x="11212" y="7789"/>
                </a:cubicBezTo>
                <a:cubicBezTo>
                  <a:pt x="11276" y="7777"/>
                  <a:pt x="11330" y="7814"/>
                  <a:pt x="11385" y="7838"/>
                </a:cubicBezTo>
                <a:cubicBezTo>
                  <a:pt x="11374" y="7943"/>
                  <a:pt x="11346" y="7981"/>
                  <a:pt x="11286" y="8062"/>
                </a:cubicBezTo>
                <a:cubicBezTo>
                  <a:pt x="11232" y="8135"/>
                  <a:pt x="11215" y="8169"/>
                  <a:pt x="11137" y="8210"/>
                </a:cubicBezTo>
                <a:cubicBezTo>
                  <a:pt x="11121" y="8218"/>
                  <a:pt x="11104" y="8227"/>
                  <a:pt x="11088" y="8235"/>
                </a:cubicBezTo>
                <a:cubicBezTo>
                  <a:pt x="11164" y="8214"/>
                  <a:pt x="11238" y="8201"/>
                  <a:pt x="11311" y="8235"/>
                </a:cubicBezTo>
                <a:cubicBezTo>
                  <a:pt x="11383" y="8268"/>
                  <a:pt x="11388" y="8298"/>
                  <a:pt x="11410" y="8359"/>
                </a:cubicBezTo>
                <a:cubicBezTo>
                  <a:pt x="11445" y="8459"/>
                  <a:pt x="11438" y="8488"/>
                  <a:pt x="11361" y="8558"/>
                </a:cubicBezTo>
                <a:cubicBezTo>
                  <a:pt x="11315" y="8600"/>
                  <a:pt x="11224" y="8605"/>
                  <a:pt x="11162" y="8607"/>
                </a:cubicBezTo>
                <a:cubicBezTo>
                  <a:pt x="11101" y="8607"/>
                  <a:pt x="11085" y="8616"/>
                  <a:pt x="11063" y="8582"/>
                </a:cubicBezTo>
              </a:path>
              <a:path w="794" h="1811">
                <a:moveTo>
                  <a:pt x="10840" y="8756"/>
                </a:moveTo>
                <a:cubicBezTo>
                  <a:pt x="10964" y="8729"/>
                  <a:pt x="11057" y="8731"/>
                  <a:pt x="11187" y="8731"/>
                </a:cubicBezTo>
                <a:cubicBezTo>
                  <a:pt x="11336" y="8731"/>
                  <a:pt x="11484" y="8731"/>
                  <a:pt x="11633" y="8731"/>
                </a:cubicBezTo>
              </a:path>
              <a:path w="794" h="1811">
                <a:moveTo>
                  <a:pt x="11063" y="8806"/>
                </a:moveTo>
                <a:cubicBezTo>
                  <a:pt x="11125" y="8836"/>
                  <a:pt x="11188" y="8830"/>
                  <a:pt x="11261" y="8830"/>
                </a:cubicBezTo>
                <a:cubicBezTo>
                  <a:pt x="11351" y="8830"/>
                  <a:pt x="11426" y="8833"/>
                  <a:pt x="11509" y="8806"/>
                </a:cubicBezTo>
              </a:path>
              <a:path w="794" h="1811">
                <a:moveTo>
                  <a:pt x="11112" y="8830"/>
                </a:moveTo>
                <a:cubicBezTo>
                  <a:pt x="11064" y="8895"/>
                  <a:pt x="11043" y="8944"/>
                  <a:pt x="11038" y="9029"/>
                </a:cubicBezTo>
                <a:cubicBezTo>
                  <a:pt x="11038" y="9074"/>
                  <a:pt x="11034" y="9087"/>
                  <a:pt x="11063" y="9103"/>
                </a:cubicBezTo>
                <a:cubicBezTo>
                  <a:pt x="11134" y="9093"/>
                  <a:pt x="11142" y="9046"/>
                  <a:pt x="11212" y="9029"/>
                </a:cubicBezTo>
                <a:cubicBezTo>
                  <a:pt x="11276" y="9014"/>
                  <a:pt x="11364" y="9028"/>
                  <a:pt x="11410" y="9079"/>
                </a:cubicBezTo>
                <a:cubicBezTo>
                  <a:pt x="11459" y="9133"/>
                  <a:pt x="11507" y="9209"/>
                  <a:pt x="11534" y="9277"/>
                </a:cubicBezTo>
                <a:cubicBezTo>
                  <a:pt x="11578" y="9390"/>
                  <a:pt x="11562" y="9440"/>
                  <a:pt x="11485" y="9525"/>
                </a:cubicBezTo>
                <a:cubicBezTo>
                  <a:pt x="11419" y="9597"/>
                  <a:pt x="11369" y="9556"/>
                  <a:pt x="11286" y="9575"/>
                </a:cubicBezTo>
                <a:cubicBezTo>
                  <a:pt x="11233" y="9587"/>
                  <a:pt x="11101" y="9611"/>
                  <a:pt x="11063" y="9550"/>
                </a:cubicBezTo>
                <a:cubicBezTo>
                  <a:pt x="11063" y="9542"/>
                  <a:pt x="11063" y="9533"/>
                  <a:pt x="11063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Ink 12"/>
          <p:cNvSpPr/>
          <p:nvPr/>
        </p:nvSpPr>
        <p:spPr>
          <a:xfrm>
            <a:off x="598320" y="3456000"/>
            <a:ext cx="446400" cy="446040"/>
          </a:xfrm>
          <a:custGeom>
            <a:avLst/>
            <a:gdLst/>
            <a:ahLst/>
            <a:rect l="l" t="t" r="r" b="b"/>
            <a:pathLst>
              <a:path w="1241" h="1242">
                <a:moveTo>
                  <a:pt x="1662" y="9599"/>
                </a:moveTo>
                <a:cubicBezTo>
                  <a:pt x="1662" y="9714"/>
                  <a:pt x="1670" y="9815"/>
                  <a:pt x="1687" y="9922"/>
                </a:cubicBezTo>
                <a:cubicBezTo>
                  <a:pt x="1699" y="9998"/>
                  <a:pt x="1662" y="10089"/>
                  <a:pt x="1662" y="10170"/>
                </a:cubicBezTo>
                <a:cubicBezTo>
                  <a:pt x="1662" y="10344"/>
                  <a:pt x="1662" y="10517"/>
                  <a:pt x="1662" y="10691"/>
                </a:cubicBezTo>
              </a:path>
              <a:path w="1241" h="1242">
                <a:moveTo>
                  <a:pt x="1836" y="10244"/>
                </a:moveTo>
                <a:cubicBezTo>
                  <a:pt x="1943" y="10244"/>
                  <a:pt x="2051" y="10244"/>
                  <a:pt x="2158" y="10244"/>
                </a:cubicBezTo>
              </a:path>
              <a:path w="1241" h="1242">
                <a:moveTo>
                  <a:pt x="2480" y="9872"/>
                </a:moveTo>
                <a:cubicBezTo>
                  <a:pt x="2549" y="9813"/>
                  <a:pt x="2590" y="9769"/>
                  <a:pt x="2679" y="9823"/>
                </a:cubicBezTo>
                <a:cubicBezTo>
                  <a:pt x="2716" y="9845"/>
                  <a:pt x="2762" y="9931"/>
                  <a:pt x="2778" y="9971"/>
                </a:cubicBezTo>
                <a:cubicBezTo>
                  <a:pt x="2816" y="10064"/>
                  <a:pt x="2828" y="10120"/>
                  <a:pt x="2828" y="10220"/>
                </a:cubicBezTo>
                <a:cubicBezTo>
                  <a:pt x="2828" y="10302"/>
                  <a:pt x="2817" y="10421"/>
                  <a:pt x="2778" y="10492"/>
                </a:cubicBezTo>
                <a:cubicBezTo>
                  <a:pt x="2749" y="10545"/>
                  <a:pt x="2691" y="10665"/>
                  <a:pt x="2629" y="10691"/>
                </a:cubicBezTo>
                <a:cubicBezTo>
                  <a:pt x="2588" y="10708"/>
                  <a:pt x="2495" y="10693"/>
                  <a:pt x="2480" y="10641"/>
                </a:cubicBezTo>
                <a:cubicBezTo>
                  <a:pt x="2461" y="10575"/>
                  <a:pt x="2454" y="10547"/>
                  <a:pt x="2505" y="10492"/>
                </a:cubicBezTo>
                <a:cubicBezTo>
                  <a:pt x="2536" y="10459"/>
                  <a:pt x="2661" y="10496"/>
                  <a:pt x="2704" y="10517"/>
                </a:cubicBezTo>
                <a:cubicBezTo>
                  <a:pt x="2752" y="10541"/>
                  <a:pt x="2832" y="10619"/>
                  <a:pt x="2853" y="10666"/>
                </a:cubicBezTo>
                <a:cubicBezTo>
                  <a:pt x="2882" y="10729"/>
                  <a:pt x="2874" y="10784"/>
                  <a:pt x="2902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Ink 13"/>
          <p:cNvSpPr/>
          <p:nvPr/>
        </p:nvSpPr>
        <p:spPr>
          <a:xfrm>
            <a:off x="1214280" y="3537000"/>
            <a:ext cx="857520" cy="392040"/>
          </a:xfrm>
          <a:custGeom>
            <a:avLst/>
            <a:gdLst/>
            <a:ahLst/>
            <a:rect l="l" t="t" r="r" b="b"/>
            <a:pathLst>
              <a:path w="2383" h="1092">
                <a:moveTo>
                  <a:pt x="3597" y="10269"/>
                </a:moveTo>
                <a:cubicBezTo>
                  <a:pt x="3496" y="10269"/>
                  <a:pt x="3457" y="10271"/>
                  <a:pt x="3373" y="10319"/>
                </a:cubicBezTo>
                <a:cubicBezTo>
                  <a:pt x="3397" y="10378"/>
                  <a:pt x="3416" y="10432"/>
                  <a:pt x="3473" y="10468"/>
                </a:cubicBezTo>
                <a:cubicBezTo>
                  <a:pt x="3550" y="10517"/>
                  <a:pt x="3591" y="10544"/>
                  <a:pt x="3621" y="10616"/>
                </a:cubicBezTo>
                <a:cubicBezTo>
                  <a:pt x="3644" y="10671"/>
                  <a:pt x="3730" y="10748"/>
                  <a:pt x="3621" y="10790"/>
                </a:cubicBezTo>
                <a:cubicBezTo>
                  <a:pt x="3565" y="10811"/>
                  <a:pt x="3462" y="10785"/>
                  <a:pt x="3423" y="10740"/>
                </a:cubicBezTo>
                <a:cubicBezTo>
                  <a:pt x="3415" y="10724"/>
                  <a:pt x="3406" y="10707"/>
                  <a:pt x="3398" y="10691"/>
                </a:cubicBezTo>
              </a:path>
              <a:path w="2383" h="1092">
                <a:moveTo>
                  <a:pt x="3894" y="10344"/>
                </a:moveTo>
                <a:cubicBezTo>
                  <a:pt x="3894" y="10481"/>
                  <a:pt x="3897" y="10618"/>
                  <a:pt x="3919" y="10740"/>
                </a:cubicBezTo>
                <a:cubicBezTo>
                  <a:pt x="3919" y="10790"/>
                  <a:pt x="3919" y="10807"/>
                  <a:pt x="3919" y="10740"/>
                </a:cubicBezTo>
              </a:path>
              <a:path w="2383" h="1092">
                <a:moveTo>
                  <a:pt x="3870" y="10046"/>
                </a:moveTo>
                <a:cubicBezTo>
                  <a:pt x="3894" y="10021"/>
                  <a:pt x="3902" y="10012"/>
                  <a:pt x="3919" y="9996"/>
                </a:cubicBezTo>
              </a:path>
              <a:path w="2383" h="1092">
                <a:moveTo>
                  <a:pt x="4068" y="10641"/>
                </a:moveTo>
                <a:cubicBezTo>
                  <a:pt x="4068" y="10691"/>
                  <a:pt x="4068" y="10740"/>
                  <a:pt x="4068" y="10790"/>
                </a:cubicBezTo>
                <a:cubicBezTo>
                  <a:pt x="4078" y="10721"/>
                  <a:pt x="4107" y="10668"/>
                  <a:pt x="4118" y="10592"/>
                </a:cubicBezTo>
                <a:cubicBezTo>
                  <a:pt x="4128" y="10525"/>
                  <a:pt x="4175" y="10432"/>
                  <a:pt x="4217" y="10368"/>
                </a:cubicBezTo>
                <a:cubicBezTo>
                  <a:pt x="4256" y="10308"/>
                  <a:pt x="4352" y="10302"/>
                  <a:pt x="4390" y="10368"/>
                </a:cubicBezTo>
                <a:cubicBezTo>
                  <a:pt x="4424" y="10426"/>
                  <a:pt x="4438" y="10529"/>
                  <a:pt x="4440" y="10592"/>
                </a:cubicBezTo>
                <a:cubicBezTo>
                  <a:pt x="4442" y="10666"/>
                  <a:pt x="4415" y="10831"/>
                  <a:pt x="4465" y="10864"/>
                </a:cubicBezTo>
              </a:path>
              <a:path w="2383" h="1092">
                <a:moveTo>
                  <a:pt x="4514" y="9922"/>
                </a:moveTo>
                <a:cubicBezTo>
                  <a:pt x="4552" y="9855"/>
                  <a:pt x="4572" y="9805"/>
                  <a:pt x="4663" y="9823"/>
                </a:cubicBezTo>
                <a:cubicBezTo>
                  <a:pt x="4707" y="9844"/>
                  <a:pt x="4719" y="9847"/>
                  <a:pt x="4738" y="9872"/>
                </a:cubicBezTo>
                <a:cubicBezTo>
                  <a:pt x="4699" y="9939"/>
                  <a:pt x="4659" y="9943"/>
                  <a:pt x="4614" y="9996"/>
                </a:cubicBezTo>
                <a:cubicBezTo>
                  <a:pt x="4589" y="10046"/>
                  <a:pt x="4581" y="10063"/>
                  <a:pt x="4564" y="10096"/>
                </a:cubicBezTo>
                <a:cubicBezTo>
                  <a:pt x="4644" y="10161"/>
                  <a:pt x="4713" y="10200"/>
                  <a:pt x="4812" y="10220"/>
                </a:cubicBezTo>
              </a:path>
              <a:path w="2383" h="1092">
                <a:moveTo>
                  <a:pt x="5234" y="10195"/>
                </a:moveTo>
                <a:cubicBezTo>
                  <a:pt x="5270" y="10277"/>
                  <a:pt x="5298" y="10361"/>
                  <a:pt x="5333" y="10443"/>
                </a:cubicBezTo>
                <a:cubicBezTo>
                  <a:pt x="5374" y="10539"/>
                  <a:pt x="5448" y="10585"/>
                  <a:pt x="5507" y="10666"/>
                </a:cubicBezTo>
                <a:cubicBezTo>
                  <a:pt x="5572" y="10756"/>
                  <a:pt x="5650" y="10817"/>
                  <a:pt x="5730" y="10889"/>
                </a:cubicBezTo>
                <a:cubicBezTo>
                  <a:pt x="5738" y="10897"/>
                  <a:pt x="5747" y="10906"/>
                  <a:pt x="5755" y="10914"/>
                </a:cubicBezTo>
              </a:path>
              <a:path w="2383" h="1092">
                <a:moveTo>
                  <a:pt x="5531" y="10195"/>
                </a:moveTo>
                <a:cubicBezTo>
                  <a:pt x="5423" y="10303"/>
                  <a:pt x="5317" y="10404"/>
                  <a:pt x="5209" y="10492"/>
                </a:cubicBezTo>
                <a:cubicBezTo>
                  <a:pt x="5124" y="10561"/>
                  <a:pt x="5064" y="10662"/>
                  <a:pt x="4986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Ink 14"/>
          <p:cNvSpPr/>
          <p:nvPr/>
        </p:nvSpPr>
        <p:spPr>
          <a:xfrm>
            <a:off x="588960" y="4017960"/>
            <a:ext cx="1332000" cy="750960"/>
          </a:xfrm>
          <a:custGeom>
            <a:avLst/>
            <a:gdLst/>
            <a:ahLst/>
            <a:rect l="l" t="t" r="r" b="b"/>
            <a:pathLst>
              <a:path w="3697" h="2085">
                <a:moveTo>
                  <a:pt x="1637" y="11162"/>
                </a:moveTo>
                <a:cubicBezTo>
                  <a:pt x="1697" y="11222"/>
                  <a:pt x="1687" y="11248"/>
                  <a:pt x="1687" y="11336"/>
                </a:cubicBezTo>
                <a:cubicBezTo>
                  <a:pt x="1687" y="11410"/>
                  <a:pt x="1708" y="11464"/>
                  <a:pt x="1712" y="11534"/>
                </a:cubicBezTo>
                <a:cubicBezTo>
                  <a:pt x="1724" y="11756"/>
                  <a:pt x="1712" y="11982"/>
                  <a:pt x="1712" y="12204"/>
                </a:cubicBezTo>
              </a:path>
              <a:path w="3697" h="2085">
                <a:moveTo>
                  <a:pt x="1984" y="11906"/>
                </a:moveTo>
                <a:cubicBezTo>
                  <a:pt x="2061" y="11916"/>
                  <a:pt x="2126" y="11931"/>
                  <a:pt x="2208" y="11931"/>
                </a:cubicBezTo>
                <a:cubicBezTo>
                  <a:pt x="2272" y="11931"/>
                  <a:pt x="2282" y="11951"/>
                  <a:pt x="2332" y="11931"/>
                </a:cubicBezTo>
              </a:path>
              <a:path w="3697" h="2085">
                <a:moveTo>
                  <a:pt x="2654" y="11683"/>
                </a:moveTo>
                <a:cubicBezTo>
                  <a:pt x="2679" y="11782"/>
                  <a:pt x="2692" y="11638"/>
                  <a:pt x="2729" y="11584"/>
                </a:cubicBezTo>
                <a:cubicBezTo>
                  <a:pt x="2736" y="11573"/>
                  <a:pt x="2841" y="11484"/>
                  <a:pt x="2853" y="11485"/>
                </a:cubicBezTo>
                <a:cubicBezTo>
                  <a:pt x="2919" y="11489"/>
                  <a:pt x="2946" y="11568"/>
                  <a:pt x="2977" y="11609"/>
                </a:cubicBezTo>
                <a:cubicBezTo>
                  <a:pt x="3039" y="11692"/>
                  <a:pt x="3007" y="11782"/>
                  <a:pt x="3001" y="11881"/>
                </a:cubicBezTo>
                <a:cubicBezTo>
                  <a:pt x="2997" y="11950"/>
                  <a:pt x="2990" y="12067"/>
                  <a:pt x="2952" y="12129"/>
                </a:cubicBezTo>
                <a:cubicBezTo>
                  <a:pt x="2922" y="12178"/>
                  <a:pt x="2884" y="12239"/>
                  <a:pt x="2853" y="12278"/>
                </a:cubicBezTo>
                <a:cubicBezTo>
                  <a:pt x="2809" y="12334"/>
                  <a:pt x="2816" y="12321"/>
                  <a:pt x="2753" y="12303"/>
                </a:cubicBezTo>
                <a:cubicBezTo>
                  <a:pt x="2759" y="12257"/>
                  <a:pt x="2772" y="12149"/>
                  <a:pt x="2828" y="12129"/>
                </a:cubicBezTo>
                <a:cubicBezTo>
                  <a:pt x="2883" y="12109"/>
                  <a:pt x="2919" y="12171"/>
                  <a:pt x="2952" y="12204"/>
                </a:cubicBezTo>
                <a:cubicBezTo>
                  <a:pt x="2991" y="12243"/>
                  <a:pt x="3017" y="12286"/>
                  <a:pt x="3051" y="12328"/>
                </a:cubicBezTo>
              </a:path>
              <a:path w="3697" h="2085">
                <a:moveTo>
                  <a:pt x="3373" y="12179"/>
                </a:moveTo>
                <a:cubicBezTo>
                  <a:pt x="3373" y="12231"/>
                  <a:pt x="3375" y="12247"/>
                  <a:pt x="3423" y="12204"/>
                </a:cubicBezTo>
              </a:path>
              <a:path w="3697" h="2085">
                <a:moveTo>
                  <a:pt x="3994" y="11584"/>
                </a:moveTo>
                <a:cubicBezTo>
                  <a:pt x="3985" y="11646"/>
                  <a:pt x="3947" y="11711"/>
                  <a:pt x="3969" y="11782"/>
                </a:cubicBezTo>
                <a:cubicBezTo>
                  <a:pt x="3988" y="11841"/>
                  <a:pt x="4086" y="11912"/>
                  <a:pt x="4142" y="11931"/>
                </a:cubicBezTo>
                <a:cubicBezTo>
                  <a:pt x="4186" y="11946"/>
                  <a:pt x="4206" y="11915"/>
                  <a:pt x="4242" y="11906"/>
                </a:cubicBezTo>
              </a:path>
              <a:path w="3697" h="2085">
                <a:moveTo>
                  <a:pt x="4291" y="11385"/>
                </a:moveTo>
                <a:cubicBezTo>
                  <a:pt x="4221" y="11473"/>
                  <a:pt x="4221" y="11516"/>
                  <a:pt x="4217" y="11633"/>
                </a:cubicBezTo>
                <a:cubicBezTo>
                  <a:pt x="4212" y="11778"/>
                  <a:pt x="4225" y="11918"/>
                  <a:pt x="4242" y="12055"/>
                </a:cubicBezTo>
                <a:cubicBezTo>
                  <a:pt x="4250" y="12118"/>
                  <a:pt x="4259" y="12168"/>
                  <a:pt x="4266" y="12229"/>
                </a:cubicBezTo>
              </a:path>
              <a:path w="3697" h="2085">
                <a:moveTo>
                  <a:pt x="4018" y="12353"/>
                </a:moveTo>
                <a:cubicBezTo>
                  <a:pt x="4173" y="12353"/>
                  <a:pt x="4419" y="12397"/>
                  <a:pt x="4564" y="12328"/>
                </a:cubicBezTo>
                <a:cubicBezTo>
                  <a:pt x="4572" y="12320"/>
                  <a:pt x="4581" y="12311"/>
                  <a:pt x="4589" y="12303"/>
                </a:cubicBezTo>
              </a:path>
              <a:path w="3697" h="2085">
                <a:moveTo>
                  <a:pt x="4291" y="12502"/>
                </a:moveTo>
                <a:cubicBezTo>
                  <a:pt x="4392" y="12526"/>
                  <a:pt x="4439" y="12518"/>
                  <a:pt x="4539" y="12502"/>
                </a:cubicBezTo>
              </a:path>
              <a:path w="3697" h="2085">
                <a:moveTo>
                  <a:pt x="4291" y="12551"/>
                </a:moveTo>
                <a:cubicBezTo>
                  <a:pt x="4265" y="12597"/>
                  <a:pt x="4207" y="12654"/>
                  <a:pt x="4266" y="12700"/>
                </a:cubicBezTo>
                <a:cubicBezTo>
                  <a:pt x="4320" y="12742"/>
                  <a:pt x="4401" y="12725"/>
                  <a:pt x="4465" y="12725"/>
                </a:cubicBezTo>
                <a:cubicBezTo>
                  <a:pt x="4554" y="12725"/>
                  <a:pt x="4561" y="12768"/>
                  <a:pt x="4564" y="12849"/>
                </a:cubicBezTo>
                <a:cubicBezTo>
                  <a:pt x="4567" y="12945"/>
                  <a:pt x="4581" y="13046"/>
                  <a:pt x="4514" y="13122"/>
                </a:cubicBezTo>
                <a:cubicBezTo>
                  <a:pt x="4486" y="13154"/>
                  <a:pt x="4408" y="13238"/>
                  <a:pt x="4366" y="13246"/>
                </a:cubicBezTo>
                <a:cubicBezTo>
                  <a:pt x="4218" y="13276"/>
                  <a:pt x="4161" y="13182"/>
                  <a:pt x="4093" y="13072"/>
                </a:cubicBezTo>
              </a:path>
              <a:path w="3697" h="2085">
                <a:moveTo>
                  <a:pt x="3870" y="11410"/>
                </a:moveTo>
                <a:cubicBezTo>
                  <a:pt x="3834" y="11552"/>
                  <a:pt x="3799" y="11686"/>
                  <a:pt x="3795" y="11832"/>
                </a:cubicBezTo>
                <a:cubicBezTo>
                  <a:pt x="3789" y="12062"/>
                  <a:pt x="3779" y="12300"/>
                  <a:pt x="3820" y="12526"/>
                </a:cubicBezTo>
                <a:cubicBezTo>
                  <a:pt x="3846" y="12671"/>
                  <a:pt x="3910" y="12813"/>
                  <a:pt x="3969" y="12948"/>
                </a:cubicBezTo>
                <a:cubicBezTo>
                  <a:pt x="4025" y="13074"/>
                  <a:pt x="4074" y="13131"/>
                  <a:pt x="4192" y="13196"/>
                </a:cubicBezTo>
              </a:path>
              <a:path w="3697" h="2085">
                <a:moveTo>
                  <a:pt x="4589" y="11435"/>
                </a:moveTo>
                <a:cubicBezTo>
                  <a:pt x="4621" y="11556"/>
                  <a:pt x="4677" y="11665"/>
                  <a:pt x="4713" y="11782"/>
                </a:cubicBezTo>
                <a:cubicBezTo>
                  <a:pt x="4772" y="11974"/>
                  <a:pt x="4779" y="12158"/>
                  <a:pt x="4812" y="12353"/>
                </a:cubicBezTo>
                <a:cubicBezTo>
                  <a:pt x="4845" y="12548"/>
                  <a:pt x="4887" y="12723"/>
                  <a:pt x="4887" y="12923"/>
                </a:cubicBezTo>
                <a:cubicBezTo>
                  <a:pt x="4887" y="12968"/>
                  <a:pt x="4888" y="13215"/>
                  <a:pt x="4812" y="13196"/>
                </a:cubicBezTo>
                <a:cubicBezTo>
                  <a:pt x="4812" y="13188"/>
                  <a:pt x="4812" y="13179"/>
                  <a:pt x="4812" y="13171"/>
                </a:cubicBezTo>
              </a:path>
              <a:path w="3697" h="2085">
                <a:moveTo>
                  <a:pt x="4936" y="11361"/>
                </a:moveTo>
                <a:cubicBezTo>
                  <a:pt x="4999" y="11337"/>
                  <a:pt x="5050" y="11332"/>
                  <a:pt x="5110" y="11361"/>
                </a:cubicBezTo>
                <a:cubicBezTo>
                  <a:pt x="5157" y="11384"/>
                  <a:pt x="5182" y="11465"/>
                  <a:pt x="5184" y="11509"/>
                </a:cubicBezTo>
                <a:cubicBezTo>
                  <a:pt x="5187" y="11572"/>
                  <a:pt x="5162" y="11663"/>
                  <a:pt x="5110" y="11708"/>
                </a:cubicBezTo>
                <a:cubicBezTo>
                  <a:pt x="5069" y="11743"/>
                  <a:pt x="5026" y="11767"/>
                  <a:pt x="4986" y="11807"/>
                </a:cubicBezTo>
                <a:cubicBezTo>
                  <a:pt x="5061" y="11807"/>
                  <a:pt x="5115" y="11820"/>
                  <a:pt x="5184" y="11832"/>
                </a:cubicBezTo>
                <a:cubicBezTo>
                  <a:pt x="5231" y="11840"/>
                  <a:pt x="5285" y="11832"/>
                  <a:pt x="5333" y="118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Ink 15"/>
          <p:cNvSpPr/>
          <p:nvPr/>
        </p:nvSpPr>
        <p:spPr>
          <a:xfrm>
            <a:off x="642960" y="4705200"/>
            <a:ext cx="3116160" cy="1009800"/>
          </a:xfrm>
          <a:custGeom>
            <a:avLst/>
            <a:gdLst/>
            <a:ahLst/>
            <a:rect l="l" t="t" r="r" b="b"/>
            <a:pathLst>
              <a:path w="8658" h="2804">
                <a:moveTo>
                  <a:pt x="1786" y="13072"/>
                </a:moveTo>
                <a:cubicBezTo>
                  <a:pt x="1819" y="13127"/>
                  <a:pt x="1811" y="13178"/>
                  <a:pt x="1811" y="13246"/>
                </a:cubicBezTo>
                <a:cubicBezTo>
                  <a:pt x="1811" y="13416"/>
                  <a:pt x="1813" y="13581"/>
                  <a:pt x="1786" y="13742"/>
                </a:cubicBezTo>
                <a:cubicBezTo>
                  <a:pt x="1773" y="13816"/>
                  <a:pt x="1802" y="13883"/>
                  <a:pt x="1811" y="13940"/>
                </a:cubicBezTo>
                <a:cubicBezTo>
                  <a:pt x="1822" y="14012"/>
                  <a:pt x="1832" y="14092"/>
                  <a:pt x="1836" y="14163"/>
                </a:cubicBezTo>
                <a:cubicBezTo>
                  <a:pt x="1836" y="14205"/>
                  <a:pt x="1836" y="14230"/>
                  <a:pt x="1836" y="14188"/>
                </a:cubicBezTo>
              </a:path>
              <a:path w="8658" h="2804">
                <a:moveTo>
                  <a:pt x="2034" y="13940"/>
                </a:moveTo>
                <a:cubicBezTo>
                  <a:pt x="2108" y="13915"/>
                  <a:pt x="2226" y="13891"/>
                  <a:pt x="2307" y="13915"/>
                </a:cubicBezTo>
                <a:cubicBezTo>
                  <a:pt x="2363" y="13932"/>
                  <a:pt x="2422" y="13966"/>
                  <a:pt x="2456" y="13915"/>
                </a:cubicBezTo>
              </a:path>
              <a:path w="8658" h="2804">
                <a:moveTo>
                  <a:pt x="2778" y="13717"/>
                </a:moveTo>
                <a:cubicBezTo>
                  <a:pt x="2835" y="13672"/>
                  <a:pt x="2859" y="13650"/>
                  <a:pt x="2902" y="13593"/>
                </a:cubicBezTo>
                <a:cubicBezTo>
                  <a:pt x="2939" y="13543"/>
                  <a:pt x="2998" y="13526"/>
                  <a:pt x="3051" y="13519"/>
                </a:cubicBezTo>
                <a:cubicBezTo>
                  <a:pt x="3078" y="13589"/>
                  <a:pt x="3076" y="13641"/>
                  <a:pt x="3076" y="13717"/>
                </a:cubicBezTo>
                <a:cubicBezTo>
                  <a:pt x="3076" y="13820"/>
                  <a:pt x="3055" y="13913"/>
                  <a:pt x="3051" y="14015"/>
                </a:cubicBezTo>
                <a:cubicBezTo>
                  <a:pt x="3048" y="14082"/>
                  <a:pt x="3017" y="14135"/>
                  <a:pt x="2977" y="14188"/>
                </a:cubicBezTo>
                <a:cubicBezTo>
                  <a:pt x="2938" y="14240"/>
                  <a:pt x="2904" y="14255"/>
                  <a:pt x="2853" y="14213"/>
                </a:cubicBezTo>
                <a:cubicBezTo>
                  <a:pt x="2807" y="14175"/>
                  <a:pt x="2812" y="14095"/>
                  <a:pt x="2828" y="14064"/>
                </a:cubicBezTo>
                <a:cubicBezTo>
                  <a:pt x="2868" y="13984"/>
                  <a:pt x="2919" y="14011"/>
                  <a:pt x="2977" y="14064"/>
                </a:cubicBezTo>
                <a:cubicBezTo>
                  <a:pt x="3021" y="14104"/>
                  <a:pt x="3041" y="14155"/>
                  <a:pt x="3051" y="14213"/>
                </a:cubicBezTo>
                <a:cubicBezTo>
                  <a:pt x="3051" y="14263"/>
                  <a:pt x="3051" y="14280"/>
                  <a:pt x="3101" y="14263"/>
                </a:cubicBezTo>
              </a:path>
              <a:path w="8658" h="2804">
                <a:moveTo>
                  <a:pt x="3274" y="14188"/>
                </a:moveTo>
                <a:cubicBezTo>
                  <a:pt x="3307" y="14221"/>
                  <a:pt x="3324" y="14221"/>
                  <a:pt x="3349" y="14163"/>
                </a:cubicBezTo>
              </a:path>
              <a:path w="8658" h="2804">
                <a:moveTo>
                  <a:pt x="3671" y="13618"/>
                </a:moveTo>
                <a:cubicBezTo>
                  <a:pt x="3680" y="13709"/>
                  <a:pt x="3676" y="13727"/>
                  <a:pt x="3671" y="13816"/>
                </a:cubicBezTo>
                <a:cubicBezTo>
                  <a:pt x="3667" y="13893"/>
                  <a:pt x="3632" y="13992"/>
                  <a:pt x="3646" y="14064"/>
                </a:cubicBezTo>
                <a:cubicBezTo>
                  <a:pt x="3658" y="14128"/>
                  <a:pt x="3681" y="14207"/>
                  <a:pt x="3696" y="14263"/>
                </a:cubicBezTo>
                <a:cubicBezTo>
                  <a:pt x="3696" y="14271"/>
                  <a:pt x="3696" y="14280"/>
                  <a:pt x="3696" y="14288"/>
                </a:cubicBezTo>
              </a:path>
              <a:path w="8658" h="2804">
                <a:moveTo>
                  <a:pt x="3820" y="13742"/>
                </a:moveTo>
                <a:cubicBezTo>
                  <a:pt x="3854" y="13831"/>
                  <a:pt x="3831" y="13854"/>
                  <a:pt x="3820" y="13940"/>
                </a:cubicBezTo>
                <a:cubicBezTo>
                  <a:pt x="3810" y="14013"/>
                  <a:pt x="3844" y="14120"/>
                  <a:pt x="3870" y="14188"/>
                </a:cubicBezTo>
                <a:cubicBezTo>
                  <a:pt x="3888" y="14235"/>
                  <a:pt x="3947" y="14318"/>
                  <a:pt x="3994" y="14337"/>
                </a:cubicBezTo>
                <a:cubicBezTo>
                  <a:pt x="4114" y="14385"/>
                  <a:pt x="4194" y="14303"/>
                  <a:pt x="4217" y="14188"/>
                </a:cubicBezTo>
                <a:cubicBezTo>
                  <a:pt x="4231" y="14118"/>
                  <a:pt x="4214" y="14085"/>
                  <a:pt x="4167" y="14039"/>
                </a:cubicBezTo>
                <a:cubicBezTo>
                  <a:pt x="4128" y="14001"/>
                  <a:pt x="4049" y="14045"/>
                  <a:pt x="4018" y="14089"/>
                </a:cubicBezTo>
                <a:cubicBezTo>
                  <a:pt x="3971" y="14157"/>
                  <a:pt x="3992" y="14262"/>
                  <a:pt x="3969" y="14337"/>
                </a:cubicBezTo>
                <a:cubicBezTo>
                  <a:pt x="3949" y="14378"/>
                  <a:pt x="3940" y="14384"/>
                  <a:pt x="3944" y="14412"/>
                </a:cubicBezTo>
              </a:path>
              <a:path w="8658" h="2804">
                <a:moveTo>
                  <a:pt x="3572" y="14362"/>
                </a:moveTo>
                <a:cubicBezTo>
                  <a:pt x="3686" y="14362"/>
                  <a:pt x="3785" y="14353"/>
                  <a:pt x="3894" y="14337"/>
                </a:cubicBezTo>
                <a:cubicBezTo>
                  <a:pt x="3976" y="14325"/>
                  <a:pt x="4040" y="14351"/>
                  <a:pt x="4118" y="14362"/>
                </a:cubicBezTo>
                <a:cubicBezTo>
                  <a:pt x="4189" y="14372"/>
                  <a:pt x="4259" y="14367"/>
                  <a:pt x="4316" y="14337"/>
                </a:cubicBezTo>
                <a:cubicBezTo>
                  <a:pt x="4333" y="14329"/>
                  <a:pt x="4349" y="14320"/>
                  <a:pt x="4366" y="14312"/>
                </a:cubicBezTo>
              </a:path>
              <a:path w="8658" h="2804">
                <a:moveTo>
                  <a:pt x="3894" y="14560"/>
                </a:moveTo>
                <a:cubicBezTo>
                  <a:pt x="3799" y="14658"/>
                  <a:pt x="3960" y="14562"/>
                  <a:pt x="3994" y="14536"/>
                </a:cubicBezTo>
                <a:cubicBezTo>
                  <a:pt x="4046" y="14497"/>
                  <a:pt x="4024" y="14496"/>
                  <a:pt x="4093" y="14486"/>
                </a:cubicBezTo>
                <a:cubicBezTo>
                  <a:pt x="4128" y="14556"/>
                  <a:pt x="4120" y="14594"/>
                  <a:pt x="4093" y="14660"/>
                </a:cubicBezTo>
                <a:cubicBezTo>
                  <a:pt x="4062" y="14737"/>
                  <a:pt x="4016" y="14828"/>
                  <a:pt x="3994" y="14908"/>
                </a:cubicBezTo>
                <a:cubicBezTo>
                  <a:pt x="3973" y="14986"/>
                  <a:pt x="3962" y="15087"/>
                  <a:pt x="3919" y="15156"/>
                </a:cubicBezTo>
                <a:cubicBezTo>
                  <a:pt x="3891" y="15183"/>
                  <a:pt x="3877" y="15191"/>
                  <a:pt x="3845" y="15180"/>
                </a:cubicBezTo>
                <a:cubicBezTo>
                  <a:pt x="3854" y="15097"/>
                  <a:pt x="3878" y="15071"/>
                  <a:pt x="3919" y="15007"/>
                </a:cubicBezTo>
                <a:cubicBezTo>
                  <a:pt x="3955" y="14951"/>
                  <a:pt x="3983" y="14889"/>
                  <a:pt x="4018" y="14833"/>
                </a:cubicBezTo>
                <a:cubicBezTo>
                  <a:pt x="4092" y="14870"/>
                  <a:pt x="4128" y="14884"/>
                  <a:pt x="4167" y="14957"/>
                </a:cubicBezTo>
                <a:cubicBezTo>
                  <a:pt x="4207" y="15032"/>
                  <a:pt x="4228" y="15042"/>
                  <a:pt x="4316" y="15056"/>
                </a:cubicBezTo>
              </a:path>
              <a:path w="8658" h="2804">
                <a:moveTo>
                  <a:pt x="4390" y="14511"/>
                </a:moveTo>
                <a:cubicBezTo>
                  <a:pt x="4460" y="14493"/>
                  <a:pt x="4509" y="14511"/>
                  <a:pt x="4589" y="14511"/>
                </a:cubicBezTo>
              </a:path>
              <a:path w="8658" h="2804">
                <a:moveTo>
                  <a:pt x="4390" y="14560"/>
                </a:moveTo>
                <a:cubicBezTo>
                  <a:pt x="4371" y="14587"/>
                  <a:pt x="4284" y="14701"/>
                  <a:pt x="4291" y="14734"/>
                </a:cubicBezTo>
                <a:cubicBezTo>
                  <a:pt x="4304" y="14798"/>
                  <a:pt x="4398" y="14784"/>
                  <a:pt x="4440" y="14784"/>
                </a:cubicBezTo>
                <a:cubicBezTo>
                  <a:pt x="4541" y="14784"/>
                  <a:pt x="4532" y="14783"/>
                  <a:pt x="4589" y="14858"/>
                </a:cubicBezTo>
                <a:cubicBezTo>
                  <a:pt x="4627" y="14908"/>
                  <a:pt x="4635" y="15056"/>
                  <a:pt x="4614" y="15131"/>
                </a:cubicBezTo>
                <a:cubicBezTo>
                  <a:pt x="4590" y="15216"/>
                  <a:pt x="4512" y="15274"/>
                  <a:pt x="4440" y="15280"/>
                </a:cubicBezTo>
                <a:cubicBezTo>
                  <a:pt x="4348" y="15287"/>
                  <a:pt x="4364" y="15265"/>
                  <a:pt x="4316" y="15205"/>
                </a:cubicBezTo>
              </a:path>
              <a:path w="8658" h="2804">
                <a:moveTo>
                  <a:pt x="4837" y="14163"/>
                </a:moveTo>
                <a:cubicBezTo>
                  <a:pt x="4870" y="14155"/>
                  <a:pt x="4903" y="14147"/>
                  <a:pt x="4936" y="14139"/>
                </a:cubicBezTo>
              </a:path>
              <a:path w="8658" h="2804">
                <a:moveTo>
                  <a:pt x="4812" y="14263"/>
                </a:moveTo>
                <a:cubicBezTo>
                  <a:pt x="4877" y="14313"/>
                  <a:pt x="4931" y="14355"/>
                  <a:pt x="5011" y="14362"/>
                </a:cubicBezTo>
                <a:cubicBezTo>
                  <a:pt x="5019" y="14362"/>
                  <a:pt x="5027" y="14362"/>
                  <a:pt x="5035" y="14362"/>
                </a:cubicBezTo>
              </a:path>
              <a:path w="8658" h="2804">
                <a:moveTo>
                  <a:pt x="5680" y="13519"/>
                </a:moveTo>
                <a:cubicBezTo>
                  <a:pt x="5680" y="13661"/>
                  <a:pt x="5702" y="13768"/>
                  <a:pt x="5705" y="13915"/>
                </a:cubicBezTo>
                <a:cubicBezTo>
                  <a:pt x="5712" y="14228"/>
                  <a:pt x="5679" y="14555"/>
                  <a:pt x="5730" y="14858"/>
                </a:cubicBezTo>
                <a:cubicBezTo>
                  <a:pt x="5730" y="14908"/>
                  <a:pt x="5730" y="14924"/>
                  <a:pt x="5730" y="14957"/>
                </a:cubicBezTo>
              </a:path>
              <a:path w="8658" h="2804">
                <a:moveTo>
                  <a:pt x="5904" y="14288"/>
                </a:moveTo>
                <a:cubicBezTo>
                  <a:pt x="6027" y="14288"/>
                  <a:pt x="6162" y="14306"/>
                  <a:pt x="6276" y="14263"/>
                </a:cubicBezTo>
              </a:path>
              <a:path w="8658" h="2804">
                <a:moveTo>
                  <a:pt x="6524" y="13742"/>
                </a:moveTo>
                <a:cubicBezTo>
                  <a:pt x="6635" y="13711"/>
                  <a:pt x="6672" y="13704"/>
                  <a:pt x="6747" y="13791"/>
                </a:cubicBezTo>
              </a:path>
              <a:path w="8658" h="2804">
                <a:moveTo>
                  <a:pt x="6697" y="13891"/>
                </a:moveTo>
                <a:cubicBezTo>
                  <a:pt x="6632" y="13912"/>
                  <a:pt x="6616" y="13920"/>
                  <a:pt x="6573" y="13915"/>
                </a:cubicBezTo>
                <a:cubicBezTo>
                  <a:pt x="6629" y="13901"/>
                  <a:pt x="6750" y="13903"/>
                  <a:pt x="6796" y="13965"/>
                </a:cubicBezTo>
                <a:cubicBezTo>
                  <a:pt x="6824" y="14003"/>
                  <a:pt x="6839" y="14141"/>
                  <a:pt x="6821" y="14188"/>
                </a:cubicBezTo>
                <a:cubicBezTo>
                  <a:pt x="6805" y="14230"/>
                  <a:pt x="6683" y="14265"/>
                  <a:pt x="6648" y="14238"/>
                </a:cubicBezTo>
                <a:cubicBezTo>
                  <a:pt x="6640" y="14221"/>
                  <a:pt x="6631" y="14205"/>
                  <a:pt x="6623" y="14188"/>
                </a:cubicBezTo>
              </a:path>
              <a:path w="8658" h="2804">
                <a:moveTo>
                  <a:pt x="6896" y="13791"/>
                </a:moveTo>
                <a:cubicBezTo>
                  <a:pt x="6976" y="13752"/>
                  <a:pt x="7015" y="13730"/>
                  <a:pt x="7094" y="13791"/>
                </a:cubicBezTo>
                <a:cubicBezTo>
                  <a:pt x="7167" y="13847"/>
                  <a:pt x="7251" y="13933"/>
                  <a:pt x="7193" y="14039"/>
                </a:cubicBezTo>
                <a:cubicBezTo>
                  <a:pt x="7176" y="14069"/>
                  <a:pt x="7074" y="14165"/>
                  <a:pt x="7045" y="14188"/>
                </a:cubicBezTo>
                <a:cubicBezTo>
                  <a:pt x="7011" y="14215"/>
                  <a:pt x="6908" y="14197"/>
                  <a:pt x="6896" y="14163"/>
                </a:cubicBezTo>
                <a:cubicBezTo>
                  <a:pt x="6896" y="14147"/>
                  <a:pt x="6896" y="14130"/>
                  <a:pt x="6896" y="14114"/>
                </a:cubicBezTo>
                <a:cubicBezTo>
                  <a:pt x="6943" y="14057"/>
                  <a:pt x="6977" y="14040"/>
                  <a:pt x="7045" y="14064"/>
                </a:cubicBezTo>
                <a:cubicBezTo>
                  <a:pt x="7105" y="14085"/>
                  <a:pt x="7188" y="14124"/>
                  <a:pt x="7243" y="14139"/>
                </a:cubicBezTo>
                <a:cubicBezTo>
                  <a:pt x="7260" y="14139"/>
                  <a:pt x="7276" y="14139"/>
                  <a:pt x="7293" y="14139"/>
                </a:cubicBezTo>
              </a:path>
              <a:path w="8658" h="2804">
                <a:moveTo>
                  <a:pt x="7541" y="14213"/>
                </a:moveTo>
                <a:cubicBezTo>
                  <a:pt x="7449" y="14220"/>
                  <a:pt x="7334" y="14217"/>
                  <a:pt x="7243" y="14238"/>
                </a:cubicBezTo>
                <a:cubicBezTo>
                  <a:pt x="7175" y="14254"/>
                  <a:pt x="7089" y="14282"/>
                  <a:pt x="7020" y="14288"/>
                </a:cubicBezTo>
                <a:cubicBezTo>
                  <a:pt x="6943" y="14295"/>
                  <a:pt x="6834" y="14292"/>
                  <a:pt x="6772" y="14362"/>
                </a:cubicBezTo>
                <a:cubicBezTo>
                  <a:pt x="6772" y="14370"/>
                  <a:pt x="6772" y="14379"/>
                  <a:pt x="6772" y="14387"/>
                </a:cubicBezTo>
              </a:path>
              <a:path w="8658" h="2804">
                <a:moveTo>
                  <a:pt x="7020" y="14436"/>
                </a:moveTo>
                <a:cubicBezTo>
                  <a:pt x="7073" y="14436"/>
                  <a:pt x="7220" y="14405"/>
                  <a:pt x="7243" y="14486"/>
                </a:cubicBezTo>
                <a:cubicBezTo>
                  <a:pt x="7261" y="14549"/>
                  <a:pt x="7195" y="14654"/>
                  <a:pt x="7169" y="14709"/>
                </a:cubicBezTo>
                <a:cubicBezTo>
                  <a:pt x="7140" y="14770"/>
                  <a:pt x="7085" y="14828"/>
                  <a:pt x="7045" y="14883"/>
                </a:cubicBezTo>
                <a:cubicBezTo>
                  <a:pt x="7025" y="14910"/>
                  <a:pt x="6994" y="14934"/>
                  <a:pt x="6970" y="14957"/>
                </a:cubicBezTo>
                <a:cubicBezTo>
                  <a:pt x="6978" y="14876"/>
                  <a:pt x="7011" y="14819"/>
                  <a:pt x="7020" y="14734"/>
                </a:cubicBezTo>
                <a:cubicBezTo>
                  <a:pt x="7089" y="14769"/>
                  <a:pt x="7190" y="14801"/>
                  <a:pt x="7243" y="14858"/>
                </a:cubicBezTo>
                <a:cubicBezTo>
                  <a:pt x="7296" y="14914"/>
                  <a:pt x="7285" y="14965"/>
                  <a:pt x="7367" y="14932"/>
                </a:cubicBezTo>
              </a:path>
              <a:path w="8658" h="2804">
                <a:moveTo>
                  <a:pt x="7466" y="14436"/>
                </a:moveTo>
                <a:cubicBezTo>
                  <a:pt x="7535" y="14411"/>
                  <a:pt x="7596" y="14413"/>
                  <a:pt x="7665" y="14387"/>
                </a:cubicBezTo>
              </a:path>
              <a:path w="8658" h="2804">
                <a:moveTo>
                  <a:pt x="7466" y="14387"/>
                </a:moveTo>
                <a:cubicBezTo>
                  <a:pt x="7432" y="14472"/>
                  <a:pt x="7402" y="14489"/>
                  <a:pt x="7466" y="14560"/>
                </a:cubicBezTo>
                <a:cubicBezTo>
                  <a:pt x="7502" y="14600"/>
                  <a:pt x="7566" y="14598"/>
                  <a:pt x="7615" y="14635"/>
                </a:cubicBezTo>
                <a:cubicBezTo>
                  <a:pt x="7664" y="14672"/>
                  <a:pt x="7674" y="14828"/>
                  <a:pt x="7665" y="14883"/>
                </a:cubicBezTo>
                <a:cubicBezTo>
                  <a:pt x="7659" y="14919"/>
                  <a:pt x="7637" y="15018"/>
                  <a:pt x="7590" y="15032"/>
                </a:cubicBezTo>
                <a:cubicBezTo>
                  <a:pt x="7490" y="15061"/>
                  <a:pt x="7447" y="15019"/>
                  <a:pt x="7392" y="14957"/>
                </a:cubicBezTo>
                <a:cubicBezTo>
                  <a:pt x="7375" y="14941"/>
                  <a:pt x="7359" y="14924"/>
                  <a:pt x="7342" y="14908"/>
                </a:cubicBezTo>
              </a:path>
              <a:path w="8658" h="2804">
                <a:moveTo>
                  <a:pt x="8086" y="14387"/>
                </a:moveTo>
                <a:cubicBezTo>
                  <a:pt x="8177" y="14402"/>
                  <a:pt x="8244" y="14412"/>
                  <a:pt x="8334" y="14412"/>
                </a:cubicBezTo>
              </a:path>
              <a:path w="8658" h="2804">
                <a:moveTo>
                  <a:pt x="8161" y="14610"/>
                </a:moveTo>
                <a:cubicBezTo>
                  <a:pt x="8216" y="14655"/>
                  <a:pt x="8262" y="14680"/>
                  <a:pt x="8334" y="14684"/>
                </a:cubicBezTo>
                <a:cubicBezTo>
                  <a:pt x="8396" y="14687"/>
                  <a:pt x="8426" y="14681"/>
                  <a:pt x="8483" y="14660"/>
                </a:cubicBezTo>
              </a:path>
              <a:path w="8658" h="2804">
                <a:moveTo>
                  <a:pt x="5259" y="13469"/>
                </a:moveTo>
                <a:cubicBezTo>
                  <a:pt x="5335" y="13440"/>
                  <a:pt x="5405" y="13425"/>
                  <a:pt x="5482" y="13469"/>
                </a:cubicBezTo>
                <a:cubicBezTo>
                  <a:pt x="5571" y="13520"/>
                  <a:pt x="5549" y="13611"/>
                  <a:pt x="5531" y="13692"/>
                </a:cubicBezTo>
                <a:cubicBezTo>
                  <a:pt x="5511" y="13780"/>
                  <a:pt x="5471" y="13857"/>
                  <a:pt x="5383" y="13891"/>
                </a:cubicBezTo>
                <a:cubicBezTo>
                  <a:pt x="5343" y="13907"/>
                  <a:pt x="5247" y="13890"/>
                  <a:pt x="5308" y="13915"/>
                </a:cubicBezTo>
                <a:cubicBezTo>
                  <a:pt x="5400" y="13952"/>
                  <a:pt x="5443" y="13958"/>
                  <a:pt x="5531" y="13940"/>
                </a:cubicBezTo>
              </a:path>
              <a:path w="8658" h="2804">
                <a:moveTo>
                  <a:pt x="5705" y="13469"/>
                </a:moveTo>
                <a:cubicBezTo>
                  <a:pt x="5784" y="13452"/>
                  <a:pt x="5827" y="13444"/>
                  <a:pt x="5904" y="13444"/>
                </a:cubicBezTo>
              </a:path>
              <a:path w="8658" h="2804">
                <a:moveTo>
                  <a:pt x="5779" y="13494"/>
                </a:moveTo>
                <a:cubicBezTo>
                  <a:pt x="5718" y="13512"/>
                  <a:pt x="5583" y="13519"/>
                  <a:pt x="5606" y="13618"/>
                </a:cubicBezTo>
                <a:cubicBezTo>
                  <a:pt x="5620" y="13676"/>
                  <a:pt x="5689" y="13701"/>
                  <a:pt x="5730" y="13742"/>
                </a:cubicBezTo>
                <a:cubicBezTo>
                  <a:pt x="5778" y="13790"/>
                  <a:pt x="5806" y="13843"/>
                  <a:pt x="5854" y="13891"/>
                </a:cubicBezTo>
                <a:cubicBezTo>
                  <a:pt x="5745" y="14012"/>
                  <a:pt x="5764" y="13970"/>
                  <a:pt x="5631" y="13940"/>
                </a:cubicBezTo>
                <a:cubicBezTo>
                  <a:pt x="5614" y="13940"/>
                  <a:pt x="5598" y="13940"/>
                  <a:pt x="5581" y="13940"/>
                </a:cubicBezTo>
              </a:path>
              <a:path w="8658" h="2804">
                <a:moveTo>
                  <a:pt x="5779" y="14039"/>
                </a:moveTo>
                <a:cubicBezTo>
                  <a:pt x="5711" y="14079"/>
                  <a:pt x="5655" y="14108"/>
                  <a:pt x="5581" y="14139"/>
                </a:cubicBezTo>
                <a:cubicBezTo>
                  <a:pt x="5508" y="14170"/>
                  <a:pt x="5505" y="14212"/>
                  <a:pt x="5432" y="14238"/>
                </a:cubicBezTo>
                <a:cubicBezTo>
                  <a:pt x="5367" y="14261"/>
                  <a:pt x="5340" y="14306"/>
                  <a:pt x="5308" y="14362"/>
                </a:cubicBezTo>
              </a:path>
              <a:path w="8658" h="2804">
                <a:moveTo>
                  <a:pt x="5432" y="14412"/>
                </a:moveTo>
                <a:cubicBezTo>
                  <a:pt x="5496" y="14403"/>
                  <a:pt x="5559" y="14368"/>
                  <a:pt x="5631" y="14387"/>
                </a:cubicBezTo>
                <a:cubicBezTo>
                  <a:pt x="5752" y="14419"/>
                  <a:pt x="5704" y="14532"/>
                  <a:pt x="5655" y="14610"/>
                </a:cubicBezTo>
                <a:cubicBezTo>
                  <a:pt x="5614" y="14674"/>
                  <a:pt x="5553" y="14718"/>
                  <a:pt x="5507" y="14784"/>
                </a:cubicBezTo>
                <a:cubicBezTo>
                  <a:pt x="5456" y="14858"/>
                  <a:pt x="5432" y="14852"/>
                  <a:pt x="5432" y="14784"/>
                </a:cubicBezTo>
                <a:cubicBezTo>
                  <a:pt x="5511" y="14764"/>
                  <a:pt x="5522" y="14774"/>
                  <a:pt x="5581" y="14833"/>
                </a:cubicBezTo>
                <a:cubicBezTo>
                  <a:pt x="5673" y="14925"/>
                  <a:pt x="5648" y="14994"/>
                  <a:pt x="5779" y="15007"/>
                </a:cubicBezTo>
              </a:path>
              <a:path w="8658" h="2804">
                <a:moveTo>
                  <a:pt x="5904" y="14461"/>
                </a:moveTo>
                <a:cubicBezTo>
                  <a:pt x="5978" y="14461"/>
                  <a:pt x="6053" y="14461"/>
                  <a:pt x="6127" y="14461"/>
                </a:cubicBezTo>
              </a:path>
              <a:path w="8658" h="2804">
                <a:moveTo>
                  <a:pt x="5879" y="14436"/>
                </a:moveTo>
                <a:cubicBezTo>
                  <a:pt x="5845" y="14470"/>
                  <a:pt x="5785" y="14504"/>
                  <a:pt x="5804" y="14560"/>
                </a:cubicBezTo>
                <a:cubicBezTo>
                  <a:pt x="5823" y="14616"/>
                  <a:pt x="5892" y="14606"/>
                  <a:pt x="5928" y="14635"/>
                </a:cubicBezTo>
                <a:cubicBezTo>
                  <a:pt x="5982" y="14679"/>
                  <a:pt x="6051" y="14688"/>
                  <a:pt x="6077" y="14759"/>
                </a:cubicBezTo>
                <a:cubicBezTo>
                  <a:pt x="6105" y="14835"/>
                  <a:pt x="6099" y="14897"/>
                  <a:pt x="6052" y="14957"/>
                </a:cubicBezTo>
                <a:cubicBezTo>
                  <a:pt x="6013" y="15006"/>
                  <a:pt x="5913" y="14982"/>
                  <a:pt x="5854" y="14982"/>
                </a:cubicBezTo>
                <a:cubicBezTo>
                  <a:pt x="5802" y="14982"/>
                  <a:pt x="5784" y="14981"/>
                  <a:pt x="5755" y="14957"/>
                </a:cubicBezTo>
              </a:path>
              <a:path w="8658" h="2804">
                <a:moveTo>
                  <a:pt x="8533" y="13891"/>
                </a:moveTo>
                <a:cubicBezTo>
                  <a:pt x="8603" y="13917"/>
                  <a:pt x="8666" y="13928"/>
                  <a:pt x="8731" y="13965"/>
                </a:cubicBezTo>
                <a:cubicBezTo>
                  <a:pt x="8779" y="13989"/>
                  <a:pt x="8793" y="13997"/>
                  <a:pt x="8830" y="13990"/>
                </a:cubicBezTo>
              </a:path>
              <a:path w="8658" h="2804">
                <a:moveTo>
                  <a:pt x="9029" y="13271"/>
                </a:moveTo>
                <a:cubicBezTo>
                  <a:pt x="9128" y="13271"/>
                  <a:pt x="9210" y="13280"/>
                  <a:pt x="9302" y="13295"/>
                </a:cubicBezTo>
                <a:cubicBezTo>
                  <a:pt x="9368" y="13306"/>
                  <a:pt x="9423" y="13281"/>
                  <a:pt x="9475" y="13271"/>
                </a:cubicBezTo>
                <a:cubicBezTo>
                  <a:pt x="9583" y="13250"/>
                  <a:pt x="9534" y="13325"/>
                  <a:pt x="9525" y="13370"/>
                </a:cubicBezTo>
                <a:cubicBezTo>
                  <a:pt x="9512" y="13436"/>
                  <a:pt x="9517" y="13503"/>
                  <a:pt x="9500" y="13568"/>
                </a:cubicBezTo>
                <a:cubicBezTo>
                  <a:pt x="9473" y="13671"/>
                  <a:pt x="9455" y="13785"/>
                  <a:pt x="9451" y="13891"/>
                </a:cubicBezTo>
                <a:cubicBezTo>
                  <a:pt x="9446" y="14026"/>
                  <a:pt x="9452" y="14168"/>
                  <a:pt x="9475" y="14288"/>
                </a:cubicBezTo>
                <a:cubicBezTo>
                  <a:pt x="9485" y="14341"/>
                  <a:pt x="9475" y="14407"/>
                  <a:pt x="9475" y="14461"/>
                </a:cubicBezTo>
              </a:path>
              <a:path w="8658" h="2804">
                <a:moveTo>
                  <a:pt x="9103" y="14610"/>
                </a:moveTo>
                <a:cubicBezTo>
                  <a:pt x="9158" y="14573"/>
                  <a:pt x="9221" y="14558"/>
                  <a:pt x="9277" y="14536"/>
                </a:cubicBezTo>
                <a:cubicBezTo>
                  <a:pt x="9347" y="14508"/>
                  <a:pt x="9454" y="14493"/>
                  <a:pt x="9525" y="14486"/>
                </a:cubicBezTo>
                <a:cubicBezTo>
                  <a:pt x="9621" y="14476"/>
                  <a:pt x="9700" y="14461"/>
                  <a:pt x="9798" y="14461"/>
                </a:cubicBezTo>
                <a:cubicBezTo>
                  <a:pt x="9861" y="14461"/>
                  <a:pt x="9906" y="14486"/>
                  <a:pt x="9971" y="14486"/>
                </a:cubicBezTo>
              </a:path>
              <a:path w="8658" h="2804">
                <a:moveTo>
                  <a:pt x="9525" y="14784"/>
                </a:moveTo>
                <a:cubicBezTo>
                  <a:pt x="9477" y="14831"/>
                  <a:pt x="9457" y="14851"/>
                  <a:pt x="9401" y="14883"/>
                </a:cubicBezTo>
                <a:cubicBezTo>
                  <a:pt x="9443" y="14862"/>
                  <a:pt x="9510" y="14795"/>
                  <a:pt x="9550" y="14784"/>
                </a:cubicBezTo>
                <a:cubicBezTo>
                  <a:pt x="9606" y="14768"/>
                  <a:pt x="9649" y="14744"/>
                  <a:pt x="9699" y="14784"/>
                </a:cubicBezTo>
                <a:cubicBezTo>
                  <a:pt x="9760" y="14832"/>
                  <a:pt x="9764" y="14905"/>
                  <a:pt x="9748" y="14982"/>
                </a:cubicBezTo>
                <a:cubicBezTo>
                  <a:pt x="9731" y="15063"/>
                  <a:pt x="9715" y="15147"/>
                  <a:pt x="9699" y="15230"/>
                </a:cubicBezTo>
                <a:cubicBezTo>
                  <a:pt x="9678" y="15344"/>
                  <a:pt x="9622" y="15408"/>
                  <a:pt x="9575" y="15503"/>
                </a:cubicBezTo>
                <a:cubicBezTo>
                  <a:pt x="9537" y="15579"/>
                  <a:pt x="9512" y="15640"/>
                  <a:pt x="9451" y="15701"/>
                </a:cubicBezTo>
                <a:cubicBezTo>
                  <a:pt x="9443" y="15709"/>
                  <a:pt x="9434" y="15718"/>
                  <a:pt x="9426" y="15726"/>
                </a:cubicBezTo>
                <a:cubicBezTo>
                  <a:pt x="9393" y="15639"/>
                  <a:pt x="9409" y="15568"/>
                  <a:pt x="9451" y="15478"/>
                </a:cubicBezTo>
                <a:cubicBezTo>
                  <a:pt x="9481" y="15414"/>
                  <a:pt x="9540" y="15407"/>
                  <a:pt x="9599" y="15404"/>
                </a:cubicBezTo>
                <a:cubicBezTo>
                  <a:pt x="9684" y="15400"/>
                  <a:pt x="9741" y="15482"/>
                  <a:pt x="9823" y="15478"/>
                </a:cubicBezTo>
                <a:cubicBezTo>
                  <a:pt x="9863" y="15458"/>
                  <a:pt x="9869" y="15449"/>
                  <a:pt x="9897" y="15453"/>
                </a:cubicBezTo>
              </a:path>
              <a:path w="8658" h="2804">
                <a:moveTo>
                  <a:pt x="10120" y="14982"/>
                </a:moveTo>
                <a:cubicBezTo>
                  <a:pt x="10207" y="14957"/>
                  <a:pt x="10286" y="14938"/>
                  <a:pt x="10368" y="14908"/>
                </a:cubicBezTo>
              </a:path>
              <a:path w="8658" h="2804">
                <a:moveTo>
                  <a:pt x="10170" y="14982"/>
                </a:moveTo>
                <a:cubicBezTo>
                  <a:pt x="10077" y="15090"/>
                  <a:pt x="10058" y="15089"/>
                  <a:pt x="10071" y="15180"/>
                </a:cubicBezTo>
                <a:cubicBezTo>
                  <a:pt x="10088" y="15298"/>
                  <a:pt x="10106" y="15263"/>
                  <a:pt x="10195" y="15304"/>
                </a:cubicBezTo>
                <a:cubicBezTo>
                  <a:pt x="10246" y="15328"/>
                  <a:pt x="10288" y="15349"/>
                  <a:pt x="10344" y="15379"/>
                </a:cubicBezTo>
                <a:cubicBezTo>
                  <a:pt x="10426" y="15423"/>
                  <a:pt x="10438" y="15434"/>
                  <a:pt x="10443" y="15528"/>
                </a:cubicBezTo>
                <a:cubicBezTo>
                  <a:pt x="10447" y="15612"/>
                  <a:pt x="10433" y="15700"/>
                  <a:pt x="10393" y="15776"/>
                </a:cubicBezTo>
                <a:cubicBezTo>
                  <a:pt x="10374" y="15811"/>
                  <a:pt x="10322" y="15847"/>
                  <a:pt x="10294" y="15875"/>
                </a:cubicBezTo>
                <a:cubicBezTo>
                  <a:pt x="10247" y="15828"/>
                  <a:pt x="10199" y="15813"/>
                  <a:pt x="10145" y="15776"/>
                </a:cubicBezTo>
                <a:cubicBezTo>
                  <a:pt x="10112" y="15753"/>
                  <a:pt x="10073" y="15704"/>
                  <a:pt x="10046" y="156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Ink 16"/>
          <p:cNvSpPr/>
          <p:nvPr/>
        </p:nvSpPr>
        <p:spPr>
          <a:xfrm>
            <a:off x="4384800" y="3044880"/>
            <a:ext cx="187200" cy="9360"/>
          </a:xfrm>
          <a:custGeom>
            <a:avLst/>
            <a:gdLst/>
            <a:ahLst/>
            <a:rect l="l" t="t" r="r" b="b"/>
            <a:pathLst>
              <a:path w="522" h="26">
                <a:moveTo>
                  <a:pt x="12179" y="8483"/>
                </a:moveTo>
                <a:cubicBezTo>
                  <a:pt x="12302" y="8464"/>
                  <a:pt x="12403" y="8458"/>
                  <a:pt x="12526" y="8458"/>
                </a:cubicBezTo>
                <a:cubicBezTo>
                  <a:pt x="12584" y="8458"/>
                  <a:pt x="12642" y="8458"/>
                  <a:pt x="12700" y="84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Ink 17"/>
          <p:cNvSpPr/>
          <p:nvPr/>
        </p:nvSpPr>
        <p:spPr>
          <a:xfrm>
            <a:off x="4367160" y="3143160"/>
            <a:ext cx="214200" cy="19080"/>
          </a:xfrm>
          <a:custGeom>
            <a:avLst/>
            <a:gdLst/>
            <a:ahLst/>
            <a:rect l="l" t="t" r="r" b="b"/>
            <a:pathLst>
              <a:path w="597" h="51">
                <a:moveTo>
                  <a:pt x="12129" y="8731"/>
                </a:moveTo>
                <a:cubicBezTo>
                  <a:pt x="12289" y="8771"/>
                  <a:pt x="12390" y="8781"/>
                  <a:pt x="12551" y="8781"/>
                </a:cubicBezTo>
                <a:cubicBezTo>
                  <a:pt x="12609" y="8781"/>
                  <a:pt x="12667" y="8781"/>
                  <a:pt x="12725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Ink 18"/>
          <p:cNvSpPr/>
          <p:nvPr/>
        </p:nvSpPr>
        <p:spPr>
          <a:xfrm>
            <a:off x="4776840" y="2795760"/>
            <a:ext cx="179280" cy="249120"/>
          </a:xfrm>
          <a:custGeom>
            <a:avLst/>
            <a:gdLst/>
            <a:ahLst/>
            <a:rect l="l" t="t" r="r" b="b"/>
            <a:pathLst>
              <a:path w="497" h="695">
                <a:moveTo>
                  <a:pt x="13271" y="7962"/>
                </a:moveTo>
                <a:cubicBezTo>
                  <a:pt x="13326" y="7907"/>
                  <a:pt x="13375" y="7849"/>
                  <a:pt x="13444" y="7813"/>
                </a:cubicBezTo>
                <a:cubicBezTo>
                  <a:pt x="13506" y="7781"/>
                  <a:pt x="13531" y="7740"/>
                  <a:pt x="13593" y="7789"/>
                </a:cubicBezTo>
                <a:cubicBezTo>
                  <a:pt x="13671" y="7850"/>
                  <a:pt x="13679" y="7945"/>
                  <a:pt x="13667" y="8037"/>
                </a:cubicBezTo>
                <a:cubicBezTo>
                  <a:pt x="13661" y="8085"/>
                  <a:pt x="13638" y="8193"/>
                  <a:pt x="13618" y="8235"/>
                </a:cubicBezTo>
                <a:cubicBezTo>
                  <a:pt x="13589" y="8295"/>
                  <a:pt x="13540" y="8384"/>
                  <a:pt x="13494" y="8434"/>
                </a:cubicBezTo>
                <a:cubicBezTo>
                  <a:pt x="13445" y="8487"/>
                  <a:pt x="13339" y="8461"/>
                  <a:pt x="13295" y="8409"/>
                </a:cubicBezTo>
                <a:cubicBezTo>
                  <a:pt x="13269" y="8379"/>
                  <a:pt x="13243" y="8255"/>
                  <a:pt x="13295" y="8235"/>
                </a:cubicBezTo>
                <a:cubicBezTo>
                  <a:pt x="13342" y="8217"/>
                  <a:pt x="13455" y="8230"/>
                  <a:pt x="13494" y="8260"/>
                </a:cubicBezTo>
                <a:cubicBezTo>
                  <a:pt x="13549" y="8303"/>
                  <a:pt x="13615" y="8362"/>
                  <a:pt x="13667" y="8409"/>
                </a:cubicBezTo>
                <a:cubicBezTo>
                  <a:pt x="13712" y="8450"/>
                  <a:pt x="13723" y="8436"/>
                  <a:pt x="13767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Ink 19"/>
          <p:cNvSpPr/>
          <p:nvPr/>
        </p:nvSpPr>
        <p:spPr>
          <a:xfrm>
            <a:off x="5000760" y="2803680"/>
            <a:ext cx="98280" cy="107640"/>
          </a:xfrm>
          <a:custGeom>
            <a:avLst/>
            <a:gdLst/>
            <a:ahLst/>
            <a:rect l="l" t="t" r="r" b="b"/>
            <a:pathLst>
              <a:path w="273" h="298">
                <a:moveTo>
                  <a:pt x="13915" y="7789"/>
                </a:moveTo>
                <a:cubicBezTo>
                  <a:pt x="13906" y="7855"/>
                  <a:pt x="13874" y="7912"/>
                  <a:pt x="13891" y="7987"/>
                </a:cubicBezTo>
                <a:cubicBezTo>
                  <a:pt x="13914" y="8085"/>
                  <a:pt x="14008" y="8083"/>
                  <a:pt x="14089" y="8086"/>
                </a:cubicBezTo>
                <a:cubicBezTo>
                  <a:pt x="14114" y="8086"/>
                  <a:pt x="14138" y="8086"/>
                  <a:pt x="14163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Ink 20"/>
          <p:cNvSpPr/>
          <p:nvPr/>
        </p:nvSpPr>
        <p:spPr>
          <a:xfrm>
            <a:off x="5081760" y="2732040"/>
            <a:ext cx="44280" cy="339840"/>
          </a:xfrm>
          <a:custGeom>
            <a:avLst/>
            <a:gdLst/>
            <a:ahLst/>
            <a:rect l="l" t="t" r="r" b="b"/>
            <a:pathLst>
              <a:path w="125" h="944">
                <a:moveTo>
                  <a:pt x="14188" y="7590"/>
                </a:moveTo>
                <a:cubicBezTo>
                  <a:pt x="14110" y="7688"/>
                  <a:pt x="14161" y="7733"/>
                  <a:pt x="14139" y="7863"/>
                </a:cubicBezTo>
                <a:cubicBezTo>
                  <a:pt x="14117" y="7995"/>
                  <a:pt x="14144" y="8039"/>
                  <a:pt x="14163" y="8186"/>
                </a:cubicBezTo>
                <a:cubicBezTo>
                  <a:pt x="14173" y="8262"/>
                  <a:pt x="14222" y="8311"/>
                  <a:pt x="14238" y="8384"/>
                </a:cubicBezTo>
                <a:cubicBezTo>
                  <a:pt x="14248" y="8430"/>
                  <a:pt x="14238" y="8486"/>
                  <a:pt x="14238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Ink 21"/>
          <p:cNvSpPr/>
          <p:nvPr/>
        </p:nvSpPr>
        <p:spPr>
          <a:xfrm>
            <a:off x="4776840" y="3098880"/>
            <a:ext cx="509400" cy="17280"/>
          </a:xfrm>
          <a:custGeom>
            <a:avLst/>
            <a:gdLst/>
            <a:ahLst/>
            <a:rect l="l" t="t" r="r" b="b"/>
            <a:pathLst>
              <a:path w="1414" h="51">
                <a:moveTo>
                  <a:pt x="13271" y="8632"/>
                </a:moveTo>
                <a:cubicBezTo>
                  <a:pt x="13354" y="8660"/>
                  <a:pt x="13429" y="8657"/>
                  <a:pt x="13519" y="8657"/>
                </a:cubicBezTo>
                <a:cubicBezTo>
                  <a:pt x="13640" y="8657"/>
                  <a:pt x="13748" y="8644"/>
                  <a:pt x="13866" y="8632"/>
                </a:cubicBezTo>
                <a:cubicBezTo>
                  <a:pt x="14087" y="8610"/>
                  <a:pt x="14498" y="8722"/>
                  <a:pt x="14684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Ink 22"/>
          <p:cNvSpPr/>
          <p:nvPr/>
        </p:nvSpPr>
        <p:spPr>
          <a:xfrm>
            <a:off x="4902120" y="3178080"/>
            <a:ext cx="250920" cy="322200"/>
          </a:xfrm>
          <a:custGeom>
            <a:avLst/>
            <a:gdLst/>
            <a:ahLst/>
            <a:rect l="l" t="t" r="r" b="b"/>
            <a:pathLst>
              <a:path w="695" h="894">
                <a:moveTo>
                  <a:pt x="13618" y="8979"/>
                </a:moveTo>
                <a:cubicBezTo>
                  <a:pt x="13669" y="8950"/>
                  <a:pt x="13701" y="8921"/>
                  <a:pt x="13742" y="8880"/>
                </a:cubicBezTo>
                <a:cubicBezTo>
                  <a:pt x="13793" y="8829"/>
                  <a:pt x="13888" y="8849"/>
                  <a:pt x="13940" y="8855"/>
                </a:cubicBezTo>
                <a:cubicBezTo>
                  <a:pt x="13993" y="8861"/>
                  <a:pt x="14053" y="8881"/>
                  <a:pt x="14089" y="8930"/>
                </a:cubicBezTo>
                <a:cubicBezTo>
                  <a:pt x="14130" y="8986"/>
                  <a:pt x="14114" y="9062"/>
                  <a:pt x="14114" y="9128"/>
                </a:cubicBezTo>
                <a:cubicBezTo>
                  <a:pt x="14114" y="9238"/>
                  <a:pt x="14091" y="9270"/>
                  <a:pt x="14064" y="9376"/>
                </a:cubicBezTo>
                <a:cubicBezTo>
                  <a:pt x="14041" y="9467"/>
                  <a:pt x="14034" y="9511"/>
                  <a:pt x="13965" y="9575"/>
                </a:cubicBezTo>
                <a:cubicBezTo>
                  <a:pt x="13899" y="9636"/>
                  <a:pt x="13881" y="9701"/>
                  <a:pt x="13791" y="9723"/>
                </a:cubicBezTo>
                <a:cubicBezTo>
                  <a:pt x="13685" y="9749"/>
                  <a:pt x="13630" y="9636"/>
                  <a:pt x="13643" y="9550"/>
                </a:cubicBezTo>
                <a:cubicBezTo>
                  <a:pt x="13656" y="9465"/>
                  <a:pt x="13711" y="9396"/>
                  <a:pt x="13791" y="9376"/>
                </a:cubicBezTo>
                <a:cubicBezTo>
                  <a:pt x="13890" y="9351"/>
                  <a:pt x="13999" y="9468"/>
                  <a:pt x="14064" y="9525"/>
                </a:cubicBezTo>
                <a:cubicBezTo>
                  <a:pt x="14105" y="9561"/>
                  <a:pt x="14185" y="9635"/>
                  <a:pt x="14238" y="9649"/>
                </a:cubicBezTo>
                <a:cubicBezTo>
                  <a:pt x="14279" y="9649"/>
                  <a:pt x="14287" y="9649"/>
                  <a:pt x="14312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Ink 23"/>
          <p:cNvSpPr/>
          <p:nvPr/>
        </p:nvSpPr>
        <p:spPr>
          <a:xfrm>
            <a:off x="5197320" y="3187800"/>
            <a:ext cx="125640" cy="27000"/>
          </a:xfrm>
          <a:custGeom>
            <a:avLst/>
            <a:gdLst/>
            <a:ahLst/>
            <a:rect l="l" t="t" r="r" b="b"/>
            <a:pathLst>
              <a:path w="349" h="76">
                <a:moveTo>
                  <a:pt x="14436" y="8930"/>
                </a:moveTo>
                <a:cubicBezTo>
                  <a:pt x="14506" y="8890"/>
                  <a:pt x="14527" y="8880"/>
                  <a:pt x="14610" y="8880"/>
                </a:cubicBezTo>
                <a:cubicBezTo>
                  <a:pt x="14678" y="8880"/>
                  <a:pt x="14721" y="8876"/>
                  <a:pt x="14784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Ink 24"/>
          <p:cNvSpPr/>
          <p:nvPr/>
        </p:nvSpPr>
        <p:spPr>
          <a:xfrm>
            <a:off x="5126040" y="3205080"/>
            <a:ext cx="204840" cy="312840"/>
          </a:xfrm>
          <a:custGeom>
            <a:avLst/>
            <a:gdLst/>
            <a:ahLst/>
            <a:rect l="l" t="t" r="r" b="b"/>
            <a:pathLst>
              <a:path w="571" h="869">
                <a:moveTo>
                  <a:pt x="14486" y="8905"/>
                </a:moveTo>
                <a:cubicBezTo>
                  <a:pt x="14452" y="8964"/>
                  <a:pt x="14416" y="8987"/>
                  <a:pt x="14412" y="9054"/>
                </a:cubicBezTo>
                <a:cubicBezTo>
                  <a:pt x="14406" y="9159"/>
                  <a:pt x="14455" y="9114"/>
                  <a:pt x="14511" y="9103"/>
                </a:cubicBezTo>
                <a:cubicBezTo>
                  <a:pt x="14573" y="9090"/>
                  <a:pt x="14643" y="9102"/>
                  <a:pt x="14684" y="9153"/>
                </a:cubicBezTo>
                <a:cubicBezTo>
                  <a:pt x="14745" y="9230"/>
                  <a:pt x="14757" y="9292"/>
                  <a:pt x="14784" y="9376"/>
                </a:cubicBezTo>
                <a:cubicBezTo>
                  <a:pt x="14811" y="9458"/>
                  <a:pt x="14808" y="9497"/>
                  <a:pt x="14784" y="9575"/>
                </a:cubicBezTo>
                <a:cubicBezTo>
                  <a:pt x="14743" y="9709"/>
                  <a:pt x="14733" y="9699"/>
                  <a:pt x="14635" y="9748"/>
                </a:cubicBezTo>
                <a:cubicBezTo>
                  <a:pt x="14551" y="9790"/>
                  <a:pt x="14498" y="9757"/>
                  <a:pt x="14412" y="9748"/>
                </a:cubicBezTo>
                <a:cubicBezTo>
                  <a:pt x="14316" y="9748"/>
                  <a:pt x="14286" y="9750"/>
                  <a:pt x="14238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Ink 25"/>
          <p:cNvSpPr/>
          <p:nvPr/>
        </p:nvSpPr>
        <p:spPr>
          <a:xfrm>
            <a:off x="4572000" y="2724120"/>
            <a:ext cx="44280" cy="768240"/>
          </a:xfrm>
          <a:custGeom>
            <a:avLst/>
            <a:gdLst/>
            <a:ahLst/>
            <a:rect l="l" t="t" r="r" b="b"/>
            <a:pathLst>
              <a:path w="125" h="2135">
                <a:moveTo>
                  <a:pt x="12700" y="7565"/>
                </a:moveTo>
                <a:cubicBezTo>
                  <a:pt x="12710" y="7658"/>
                  <a:pt x="12725" y="7741"/>
                  <a:pt x="12725" y="7838"/>
                </a:cubicBezTo>
                <a:cubicBezTo>
                  <a:pt x="12725" y="7978"/>
                  <a:pt x="12766" y="8120"/>
                  <a:pt x="12774" y="8260"/>
                </a:cubicBezTo>
                <a:cubicBezTo>
                  <a:pt x="12784" y="8427"/>
                  <a:pt x="12785" y="8590"/>
                  <a:pt x="12799" y="8756"/>
                </a:cubicBezTo>
                <a:cubicBezTo>
                  <a:pt x="12816" y="8954"/>
                  <a:pt x="12795" y="9159"/>
                  <a:pt x="12774" y="9351"/>
                </a:cubicBezTo>
                <a:cubicBezTo>
                  <a:pt x="12762" y="9464"/>
                  <a:pt x="12774" y="9585"/>
                  <a:pt x="12774" y="9699"/>
                </a:cubicBezTo>
                <a:cubicBezTo>
                  <a:pt x="12802" y="9653"/>
                  <a:pt x="12808" y="9609"/>
                  <a:pt x="12824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Ink 26"/>
          <p:cNvSpPr/>
          <p:nvPr/>
        </p:nvSpPr>
        <p:spPr>
          <a:xfrm>
            <a:off x="4581360" y="2608200"/>
            <a:ext cx="955800" cy="973080"/>
          </a:xfrm>
          <a:custGeom>
            <a:avLst/>
            <a:gdLst/>
            <a:ahLst/>
            <a:rect l="l" t="t" r="r" b="b"/>
            <a:pathLst>
              <a:path w="2655" h="2705">
                <a:moveTo>
                  <a:pt x="12725" y="7491"/>
                </a:moveTo>
                <a:cubicBezTo>
                  <a:pt x="12828" y="7424"/>
                  <a:pt x="12918" y="7365"/>
                  <a:pt x="13047" y="7342"/>
                </a:cubicBezTo>
                <a:cubicBezTo>
                  <a:pt x="13218" y="7312"/>
                  <a:pt x="13394" y="7317"/>
                  <a:pt x="13568" y="7317"/>
                </a:cubicBezTo>
                <a:cubicBezTo>
                  <a:pt x="13737" y="7317"/>
                  <a:pt x="13921" y="7310"/>
                  <a:pt x="14089" y="7293"/>
                </a:cubicBezTo>
                <a:cubicBezTo>
                  <a:pt x="14255" y="7276"/>
                  <a:pt x="14420" y="7283"/>
                  <a:pt x="14585" y="7268"/>
                </a:cubicBezTo>
                <a:cubicBezTo>
                  <a:pt x="14686" y="7259"/>
                  <a:pt x="14781" y="7245"/>
                  <a:pt x="14883" y="7243"/>
                </a:cubicBezTo>
                <a:cubicBezTo>
                  <a:pt x="14947" y="7242"/>
                  <a:pt x="15040" y="7226"/>
                  <a:pt x="15081" y="7293"/>
                </a:cubicBezTo>
                <a:cubicBezTo>
                  <a:pt x="15124" y="7363"/>
                  <a:pt x="15106" y="7478"/>
                  <a:pt x="15106" y="7565"/>
                </a:cubicBezTo>
                <a:cubicBezTo>
                  <a:pt x="15106" y="7668"/>
                  <a:pt x="15119" y="7762"/>
                  <a:pt x="15131" y="7863"/>
                </a:cubicBezTo>
                <a:cubicBezTo>
                  <a:pt x="15145" y="7985"/>
                  <a:pt x="15165" y="8111"/>
                  <a:pt x="15180" y="8235"/>
                </a:cubicBezTo>
                <a:cubicBezTo>
                  <a:pt x="15195" y="8364"/>
                  <a:pt x="15211" y="8503"/>
                  <a:pt x="15230" y="8632"/>
                </a:cubicBezTo>
                <a:cubicBezTo>
                  <a:pt x="15263" y="8853"/>
                  <a:pt x="15334" y="9080"/>
                  <a:pt x="15354" y="9302"/>
                </a:cubicBezTo>
                <a:cubicBezTo>
                  <a:pt x="15362" y="9390"/>
                  <a:pt x="15372" y="9464"/>
                  <a:pt x="15379" y="9550"/>
                </a:cubicBezTo>
                <a:cubicBezTo>
                  <a:pt x="15384" y="9614"/>
                  <a:pt x="15406" y="9783"/>
                  <a:pt x="15354" y="9823"/>
                </a:cubicBezTo>
                <a:cubicBezTo>
                  <a:pt x="15294" y="9869"/>
                  <a:pt x="15227" y="9835"/>
                  <a:pt x="15156" y="9847"/>
                </a:cubicBezTo>
                <a:cubicBezTo>
                  <a:pt x="15068" y="9862"/>
                  <a:pt x="14972" y="9879"/>
                  <a:pt x="14883" y="9897"/>
                </a:cubicBezTo>
                <a:cubicBezTo>
                  <a:pt x="14808" y="9913"/>
                  <a:pt x="14740" y="9920"/>
                  <a:pt x="14660" y="9922"/>
                </a:cubicBezTo>
                <a:cubicBezTo>
                  <a:pt x="14559" y="9924"/>
                  <a:pt x="14457" y="9943"/>
                  <a:pt x="14362" y="9947"/>
                </a:cubicBezTo>
                <a:cubicBezTo>
                  <a:pt x="14216" y="9953"/>
                  <a:pt x="14081" y="9932"/>
                  <a:pt x="13940" y="9922"/>
                </a:cubicBezTo>
                <a:cubicBezTo>
                  <a:pt x="13785" y="9911"/>
                  <a:pt x="13620" y="9906"/>
                  <a:pt x="13469" y="9897"/>
                </a:cubicBezTo>
                <a:cubicBezTo>
                  <a:pt x="13346" y="9890"/>
                  <a:pt x="13213" y="9881"/>
                  <a:pt x="13097" y="9872"/>
                </a:cubicBezTo>
                <a:cubicBezTo>
                  <a:pt x="13048" y="9868"/>
                  <a:pt x="12997" y="9875"/>
                  <a:pt x="12948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Ink 27"/>
          <p:cNvSpPr/>
          <p:nvPr/>
        </p:nvSpPr>
        <p:spPr>
          <a:xfrm>
            <a:off x="152280" y="2589120"/>
            <a:ext cx="5794560" cy="1420920"/>
          </a:xfrm>
          <a:custGeom>
            <a:avLst/>
            <a:gdLst/>
            <a:ahLst/>
            <a:rect l="l" t="t" r="r" b="b"/>
            <a:pathLst>
              <a:path w="16099" h="3945">
                <a:moveTo>
                  <a:pt x="422" y="7417"/>
                </a:moveTo>
                <a:cubicBezTo>
                  <a:pt x="496" y="7402"/>
                  <a:pt x="569" y="7380"/>
                  <a:pt x="645" y="7367"/>
                </a:cubicBezTo>
                <a:cubicBezTo>
                  <a:pt x="750" y="7349"/>
                  <a:pt x="858" y="7329"/>
                  <a:pt x="967" y="7317"/>
                </a:cubicBezTo>
                <a:cubicBezTo>
                  <a:pt x="1142" y="7297"/>
                  <a:pt x="1314" y="7283"/>
                  <a:pt x="1488" y="7268"/>
                </a:cubicBezTo>
                <a:cubicBezTo>
                  <a:pt x="1694" y="7250"/>
                  <a:pt x="1902" y="7235"/>
                  <a:pt x="2108" y="7218"/>
                </a:cubicBezTo>
                <a:cubicBezTo>
                  <a:pt x="2247" y="7207"/>
                  <a:pt x="2391" y="7192"/>
                  <a:pt x="2530" y="7193"/>
                </a:cubicBezTo>
                <a:cubicBezTo>
                  <a:pt x="2675" y="7194"/>
                  <a:pt x="2832" y="7203"/>
                  <a:pt x="2977" y="7218"/>
                </a:cubicBezTo>
                <a:cubicBezTo>
                  <a:pt x="3124" y="7233"/>
                  <a:pt x="3277" y="7247"/>
                  <a:pt x="3423" y="7268"/>
                </a:cubicBezTo>
                <a:cubicBezTo>
                  <a:pt x="3588" y="7291"/>
                  <a:pt x="3754" y="7324"/>
                  <a:pt x="3919" y="7367"/>
                </a:cubicBezTo>
                <a:cubicBezTo>
                  <a:pt x="4082" y="7410"/>
                  <a:pt x="4260" y="7444"/>
                  <a:pt x="4415" y="7491"/>
                </a:cubicBezTo>
                <a:cubicBezTo>
                  <a:pt x="4545" y="7530"/>
                  <a:pt x="4661" y="7571"/>
                  <a:pt x="4787" y="7615"/>
                </a:cubicBezTo>
                <a:cubicBezTo>
                  <a:pt x="4966" y="7678"/>
                  <a:pt x="5185" y="7730"/>
                  <a:pt x="5333" y="7838"/>
                </a:cubicBezTo>
                <a:cubicBezTo>
                  <a:pt x="5530" y="7982"/>
                  <a:pt x="5648" y="8227"/>
                  <a:pt x="5730" y="8434"/>
                </a:cubicBezTo>
                <a:cubicBezTo>
                  <a:pt x="5764" y="8520"/>
                  <a:pt x="5776" y="8613"/>
                  <a:pt x="5804" y="8706"/>
                </a:cubicBezTo>
                <a:cubicBezTo>
                  <a:pt x="5861" y="8896"/>
                  <a:pt x="5909" y="9103"/>
                  <a:pt x="6003" y="9277"/>
                </a:cubicBezTo>
                <a:cubicBezTo>
                  <a:pt x="6072" y="9404"/>
                  <a:pt x="6209" y="9580"/>
                  <a:pt x="6300" y="9674"/>
                </a:cubicBezTo>
                <a:cubicBezTo>
                  <a:pt x="6441" y="9821"/>
                  <a:pt x="6641" y="9902"/>
                  <a:pt x="6821" y="9996"/>
                </a:cubicBezTo>
                <a:cubicBezTo>
                  <a:pt x="6956" y="10066"/>
                  <a:pt x="7086" y="10120"/>
                  <a:pt x="7243" y="10170"/>
                </a:cubicBezTo>
                <a:cubicBezTo>
                  <a:pt x="7479" y="10245"/>
                  <a:pt x="7717" y="10295"/>
                  <a:pt x="7962" y="10344"/>
                </a:cubicBezTo>
                <a:cubicBezTo>
                  <a:pt x="8761" y="10505"/>
                  <a:pt x="9559" y="10476"/>
                  <a:pt x="10368" y="10517"/>
                </a:cubicBezTo>
                <a:cubicBezTo>
                  <a:pt x="10615" y="10529"/>
                  <a:pt x="10864" y="10554"/>
                  <a:pt x="11112" y="10567"/>
                </a:cubicBezTo>
                <a:cubicBezTo>
                  <a:pt x="11319" y="10578"/>
                  <a:pt x="11526" y="10581"/>
                  <a:pt x="11733" y="10592"/>
                </a:cubicBezTo>
                <a:cubicBezTo>
                  <a:pt x="11988" y="10606"/>
                  <a:pt x="12249" y="10634"/>
                  <a:pt x="12502" y="10641"/>
                </a:cubicBezTo>
                <a:cubicBezTo>
                  <a:pt x="12843" y="10651"/>
                  <a:pt x="13180" y="10646"/>
                  <a:pt x="13519" y="10666"/>
                </a:cubicBezTo>
                <a:cubicBezTo>
                  <a:pt x="13838" y="10685"/>
                  <a:pt x="14144" y="10724"/>
                  <a:pt x="14461" y="10765"/>
                </a:cubicBezTo>
                <a:cubicBezTo>
                  <a:pt x="14734" y="10800"/>
                  <a:pt x="15008" y="10839"/>
                  <a:pt x="15280" y="10864"/>
                </a:cubicBezTo>
                <a:cubicBezTo>
                  <a:pt x="15439" y="10878"/>
                  <a:pt x="15593" y="10892"/>
                  <a:pt x="15751" y="10914"/>
                </a:cubicBezTo>
                <a:cubicBezTo>
                  <a:pt x="15860" y="10929"/>
                  <a:pt x="15966" y="10943"/>
                  <a:pt x="16073" y="10964"/>
                </a:cubicBezTo>
                <a:cubicBezTo>
                  <a:pt x="16172" y="10983"/>
                  <a:pt x="16307" y="11002"/>
                  <a:pt x="16396" y="11038"/>
                </a:cubicBezTo>
                <a:cubicBezTo>
                  <a:pt x="16441" y="11056"/>
                  <a:pt x="16475" y="11093"/>
                  <a:pt x="16520" y="11112"/>
                </a:cubicBezTo>
                <a:cubicBezTo>
                  <a:pt x="16520" y="11120"/>
                  <a:pt x="16520" y="11129"/>
                  <a:pt x="16520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Find the exact value of Sin 2u:</a:t>
            </a:r>
            <a:br>
              <a:rPr sz="4000"/>
            </a:b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Cos u = -</a:t>
            </a:r>
            <a:r>
              <a:rPr b="0" lang="en-US" sz="4000" spc="-1" strike="noStrike" baseline="30000">
                <a:solidFill>
                  <a:srgbClr val="cebd4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ebd4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for </a:t>
            </a:r>
            <a:r>
              <a:rPr b="0" lang="en-US" sz="4000" spc="-1" strike="noStrike" baseline="30000">
                <a:solidFill>
                  <a:srgbClr val="cebd40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ebd4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&lt;u&lt;</a:t>
            </a:r>
            <a:r>
              <a:rPr b="0" lang="en-US" sz="4000" spc="-1" strike="noStrike">
                <a:solidFill>
                  <a:srgbClr val="cebd40"/>
                </a:solidFill>
                <a:latin typeface="Symbol"/>
                <a:ea typeface="Symbol"/>
              </a:rPr>
              <a:t>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3" name="Ink 5"/>
          <p:cNvSpPr/>
          <p:nvPr/>
        </p:nvSpPr>
        <p:spPr>
          <a:xfrm>
            <a:off x="187200" y="1419120"/>
            <a:ext cx="1384560" cy="1598760"/>
          </a:xfrm>
          <a:custGeom>
            <a:avLst/>
            <a:gdLst/>
            <a:ahLst/>
            <a:rect l="l" t="t" r="r" b="b"/>
            <a:pathLst>
              <a:path w="3846" h="4441">
                <a:moveTo>
                  <a:pt x="521" y="7417"/>
                </a:moveTo>
                <a:cubicBezTo>
                  <a:pt x="561" y="7351"/>
                  <a:pt x="607" y="7286"/>
                  <a:pt x="645" y="7218"/>
                </a:cubicBezTo>
                <a:cubicBezTo>
                  <a:pt x="688" y="7140"/>
                  <a:pt x="746" y="7092"/>
                  <a:pt x="794" y="7020"/>
                </a:cubicBezTo>
                <a:cubicBezTo>
                  <a:pt x="867" y="6910"/>
                  <a:pt x="918" y="6777"/>
                  <a:pt x="992" y="6672"/>
                </a:cubicBezTo>
                <a:cubicBezTo>
                  <a:pt x="1057" y="6580"/>
                  <a:pt x="1125" y="6493"/>
                  <a:pt x="1191" y="6400"/>
                </a:cubicBezTo>
                <a:cubicBezTo>
                  <a:pt x="1266" y="6294"/>
                  <a:pt x="1337" y="6179"/>
                  <a:pt x="1414" y="6077"/>
                </a:cubicBezTo>
                <a:cubicBezTo>
                  <a:pt x="1521" y="5935"/>
                  <a:pt x="1636" y="5792"/>
                  <a:pt x="1736" y="5655"/>
                </a:cubicBezTo>
                <a:cubicBezTo>
                  <a:pt x="1822" y="5537"/>
                  <a:pt x="1895" y="5399"/>
                  <a:pt x="1984" y="5283"/>
                </a:cubicBezTo>
                <a:cubicBezTo>
                  <a:pt x="2064" y="5179"/>
                  <a:pt x="2145" y="5028"/>
                  <a:pt x="2232" y="4936"/>
                </a:cubicBezTo>
                <a:cubicBezTo>
                  <a:pt x="2338" y="4824"/>
                  <a:pt x="2428" y="4713"/>
                  <a:pt x="2530" y="4589"/>
                </a:cubicBezTo>
                <a:cubicBezTo>
                  <a:pt x="2600" y="4504"/>
                  <a:pt x="2698" y="4411"/>
                  <a:pt x="2753" y="4316"/>
                </a:cubicBezTo>
                <a:cubicBezTo>
                  <a:pt x="2814" y="4211"/>
                  <a:pt x="2857" y="4164"/>
                  <a:pt x="2927" y="4068"/>
                </a:cubicBezTo>
                <a:cubicBezTo>
                  <a:pt x="2972" y="4007"/>
                  <a:pt x="2997" y="3994"/>
                  <a:pt x="3051" y="3944"/>
                </a:cubicBezTo>
                <a:cubicBezTo>
                  <a:pt x="3058" y="3999"/>
                  <a:pt x="3074" y="4072"/>
                  <a:pt x="3076" y="4142"/>
                </a:cubicBezTo>
                <a:cubicBezTo>
                  <a:pt x="3081" y="4342"/>
                  <a:pt x="3090" y="4543"/>
                  <a:pt x="3101" y="4738"/>
                </a:cubicBezTo>
                <a:cubicBezTo>
                  <a:pt x="3144" y="5478"/>
                  <a:pt x="3041" y="6236"/>
                  <a:pt x="3125" y="6970"/>
                </a:cubicBezTo>
                <a:cubicBezTo>
                  <a:pt x="3140" y="7104"/>
                  <a:pt x="3149" y="7219"/>
                  <a:pt x="3175" y="7342"/>
                </a:cubicBezTo>
                <a:cubicBezTo>
                  <a:pt x="3185" y="7387"/>
                  <a:pt x="3211" y="7428"/>
                  <a:pt x="3225" y="7466"/>
                </a:cubicBezTo>
                <a:cubicBezTo>
                  <a:pt x="3180" y="7466"/>
                  <a:pt x="3133" y="7469"/>
                  <a:pt x="3076" y="7466"/>
                </a:cubicBezTo>
                <a:cubicBezTo>
                  <a:pt x="2721" y="7449"/>
                  <a:pt x="2357" y="7469"/>
                  <a:pt x="2009" y="7491"/>
                </a:cubicBezTo>
                <a:cubicBezTo>
                  <a:pt x="1768" y="7506"/>
                  <a:pt x="1525" y="7481"/>
                  <a:pt x="1290" y="7466"/>
                </a:cubicBezTo>
                <a:cubicBezTo>
                  <a:pt x="1036" y="7449"/>
                  <a:pt x="776" y="7466"/>
                  <a:pt x="521" y="7466"/>
                </a:cubicBezTo>
              </a:path>
              <a:path w="3846" h="4441">
                <a:moveTo>
                  <a:pt x="3125" y="6970"/>
                </a:moveTo>
                <a:cubicBezTo>
                  <a:pt x="2985" y="6970"/>
                  <a:pt x="2844" y="6970"/>
                  <a:pt x="2704" y="6970"/>
                </a:cubicBezTo>
                <a:cubicBezTo>
                  <a:pt x="2737" y="7025"/>
                  <a:pt x="2729" y="7076"/>
                  <a:pt x="2729" y="7144"/>
                </a:cubicBezTo>
                <a:cubicBezTo>
                  <a:pt x="2729" y="7235"/>
                  <a:pt x="2729" y="7326"/>
                  <a:pt x="2729" y="7417"/>
                </a:cubicBezTo>
              </a:path>
              <a:path w="3846" h="4441">
                <a:moveTo>
                  <a:pt x="943" y="7069"/>
                </a:moveTo>
                <a:cubicBezTo>
                  <a:pt x="943" y="7150"/>
                  <a:pt x="918" y="7280"/>
                  <a:pt x="967" y="7342"/>
                </a:cubicBezTo>
                <a:cubicBezTo>
                  <a:pt x="1002" y="7386"/>
                  <a:pt x="1087" y="7333"/>
                  <a:pt x="1116" y="7293"/>
                </a:cubicBezTo>
                <a:cubicBezTo>
                  <a:pt x="1156" y="7237"/>
                  <a:pt x="1187" y="7188"/>
                  <a:pt x="1191" y="7119"/>
                </a:cubicBezTo>
                <a:cubicBezTo>
                  <a:pt x="1198" y="7001"/>
                  <a:pt x="1210" y="7168"/>
                  <a:pt x="1215" y="7193"/>
                </a:cubicBezTo>
                <a:cubicBezTo>
                  <a:pt x="1233" y="7286"/>
                  <a:pt x="1250" y="7297"/>
                  <a:pt x="1339" y="7342"/>
                </a:cubicBezTo>
                <a:cubicBezTo>
                  <a:pt x="1356" y="7350"/>
                  <a:pt x="1372" y="7359"/>
                  <a:pt x="1389" y="7367"/>
                </a:cubicBezTo>
              </a:path>
              <a:path w="3846" h="4441">
                <a:moveTo>
                  <a:pt x="1240" y="7913"/>
                </a:moveTo>
                <a:cubicBezTo>
                  <a:pt x="1314" y="7913"/>
                  <a:pt x="1389" y="7913"/>
                  <a:pt x="1463" y="7913"/>
                </a:cubicBezTo>
              </a:path>
              <a:path w="3846" h="4441">
                <a:moveTo>
                  <a:pt x="1736" y="7789"/>
                </a:moveTo>
                <a:cubicBezTo>
                  <a:pt x="1782" y="7743"/>
                  <a:pt x="1794" y="7718"/>
                  <a:pt x="1860" y="7714"/>
                </a:cubicBezTo>
                <a:cubicBezTo>
                  <a:pt x="1877" y="7714"/>
                  <a:pt x="1893" y="7714"/>
                  <a:pt x="1910" y="7714"/>
                </a:cubicBezTo>
              </a:path>
              <a:path w="3846" h="4441">
                <a:moveTo>
                  <a:pt x="1960" y="7739"/>
                </a:moveTo>
                <a:cubicBezTo>
                  <a:pt x="2022" y="7792"/>
                  <a:pt x="2023" y="7814"/>
                  <a:pt x="1984" y="7888"/>
                </a:cubicBezTo>
                <a:cubicBezTo>
                  <a:pt x="1952" y="7950"/>
                  <a:pt x="1947" y="8001"/>
                  <a:pt x="1910" y="8062"/>
                </a:cubicBezTo>
                <a:cubicBezTo>
                  <a:pt x="1878" y="8115"/>
                  <a:pt x="1870" y="8167"/>
                  <a:pt x="1836" y="8210"/>
                </a:cubicBezTo>
                <a:cubicBezTo>
                  <a:pt x="1799" y="8256"/>
                  <a:pt x="1764" y="8280"/>
                  <a:pt x="1736" y="8334"/>
                </a:cubicBezTo>
                <a:cubicBezTo>
                  <a:pt x="1728" y="8351"/>
                  <a:pt x="1720" y="8367"/>
                  <a:pt x="1712" y="8384"/>
                </a:cubicBezTo>
                <a:cubicBezTo>
                  <a:pt x="1785" y="8324"/>
                  <a:pt x="1799" y="8354"/>
                  <a:pt x="1885" y="8359"/>
                </a:cubicBezTo>
                <a:cubicBezTo>
                  <a:pt x="1964" y="8363"/>
                  <a:pt x="2032" y="8380"/>
                  <a:pt x="2108" y="8384"/>
                </a:cubicBezTo>
                <a:cubicBezTo>
                  <a:pt x="2174" y="8388"/>
                  <a:pt x="2241" y="8384"/>
                  <a:pt x="2307" y="8384"/>
                </a:cubicBezTo>
              </a:path>
              <a:path w="3846" h="4441">
                <a:moveTo>
                  <a:pt x="744" y="5159"/>
                </a:moveTo>
                <a:cubicBezTo>
                  <a:pt x="729" y="5130"/>
                  <a:pt x="794" y="5138"/>
                  <a:pt x="868" y="5135"/>
                </a:cubicBezTo>
                <a:cubicBezTo>
                  <a:pt x="946" y="5132"/>
                  <a:pt x="986" y="5110"/>
                  <a:pt x="1067" y="5110"/>
                </a:cubicBezTo>
                <a:cubicBezTo>
                  <a:pt x="1116" y="5110"/>
                  <a:pt x="1133" y="5110"/>
                  <a:pt x="1166" y="5110"/>
                </a:cubicBezTo>
                <a:cubicBezTo>
                  <a:pt x="1156" y="5196"/>
                  <a:pt x="1135" y="5274"/>
                  <a:pt x="1116" y="5358"/>
                </a:cubicBezTo>
                <a:cubicBezTo>
                  <a:pt x="1102" y="5419"/>
                  <a:pt x="1090" y="5546"/>
                  <a:pt x="1067" y="5606"/>
                </a:cubicBezTo>
                <a:cubicBezTo>
                  <a:pt x="1049" y="5652"/>
                  <a:pt x="1028" y="5701"/>
                  <a:pt x="1017" y="5755"/>
                </a:cubicBezTo>
              </a:path>
              <a:path w="3846" h="4441">
                <a:moveTo>
                  <a:pt x="3175" y="5457"/>
                </a:moveTo>
                <a:cubicBezTo>
                  <a:pt x="3222" y="5480"/>
                  <a:pt x="3250" y="5451"/>
                  <a:pt x="3299" y="5407"/>
                </a:cubicBezTo>
                <a:cubicBezTo>
                  <a:pt x="3339" y="5372"/>
                  <a:pt x="3449" y="5365"/>
                  <a:pt x="3473" y="5432"/>
                </a:cubicBezTo>
                <a:cubicBezTo>
                  <a:pt x="3497" y="5499"/>
                  <a:pt x="3458" y="5601"/>
                  <a:pt x="3423" y="5655"/>
                </a:cubicBezTo>
                <a:cubicBezTo>
                  <a:pt x="3370" y="5737"/>
                  <a:pt x="3362" y="5672"/>
                  <a:pt x="3423" y="5655"/>
                </a:cubicBezTo>
                <a:cubicBezTo>
                  <a:pt x="3496" y="5634"/>
                  <a:pt x="3519" y="5702"/>
                  <a:pt x="3522" y="5755"/>
                </a:cubicBezTo>
                <a:cubicBezTo>
                  <a:pt x="3526" y="5824"/>
                  <a:pt x="3513" y="5927"/>
                  <a:pt x="3473" y="5978"/>
                </a:cubicBezTo>
                <a:cubicBezTo>
                  <a:pt x="3452" y="6004"/>
                  <a:pt x="3306" y="6028"/>
                  <a:pt x="3274" y="6003"/>
                </a:cubicBezTo>
                <a:cubicBezTo>
                  <a:pt x="3254" y="5962"/>
                  <a:pt x="3245" y="5956"/>
                  <a:pt x="3249" y="5928"/>
                </a:cubicBezTo>
              </a:path>
              <a:path w="3846" h="4441">
                <a:moveTo>
                  <a:pt x="3696" y="5531"/>
                </a:moveTo>
                <a:cubicBezTo>
                  <a:pt x="3714" y="5621"/>
                  <a:pt x="3702" y="5717"/>
                  <a:pt x="3721" y="5804"/>
                </a:cubicBezTo>
                <a:cubicBezTo>
                  <a:pt x="3746" y="5879"/>
                  <a:pt x="3754" y="5903"/>
                  <a:pt x="3770" y="5953"/>
                </a:cubicBezTo>
                <a:cubicBezTo>
                  <a:pt x="3745" y="5884"/>
                  <a:pt x="3710" y="5804"/>
                  <a:pt x="3696" y="5730"/>
                </a:cubicBezTo>
                <a:cubicBezTo>
                  <a:pt x="3681" y="5651"/>
                  <a:pt x="3655" y="5562"/>
                  <a:pt x="3646" y="5482"/>
                </a:cubicBezTo>
                <a:cubicBezTo>
                  <a:pt x="3635" y="5390"/>
                  <a:pt x="3606" y="5331"/>
                  <a:pt x="3671" y="5259"/>
                </a:cubicBezTo>
                <a:cubicBezTo>
                  <a:pt x="3711" y="5215"/>
                  <a:pt x="3789" y="5193"/>
                  <a:pt x="3845" y="5184"/>
                </a:cubicBezTo>
                <a:cubicBezTo>
                  <a:pt x="3911" y="5173"/>
                  <a:pt x="4006" y="5180"/>
                  <a:pt x="4068" y="5159"/>
                </a:cubicBezTo>
                <a:cubicBezTo>
                  <a:pt x="4129" y="5138"/>
                  <a:pt x="4200" y="5153"/>
                  <a:pt x="4266" y="5135"/>
                </a:cubicBezTo>
                <a:cubicBezTo>
                  <a:pt x="4316" y="5110"/>
                  <a:pt x="4333" y="5102"/>
                  <a:pt x="4366" y="5135"/>
                </a:cubicBezTo>
              </a:path>
              <a:path w="3846" h="4441">
                <a:moveTo>
                  <a:pt x="3994" y="5358"/>
                </a:moveTo>
                <a:cubicBezTo>
                  <a:pt x="4089" y="5358"/>
                  <a:pt x="4154" y="5344"/>
                  <a:pt x="4242" y="5333"/>
                </a:cubicBezTo>
              </a:path>
              <a:path w="3846" h="4441">
                <a:moveTo>
                  <a:pt x="3969" y="5407"/>
                </a:moveTo>
                <a:cubicBezTo>
                  <a:pt x="3954" y="5463"/>
                  <a:pt x="3926" y="5580"/>
                  <a:pt x="3969" y="5631"/>
                </a:cubicBezTo>
                <a:cubicBezTo>
                  <a:pt x="4011" y="5681"/>
                  <a:pt x="4066" y="5609"/>
                  <a:pt x="4118" y="5606"/>
                </a:cubicBezTo>
                <a:cubicBezTo>
                  <a:pt x="4171" y="5603"/>
                  <a:pt x="4241" y="5627"/>
                  <a:pt x="4266" y="5680"/>
                </a:cubicBezTo>
                <a:cubicBezTo>
                  <a:pt x="4289" y="5729"/>
                  <a:pt x="4312" y="5849"/>
                  <a:pt x="4291" y="5904"/>
                </a:cubicBezTo>
                <a:cubicBezTo>
                  <a:pt x="4262" y="5978"/>
                  <a:pt x="4197" y="5997"/>
                  <a:pt x="4118" y="5978"/>
                </a:cubicBezTo>
                <a:cubicBezTo>
                  <a:pt x="4074" y="5967"/>
                  <a:pt x="4058" y="5938"/>
                  <a:pt x="4018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Ink 6"/>
          <p:cNvSpPr/>
          <p:nvPr/>
        </p:nvSpPr>
        <p:spPr>
          <a:xfrm>
            <a:off x="1857240" y="2027160"/>
            <a:ext cx="4429440" cy="517680"/>
          </a:xfrm>
          <a:custGeom>
            <a:avLst/>
            <a:gdLst/>
            <a:ahLst/>
            <a:rect l="l" t="t" r="r" b="b"/>
            <a:pathLst>
              <a:path w="12304" h="1439">
                <a:moveTo>
                  <a:pt x="5953" y="5779"/>
                </a:moveTo>
                <a:cubicBezTo>
                  <a:pt x="5961" y="5787"/>
                  <a:pt x="5970" y="5796"/>
                  <a:pt x="5978" y="5804"/>
                </a:cubicBezTo>
                <a:cubicBezTo>
                  <a:pt x="6001" y="5758"/>
                  <a:pt x="5972" y="5730"/>
                  <a:pt x="5928" y="5680"/>
                </a:cubicBezTo>
                <a:cubicBezTo>
                  <a:pt x="5902" y="5651"/>
                  <a:pt x="5775" y="5621"/>
                  <a:pt x="5730" y="5631"/>
                </a:cubicBezTo>
                <a:cubicBezTo>
                  <a:pt x="5629" y="5653"/>
                  <a:pt x="5531" y="5662"/>
                  <a:pt x="5432" y="5705"/>
                </a:cubicBezTo>
                <a:cubicBezTo>
                  <a:pt x="5372" y="5731"/>
                  <a:pt x="5319" y="5774"/>
                  <a:pt x="5259" y="5804"/>
                </a:cubicBezTo>
                <a:cubicBezTo>
                  <a:pt x="5187" y="5840"/>
                  <a:pt x="5125" y="5914"/>
                  <a:pt x="5159" y="6003"/>
                </a:cubicBezTo>
                <a:cubicBezTo>
                  <a:pt x="5177" y="6050"/>
                  <a:pt x="5334" y="6130"/>
                  <a:pt x="5383" y="6152"/>
                </a:cubicBezTo>
                <a:cubicBezTo>
                  <a:pt x="5457" y="6185"/>
                  <a:pt x="5539" y="6188"/>
                  <a:pt x="5606" y="6226"/>
                </a:cubicBezTo>
                <a:cubicBezTo>
                  <a:pt x="5682" y="6269"/>
                  <a:pt x="5762" y="6343"/>
                  <a:pt x="5829" y="6400"/>
                </a:cubicBezTo>
                <a:cubicBezTo>
                  <a:pt x="5880" y="6443"/>
                  <a:pt x="5938" y="6531"/>
                  <a:pt x="5953" y="6598"/>
                </a:cubicBezTo>
                <a:cubicBezTo>
                  <a:pt x="5970" y="6674"/>
                  <a:pt x="5977" y="6744"/>
                  <a:pt x="5953" y="6821"/>
                </a:cubicBezTo>
                <a:cubicBezTo>
                  <a:pt x="5927" y="6904"/>
                  <a:pt x="5856" y="6933"/>
                  <a:pt x="5779" y="6945"/>
                </a:cubicBezTo>
                <a:cubicBezTo>
                  <a:pt x="5678" y="6961"/>
                  <a:pt x="5578" y="6931"/>
                  <a:pt x="5482" y="6921"/>
                </a:cubicBezTo>
                <a:cubicBezTo>
                  <a:pt x="5413" y="6914"/>
                  <a:pt x="5382" y="6915"/>
                  <a:pt x="5333" y="6871"/>
                </a:cubicBezTo>
                <a:cubicBezTo>
                  <a:pt x="5307" y="6848"/>
                  <a:pt x="5283" y="6821"/>
                  <a:pt x="5259" y="6796"/>
                </a:cubicBezTo>
              </a:path>
              <a:path w="12304" h="1439">
                <a:moveTo>
                  <a:pt x="6350" y="6573"/>
                </a:moveTo>
                <a:cubicBezTo>
                  <a:pt x="6358" y="6661"/>
                  <a:pt x="6375" y="6730"/>
                  <a:pt x="6375" y="6821"/>
                </a:cubicBezTo>
                <a:cubicBezTo>
                  <a:pt x="6375" y="6872"/>
                  <a:pt x="6419" y="7005"/>
                  <a:pt x="6375" y="6896"/>
                </a:cubicBezTo>
              </a:path>
              <a:path w="12304" h="1439">
                <a:moveTo>
                  <a:pt x="6325" y="6176"/>
                </a:moveTo>
                <a:cubicBezTo>
                  <a:pt x="6333" y="6168"/>
                  <a:pt x="6342" y="6160"/>
                  <a:pt x="6350" y="6152"/>
                </a:cubicBezTo>
              </a:path>
              <a:path w="12304" h="1439">
                <a:moveTo>
                  <a:pt x="6648" y="6747"/>
                </a:moveTo>
                <a:cubicBezTo>
                  <a:pt x="6648" y="6875"/>
                  <a:pt x="6682" y="6900"/>
                  <a:pt x="6623" y="6945"/>
                </a:cubicBezTo>
                <a:cubicBezTo>
                  <a:pt x="6623" y="6839"/>
                  <a:pt x="6634" y="6749"/>
                  <a:pt x="6648" y="6648"/>
                </a:cubicBezTo>
                <a:cubicBezTo>
                  <a:pt x="6659" y="6564"/>
                  <a:pt x="6686" y="6514"/>
                  <a:pt x="6747" y="6449"/>
                </a:cubicBezTo>
                <a:cubicBezTo>
                  <a:pt x="6792" y="6402"/>
                  <a:pt x="6877" y="6361"/>
                  <a:pt x="6945" y="6375"/>
                </a:cubicBezTo>
                <a:cubicBezTo>
                  <a:pt x="7009" y="6388"/>
                  <a:pt x="7056" y="6466"/>
                  <a:pt x="7069" y="6524"/>
                </a:cubicBezTo>
                <a:cubicBezTo>
                  <a:pt x="7084" y="6591"/>
                  <a:pt x="7094" y="6651"/>
                  <a:pt x="7094" y="6722"/>
                </a:cubicBezTo>
                <a:cubicBezTo>
                  <a:pt x="7094" y="6798"/>
                  <a:pt x="7083" y="6874"/>
                  <a:pt x="7119" y="6945"/>
                </a:cubicBezTo>
                <a:cubicBezTo>
                  <a:pt x="7144" y="6970"/>
                  <a:pt x="7152" y="6978"/>
                  <a:pt x="7169" y="6995"/>
                </a:cubicBezTo>
              </a:path>
              <a:path w="12304" h="1439">
                <a:moveTo>
                  <a:pt x="7491" y="5953"/>
                </a:moveTo>
                <a:cubicBezTo>
                  <a:pt x="7520" y="5917"/>
                  <a:pt x="7587" y="5821"/>
                  <a:pt x="7640" y="5804"/>
                </a:cubicBezTo>
                <a:cubicBezTo>
                  <a:pt x="7747" y="5770"/>
                  <a:pt x="7842" y="5766"/>
                  <a:pt x="7938" y="5829"/>
                </a:cubicBezTo>
                <a:cubicBezTo>
                  <a:pt x="7998" y="5868"/>
                  <a:pt x="7987" y="5942"/>
                  <a:pt x="7987" y="6003"/>
                </a:cubicBezTo>
                <a:cubicBezTo>
                  <a:pt x="7987" y="6141"/>
                  <a:pt x="7971" y="6143"/>
                  <a:pt x="7888" y="6251"/>
                </a:cubicBezTo>
                <a:cubicBezTo>
                  <a:pt x="7808" y="6355"/>
                  <a:pt x="7704" y="6487"/>
                  <a:pt x="7640" y="6598"/>
                </a:cubicBezTo>
                <a:cubicBezTo>
                  <a:pt x="7610" y="6650"/>
                  <a:pt x="7577" y="6785"/>
                  <a:pt x="7565" y="6846"/>
                </a:cubicBezTo>
                <a:cubicBezTo>
                  <a:pt x="7555" y="6898"/>
                  <a:pt x="7598" y="6943"/>
                  <a:pt x="7640" y="6970"/>
                </a:cubicBezTo>
                <a:cubicBezTo>
                  <a:pt x="7705" y="7012"/>
                  <a:pt x="7788" y="6995"/>
                  <a:pt x="7863" y="6995"/>
                </a:cubicBezTo>
                <a:cubicBezTo>
                  <a:pt x="7949" y="6995"/>
                  <a:pt x="7989" y="6963"/>
                  <a:pt x="8062" y="6921"/>
                </a:cubicBezTo>
              </a:path>
              <a:path w="12304" h="1439">
                <a:moveTo>
                  <a:pt x="8210" y="6424"/>
                </a:moveTo>
                <a:cubicBezTo>
                  <a:pt x="8204" y="6523"/>
                  <a:pt x="8186" y="6600"/>
                  <a:pt x="8186" y="6697"/>
                </a:cubicBezTo>
                <a:cubicBezTo>
                  <a:pt x="8186" y="6767"/>
                  <a:pt x="8216" y="6843"/>
                  <a:pt x="8260" y="6896"/>
                </a:cubicBezTo>
                <a:cubicBezTo>
                  <a:pt x="8284" y="6925"/>
                  <a:pt x="8356" y="6974"/>
                  <a:pt x="8384" y="6970"/>
                </a:cubicBezTo>
                <a:cubicBezTo>
                  <a:pt x="8470" y="6959"/>
                  <a:pt x="8541" y="6864"/>
                  <a:pt x="8582" y="6796"/>
                </a:cubicBezTo>
                <a:cubicBezTo>
                  <a:pt x="8617" y="6737"/>
                  <a:pt x="8648" y="6631"/>
                  <a:pt x="8657" y="6573"/>
                </a:cubicBezTo>
                <a:cubicBezTo>
                  <a:pt x="8678" y="6434"/>
                  <a:pt x="8651" y="6438"/>
                  <a:pt x="8632" y="6573"/>
                </a:cubicBezTo>
                <a:cubicBezTo>
                  <a:pt x="8618" y="6669"/>
                  <a:pt x="8664" y="6737"/>
                  <a:pt x="8706" y="6821"/>
                </a:cubicBezTo>
                <a:cubicBezTo>
                  <a:pt x="8745" y="6899"/>
                  <a:pt x="8771" y="6910"/>
                  <a:pt x="8830" y="6945"/>
                </a:cubicBezTo>
                <a:cubicBezTo>
                  <a:pt x="8876" y="6972"/>
                  <a:pt x="8896" y="6970"/>
                  <a:pt x="8954" y="6970"/>
                </a:cubicBezTo>
              </a:path>
              <a:path w="12304" h="1439">
                <a:moveTo>
                  <a:pt x="9079" y="6573"/>
                </a:moveTo>
                <a:cubicBezTo>
                  <a:pt x="9169" y="6553"/>
                  <a:pt x="9236" y="6548"/>
                  <a:pt x="9327" y="6548"/>
                </a:cubicBezTo>
                <a:cubicBezTo>
                  <a:pt x="9343" y="6548"/>
                  <a:pt x="9360" y="6548"/>
                  <a:pt x="9376" y="6548"/>
                </a:cubicBezTo>
              </a:path>
              <a:path w="12304" h="1439">
                <a:moveTo>
                  <a:pt x="9178" y="6747"/>
                </a:moveTo>
                <a:cubicBezTo>
                  <a:pt x="9262" y="6747"/>
                  <a:pt x="9325" y="6732"/>
                  <a:pt x="9401" y="6722"/>
                </a:cubicBezTo>
                <a:cubicBezTo>
                  <a:pt x="9426" y="6722"/>
                  <a:pt x="9450" y="6722"/>
                  <a:pt x="9475" y="6722"/>
                </a:cubicBezTo>
              </a:path>
              <a:path w="12304" h="1439">
                <a:moveTo>
                  <a:pt x="10120" y="6052"/>
                </a:moveTo>
                <a:cubicBezTo>
                  <a:pt x="10181" y="6023"/>
                  <a:pt x="10244" y="5998"/>
                  <a:pt x="10294" y="5953"/>
                </a:cubicBezTo>
                <a:cubicBezTo>
                  <a:pt x="10341" y="5911"/>
                  <a:pt x="10425" y="5860"/>
                  <a:pt x="10492" y="5879"/>
                </a:cubicBezTo>
                <a:cubicBezTo>
                  <a:pt x="10539" y="5893"/>
                  <a:pt x="10613" y="5962"/>
                  <a:pt x="10641" y="6003"/>
                </a:cubicBezTo>
                <a:cubicBezTo>
                  <a:pt x="10689" y="6075"/>
                  <a:pt x="10708" y="6193"/>
                  <a:pt x="10716" y="6276"/>
                </a:cubicBezTo>
                <a:cubicBezTo>
                  <a:pt x="10727" y="6389"/>
                  <a:pt x="10718" y="6520"/>
                  <a:pt x="10666" y="6623"/>
                </a:cubicBezTo>
                <a:cubicBezTo>
                  <a:pt x="10623" y="6708"/>
                  <a:pt x="10551" y="6799"/>
                  <a:pt x="10492" y="6871"/>
                </a:cubicBezTo>
                <a:cubicBezTo>
                  <a:pt x="10418" y="6961"/>
                  <a:pt x="10373" y="6956"/>
                  <a:pt x="10269" y="6945"/>
                </a:cubicBezTo>
                <a:cubicBezTo>
                  <a:pt x="10215" y="6939"/>
                  <a:pt x="10178" y="6922"/>
                  <a:pt x="10145" y="6871"/>
                </a:cubicBezTo>
                <a:cubicBezTo>
                  <a:pt x="10089" y="6785"/>
                  <a:pt x="10118" y="6699"/>
                  <a:pt x="10170" y="6623"/>
                </a:cubicBezTo>
                <a:cubicBezTo>
                  <a:pt x="10201" y="6578"/>
                  <a:pt x="10280" y="6575"/>
                  <a:pt x="10319" y="6598"/>
                </a:cubicBezTo>
                <a:cubicBezTo>
                  <a:pt x="10365" y="6625"/>
                  <a:pt x="10422" y="6700"/>
                  <a:pt x="10443" y="6747"/>
                </a:cubicBezTo>
                <a:cubicBezTo>
                  <a:pt x="10475" y="6818"/>
                  <a:pt x="10488" y="6918"/>
                  <a:pt x="10492" y="6995"/>
                </a:cubicBezTo>
                <a:cubicBezTo>
                  <a:pt x="10492" y="7040"/>
                  <a:pt x="10488" y="7053"/>
                  <a:pt x="10517" y="7069"/>
                </a:cubicBezTo>
              </a:path>
              <a:path w="12304" h="1439">
                <a:moveTo>
                  <a:pt x="11063" y="6648"/>
                </a:moveTo>
                <a:cubicBezTo>
                  <a:pt x="11071" y="6648"/>
                  <a:pt x="11080" y="6648"/>
                  <a:pt x="11088" y="6648"/>
                </a:cubicBezTo>
              </a:path>
              <a:path w="12304" h="1439">
                <a:moveTo>
                  <a:pt x="11807" y="6350"/>
                </a:moveTo>
                <a:cubicBezTo>
                  <a:pt x="11730" y="6350"/>
                  <a:pt x="11672" y="6350"/>
                  <a:pt x="11609" y="6375"/>
                </a:cubicBezTo>
                <a:cubicBezTo>
                  <a:pt x="11543" y="6401"/>
                  <a:pt x="11531" y="6390"/>
                  <a:pt x="11485" y="6424"/>
                </a:cubicBezTo>
                <a:cubicBezTo>
                  <a:pt x="11510" y="6469"/>
                  <a:pt x="11538" y="6518"/>
                  <a:pt x="11584" y="6548"/>
                </a:cubicBezTo>
                <a:cubicBezTo>
                  <a:pt x="11651" y="6591"/>
                  <a:pt x="11701" y="6652"/>
                  <a:pt x="11757" y="6697"/>
                </a:cubicBezTo>
                <a:cubicBezTo>
                  <a:pt x="11834" y="6760"/>
                  <a:pt x="11852" y="6790"/>
                  <a:pt x="11857" y="6896"/>
                </a:cubicBezTo>
                <a:cubicBezTo>
                  <a:pt x="11861" y="6979"/>
                  <a:pt x="11806" y="6991"/>
                  <a:pt x="11733" y="6995"/>
                </a:cubicBezTo>
                <a:cubicBezTo>
                  <a:pt x="11665" y="6999"/>
                  <a:pt x="11613" y="6981"/>
                  <a:pt x="11559" y="6970"/>
                </a:cubicBezTo>
                <a:cubicBezTo>
                  <a:pt x="11514" y="6970"/>
                  <a:pt x="11501" y="6974"/>
                  <a:pt x="11485" y="6945"/>
                </a:cubicBezTo>
              </a:path>
              <a:path w="12304" h="1439">
                <a:moveTo>
                  <a:pt x="12055" y="6474"/>
                </a:moveTo>
                <a:cubicBezTo>
                  <a:pt x="12103" y="6584"/>
                  <a:pt x="12105" y="6629"/>
                  <a:pt x="12105" y="6747"/>
                </a:cubicBezTo>
                <a:cubicBezTo>
                  <a:pt x="12105" y="6762"/>
                  <a:pt x="12103" y="6961"/>
                  <a:pt x="12129" y="6945"/>
                </a:cubicBezTo>
                <a:cubicBezTo>
                  <a:pt x="12137" y="6929"/>
                  <a:pt x="12146" y="6912"/>
                  <a:pt x="12154" y="6896"/>
                </a:cubicBezTo>
              </a:path>
              <a:path w="12304" h="1439">
                <a:moveTo>
                  <a:pt x="12129" y="6176"/>
                </a:moveTo>
                <a:cubicBezTo>
                  <a:pt x="12149" y="6136"/>
                  <a:pt x="12148" y="6120"/>
                  <a:pt x="12179" y="6127"/>
                </a:cubicBezTo>
              </a:path>
              <a:path w="12304" h="1439">
                <a:moveTo>
                  <a:pt x="12353" y="6722"/>
                </a:moveTo>
                <a:cubicBezTo>
                  <a:pt x="12353" y="6807"/>
                  <a:pt x="12357" y="6868"/>
                  <a:pt x="12328" y="6945"/>
                </a:cubicBezTo>
                <a:cubicBezTo>
                  <a:pt x="12328" y="6841"/>
                  <a:pt x="12338" y="6745"/>
                  <a:pt x="12353" y="6648"/>
                </a:cubicBezTo>
                <a:cubicBezTo>
                  <a:pt x="12368" y="6552"/>
                  <a:pt x="12437" y="6523"/>
                  <a:pt x="12526" y="6474"/>
                </a:cubicBezTo>
                <a:cubicBezTo>
                  <a:pt x="12604" y="6431"/>
                  <a:pt x="12675" y="6475"/>
                  <a:pt x="12725" y="6524"/>
                </a:cubicBezTo>
                <a:cubicBezTo>
                  <a:pt x="12792" y="6590"/>
                  <a:pt x="12753" y="6643"/>
                  <a:pt x="12774" y="6722"/>
                </a:cubicBezTo>
                <a:cubicBezTo>
                  <a:pt x="12794" y="6797"/>
                  <a:pt x="12783" y="6870"/>
                  <a:pt x="12799" y="6945"/>
                </a:cubicBezTo>
                <a:cubicBezTo>
                  <a:pt x="12812" y="7002"/>
                  <a:pt x="12827" y="7066"/>
                  <a:pt x="12849" y="7045"/>
                </a:cubicBezTo>
              </a:path>
              <a:path w="12304" h="1439">
                <a:moveTo>
                  <a:pt x="13196" y="6524"/>
                </a:moveTo>
                <a:cubicBezTo>
                  <a:pt x="13153" y="6630"/>
                  <a:pt x="13154" y="6671"/>
                  <a:pt x="13171" y="6772"/>
                </a:cubicBezTo>
                <a:cubicBezTo>
                  <a:pt x="13184" y="6847"/>
                  <a:pt x="13225" y="6908"/>
                  <a:pt x="13271" y="6970"/>
                </a:cubicBezTo>
                <a:cubicBezTo>
                  <a:pt x="13305" y="7016"/>
                  <a:pt x="13414" y="7041"/>
                  <a:pt x="13469" y="7020"/>
                </a:cubicBezTo>
                <a:cubicBezTo>
                  <a:pt x="13518" y="7001"/>
                  <a:pt x="13593" y="6914"/>
                  <a:pt x="13618" y="6871"/>
                </a:cubicBezTo>
                <a:cubicBezTo>
                  <a:pt x="13656" y="6807"/>
                  <a:pt x="13664" y="6720"/>
                  <a:pt x="13667" y="6648"/>
                </a:cubicBezTo>
                <a:cubicBezTo>
                  <a:pt x="13670" y="6581"/>
                  <a:pt x="13648" y="6516"/>
                  <a:pt x="13643" y="6449"/>
                </a:cubicBezTo>
                <a:cubicBezTo>
                  <a:pt x="13643" y="6577"/>
                  <a:pt x="13647" y="6699"/>
                  <a:pt x="13667" y="6821"/>
                </a:cubicBezTo>
                <a:cubicBezTo>
                  <a:pt x="13677" y="6883"/>
                  <a:pt x="13696" y="6919"/>
                  <a:pt x="13742" y="6970"/>
                </a:cubicBezTo>
                <a:cubicBezTo>
                  <a:pt x="13776" y="7004"/>
                  <a:pt x="13797" y="7012"/>
                  <a:pt x="13841" y="6995"/>
                </a:cubicBezTo>
              </a:path>
              <a:path w="12304" h="1439">
                <a:moveTo>
                  <a:pt x="14288" y="6672"/>
                </a:moveTo>
                <a:cubicBezTo>
                  <a:pt x="14296" y="6680"/>
                  <a:pt x="14304" y="6689"/>
                  <a:pt x="14312" y="6697"/>
                </a:cubicBezTo>
              </a:path>
              <a:path w="12304" h="1439">
                <a:moveTo>
                  <a:pt x="15032" y="6350"/>
                </a:moveTo>
                <a:cubicBezTo>
                  <a:pt x="15004" y="6253"/>
                  <a:pt x="14975" y="6284"/>
                  <a:pt x="14883" y="6325"/>
                </a:cubicBezTo>
                <a:cubicBezTo>
                  <a:pt x="14819" y="6354"/>
                  <a:pt x="14798" y="6394"/>
                  <a:pt x="14759" y="6449"/>
                </a:cubicBezTo>
                <a:cubicBezTo>
                  <a:pt x="14688" y="6550"/>
                  <a:pt x="14684" y="6572"/>
                  <a:pt x="14684" y="6697"/>
                </a:cubicBezTo>
                <a:cubicBezTo>
                  <a:pt x="14684" y="6744"/>
                  <a:pt x="14722" y="6836"/>
                  <a:pt x="14759" y="6871"/>
                </a:cubicBezTo>
                <a:cubicBezTo>
                  <a:pt x="14816" y="6925"/>
                  <a:pt x="14888" y="6995"/>
                  <a:pt x="14982" y="6970"/>
                </a:cubicBezTo>
                <a:cubicBezTo>
                  <a:pt x="14990" y="6962"/>
                  <a:pt x="14999" y="6953"/>
                  <a:pt x="15007" y="6945"/>
                </a:cubicBezTo>
              </a:path>
              <a:path w="12304" h="1439">
                <a:moveTo>
                  <a:pt x="15304" y="6524"/>
                </a:moveTo>
                <a:cubicBezTo>
                  <a:pt x="15267" y="6599"/>
                  <a:pt x="15235" y="6662"/>
                  <a:pt x="15230" y="6747"/>
                </a:cubicBezTo>
                <a:cubicBezTo>
                  <a:pt x="15226" y="6827"/>
                  <a:pt x="15220" y="6903"/>
                  <a:pt x="15304" y="6945"/>
                </a:cubicBezTo>
                <a:cubicBezTo>
                  <a:pt x="15407" y="6996"/>
                  <a:pt x="15484" y="6967"/>
                  <a:pt x="15577" y="6921"/>
                </a:cubicBezTo>
                <a:cubicBezTo>
                  <a:pt x="15660" y="6880"/>
                  <a:pt x="15722" y="6785"/>
                  <a:pt x="15726" y="6697"/>
                </a:cubicBezTo>
                <a:cubicBezTo>
                  <a:pt x="15731" y="6588"/>
                  <a:pt x="15727" y="6574"/>
                  <a:pt x="15652" y="6499"/>
                </a:cubicBezTo>
                <a:cubicBezTo>
                  <a:pt x="15584" y="6431"/>
                  <a:pt x="15545" y="6404"/>
                  <a:pt x="15453" y="6400"/>
                </a:cubicBezTo>
                <a:cubicBezTo>
                  <a:pt x="15358" y="6395"/>
                  <a:pt x="15346" y="6407"/>
                  <a:pt x="15280" y="6474"/>
                </a:cubicBezTo>
                <a:cubicBezTo>
                  <a:pt x="15234" y="6520"/>
                  <a:pt x="15209" y="6540"/>
                  <a:pt x="15255" y="6598"/>
                </a:cubicBezTo>
                <a:cubicBezTo>
                  <a:pt x="15293" y="6636"/>
                  <a:pt x="15316" y="6654"/>
                  <a:pt x="15354" y="6672"/>
                </a:cubicBezTo>
              </a:path>
              <a:path w="12304" h="1439">
                <a:moveTo>
                  <a:pt x="16173" y="6400"/>
                </a:moveTo>
                <a:cubicBezTo>
                  <a:pt x="16075" y="6438"/>
                  <a:pt x="16001" y="6429"/>
                  <a:pt x="15974" y="6524"/>
                </a:cubicBezTo>
                <a:cubicBezTo>
                  <a:pt x="16073" y="6594"/>
                  <a:pt x="16160" y="6635"/>
                  <a:pt x="16247" y="6722"/>
                </a:cubicBezTo>
                <a:cubicBezTo>
                  <a:pt x="16302" y="6777"/>
                  <a:pt x="16325" y="6860"/>
                  <a:pt x="16297" y="6921"/>
                </a:cubicBezTo>
                <a:cubicBezTo>
                  <a:pt x="16258" y="7004"/>
                  <a:pt x="16233" y="6995"/>
                  <a:pt x="16148" y="6995"/>
                </a:cubicBezTo>
                <a:cubicBezTo>
                  <a:pt x="16087" y="6995"/>
                  <a:pt x="16049" y="6995"/>
                  <a:pt x="15999" y="6970"/>
                </a:cubicBezTo>
              </a:path>
              <a:path w="12304" h="1439">
                <a:moveTo>
                  <a:pt x="16570" y="6400"/>
                </a:moveTo>
                <a:cubicBezTo>
                  <a:pt x="16570" y="6490"/>
                  <a:pt x="16548" y="6561"/>
                  <a:pt x="16545" y="6648"/>
                </a:cubicBezTo>
                <a:cubicBezTo>
                  <a:pt x="16541" y="6747"/>
                  <a:pt x="16557" y="6838"/>
                  <a:pt x="16644" y="6896"/>
                </a:cubicBezTo>
                <a:cubicBezTo>
                  <a:pt x="16709" y="6940"/>
                  <a:pt x="16739" y="6945"/>
                  <a:pt x="16818" y="6945"/>
                </a:cubicBezTo>
                <a:cubicBezTo>
                  <a:pt x="16891" y="6945"/>
                  <a:pt x="16938" y="6896"/>
                  <a:pt x="16991" y="6846"/>
                </a:cubicBezTo>
                <a:cubicBezTo>
                  <a:pt x="17071" y="6770"/>
                  <a:pt x="17063" y="6740"/>
                  <a:pt x="17090" y="6648"/>
                </a:cubicBezTo>
                <a:cubicBezTo>
                  <a:pt x="17111" y="6579"/>
                  <a:pt x="17117" y="6381"/>
                  <a:pt x="17140" y="6449"/>
                </a:cubicBezTo>
                <a:cubicBezTo>
                  <a:pt x="17163" y="6518"/>
                  <a:pt x="17174" y="6579"/>
                  <a:pt x="17190" y="6648"/>
                </a:cubicBezTo>
                <a:cubicBezTo>
                  <a:pt x="17205" y="6711"/>
                  <a:pt x="17270" y="6884"/>
                  <a:pt x="17314" y="6921"/>
                </a:cubicBezTo>
                <a:cubicBezTo>
                  <a:pt x="17379" y="6976"/>
                  <a:pt x="17412" y="6963"/>
                  <a:pt x="17462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Ink 7"/>
          <p:cNvSpPr/>
          <p:nvPr/>
        </p:nvSpPr>
        <p:spPr>
          <a:xfrm>
            <a:off x="3295800" y="2803680"/>
            <a:ext cx="1500120" cy="714240"/>
          </a:xfrm>
          <a:custGeom>
            <a:avLst/>
            <a:gdLst/>
            <a:ahLst/>
            <a:rect l="l" t="t" r="r" b="b"/>
            <a:pathLst>
              <a:path w="4168" h="1985">
                <a:moveTo>
                  <a:pt x="9153" y="8260"/>
                </a:moveTo>
                <a:cubicBezTo>
                  <a:pt x="9260" y="8260"/>
                  <a:pt x="9368" y="8260"/>
                  <a:pt x="9475" y="8260"/>
                </a:cubicBezTo>
              </a:path>
              <a:path w="4168" h="1985">
                <a:moveTo>
                  <a:pt x="9302" y="8508"/>
                </a:moveTo>
                <a:cubicBezTo>
                  <a:pt x="9359" y="8554"/>
                  <a:pt x="9426" y="8572"/>
                  <a:pt x="9500" y="8582"/>
                </a:cubicBezTo>
                <a:cubicBezTo>
                  <a:pt x="9558" y="8582"/>
                  <a:pt x="9583" y="8582"/>
                  <a:pt x="9624" y="8582"/>
                </a:cubicBezTo>
              </a:path>
              <a:path w="4168" h="1985">
                <a:moveTo>
                  <a:pt x="10344" y="8111"/>
                </a:moveTo>
                <a:cubicBezTo>
                  <a:pt x="10353" y="8045"/>
                  <a:pt x="10386" y="8002"/>
                  <a:pt x="10418" y="7938"/>
                </a:cubicBezTo>
                <a:cubicBezTo>
                  <a:pt x="10448" y="7879"/>
                  <a:pt x="10479" y="7839"/>
                  <a:pt x="10542" y="7813"/>
                </a:cubicBezTo>
                <a:cubicBezTo>
                  <a:pt x="10627" y="7779"/>
                  <a:pt x="10657" y="7777"/>
                  <a:pt x="10716" y="7838"/>
                </a:cubicBezTo>
                <a:cubicBezTo>
                  <a:pt x="10751" y="7874"/>
                  <a:pt x="10754" y="7985"/>
                  <a:pt x="10740" y="8037"/>
                </a:cubicBezTo>
                <a:cubicBezTo>
                  <a:pt x="10716" y="8127"/>
                  <a:pt x="10697" y="8223"/>
                  <a:pt x="10666" y="8310"/>
                </a:cubicBezTo>
                <a:cubicBezTo>
                  <a:pt x="10627" y="8421"/>
                  <a:pt x="10625" y="8501"/>
                  <a:pt x="10567" y="8607"/>
                </a:cubicBezTo>
                <a:cubicBezTo>
                  <a:pt x="10535" y="8666"/>
                  <a:pt x="10513" y="8730"/>
                  <a:pt x="10468" y="8781"/>
                </a:cubicBezTo>
                <a:cubicBezTo>
                  <a:pt x="10425" y="8830"/>
                  <a:pt x="10338" y="8816"/>
                  <a:pt x="10294" y="8781"/>
                </a:cubicBezTo>
                <a:cubicBezTo>
                  <a:pt x="10252" y="8748"/>
                  <a:pt x="10259" y="8610"/>
                  <a:pt x="10269" y="8558"/>
                </a:cubicBezTo>
                <a:cubicBezTo>
                  <a:pt x="10284" y="8480"/>
                  <a:pt x="10331" y="8425"/>
                  <a:pt x="10418" y="8458"/>
                </a:cubicBezTo>
                <a:cubicBezTo>
                  <a:pt x="10452" y="8471"/>
                  <a:pt x="10509" y="8550"/>
                  <a:pt x="10517" y="8582"/>
                </a:cubicBezTo>
                <a:cubicBezTo>
                  <a:pt x="10533" y="8650"/>
                  <a:pt x="10543" y="8710"/>
                  <a:pt x="10567" y="8781"/>
                </a:cubicBezTo>
              </a:path>
              <a:path w="4168" h="1985">
                <a:moveTo>
                  <a:pt x="11013" y="8607"/>
                </a:moveTo>
                <a:cubicBezTo>
                  <a:pt x="11004" y="8639"/>
                  <a:pt x="10950" y="8799"/>
                  <a:pt x="11038" y="8731"/>
                </a:cubicBezTo>
                <a:cubicBezTo>
                  <a:pt x="11063" y="8706"/>
                  <a:pt x="11071" y="8698"/>
                  <a:pt x="11038" y="8731"/>
                </a:cubicBezTo>
              </a:path>
              <a:path w="4168" h="1985">
                <a:moveTo>
                  <a:pt x="11708" y="8037"/>
                </a:moveTo>
                <a:cubicBezTo>
                  <a:pt x="11773" y="8012"/>
                  <a:pt x="11836" y="7991"/>
                  <a:pt x="11906" y="7987"/>
                </a:cubicBezTo>
                <a:cubicBezTo>
                  <a:pt x="11962" y="7984"/>
                  <a:pt x="12094" y="7975"/>
                  <a:pt x="12129" y="8037"/>
                </a:cubicBezTo>
                <a:cubicBezTo>
                  <a:pt x="12129" y="8053"/>
                  <a:pt x="12129" y="8070"/>
                  <a:pt x="12129" y="8086"/>
                </a:cubicBezTo>
                <a:cubicBezTo>
                  <a:pt x="12086" y="8121"/>
                  <a:pt x="12029" y="8186"/>
                  <a:pt x="11981" y="8210"/>
                </a:cubicBezTo>
                <a:cubicBezTo>
                  <a:pt x="11921" y="8240"/>
                  <a:pt x="11843" y="8251"/>
                  <a:pt x="11782" y="8260"/>
                </a:cubicBezTo>
                <a:cubicBezTo>
                  <a:pt x="11850" y="8314"/>
                  <a:pt x="11886" y="8284"/>
                  <a:pt x="11956" y="8310"/>
                </a:cubicBezTo>
                <a:cubicBezTo>
                  <a:pt x="12004" y="8328"/>
                  <a:pt x="12059" y="8349"/>
                  <a:pt x="12105" y="8384"/>
                </a:cubicBezTo>
                <a:cubicBezTo>
                  <a:pt x="12173" y="8436"/>
                  <a:pt x="12175" y="8502"/>
                  <a:pt x="12179" y="8582"/>
                </a:cubicBezTo>
                <a:cubicBezTo>
                  <a:pt x="12181" y="8635"/>
                  <a:pt x="12152" y="8676"/>
                  <a:pt x="12105" y="8706"/>
                </a:cubicBezTo>
                <a:cubicBezTo>
                  <a:pt x="12063" y="8733"/>
                  <a:pt x="11954" y="8785"/>
                  <a:pt x="11906" y="8781"/>
                </a:cubicBezTo>
                <a:cubicBezTo>
                  <a:pt x="11842" y="8775"/>
                  <a:pt x="11821" y="8745"/>
                  <a:pt x="11782" y="8706"/>
                </a:cubicBezTo>
              </a:path>
              <a:path w="4168" h="1985">
                <a:moveTo>
                  <a:pt x="12477" y="8334"/>
                </a:moveTo>
                <a:cubicBezTo>
                  <a:pt x="12482" y="8454"/>
                  <a:pt x="12502" y="8543"/>
                  <a:pt x="12502" y="8657"/>
                </a:cubicBezTo>
                <a:cubicBezTo>
                  <a:pt x="12502" y="8706"/>
                  <a:pt x="12502" y="8723"/>
                  <a:pt x="12502" y="8756"/>
                </a:cubicBezTo>
                <a:cubicBezTo>
                  <a:pt x="12473" y="8679"/>
                  <a:pt x="12477" y="8618"/>
                  <a:pt x="12477" y="8533"/>
                </a:cubicBezTo>
                <a:cubicBezTo>
                  <a:pt x="12477" y="8454"/>
                  <a:pt x="12455" y="8387"/>
                  <a:pt x="12452" y="8310"/>
                </a:cubicBezTo>
                <a:cubicBezTo>
                  <a:pt x="12448" y="8212"/>
                  <a:pt x="12421" y="8063"/>
                  <a:pt x="12502" y="8012"/>
                </a:cubicBezTo>
                <a:cubicBezTo>
                  <a:pt x="12586" y="7959"/>
                  <a:pt x="12653" y="7962"/>
                  <a:pt x="12750" y="7962"/>
                </a:cubicBezTo>
                <a:cubicBezTo>
                  <a:pt x="12868" y="7962"/>
                  <a:pt x="12977" y="7938"/>
                  <a:pt x="13097" y="7938"/>
                </a:cubicBezTo>
                <a:cubicBezTo>
                  <a:pt x="13177" y="7938"/>
                  <a:pt x="13230" y="7933"/>
                  <a:pt x="13295" y="7913"/>
                </a:cubicBezTo>
                <a:cubicBezTo>
                  <a:pt x="13303" y="7913"/>
                  <a:pt x="13312" y="7913"/>
                  <a:pt x="13320" y="7913"/>
                </a:cubicBezTo>
              </a:path>
              <a:path w="4168" h="1985">
                <a:moveTo>
                  <a:pt x="12750" y="8111"/>
                </a:moveTo>
                <a:cubicBezTo>
                  <a:pt x="12878" y="8111"/>
                  <a:pt x="12937" y="8097"/>
                  <a:pt x="13047" y="8086"/>
                </a:cubicBezTo>
              </a:path>
              <a:path w="4168" h="1985">
                <a:moveTo>
                  <a:pt x="12799" y="8086"/>
                </a:moveTo>
                <a:cubicBezTo>
                  <a:pt x="12777" y="8167"/>
                  <a:pt x="12774" y="8226"/>
                  <a:pt x="12774" y="8310"/>
                </a:cubicBezTo>
                <a:cubicBezTo>
                  <a:pt x="12774" y="8354"/>
                  <a:pt x="12771" y="8368"/>
                  <a:pt x="12799" y="8384"/>
                </a:cubicBezTo>
                <a:cubicBezTo>
                  <a:pt x="12880" y="8348"/>
                  <a:pt x="12923" y="8310"/>
                  <a:pt x="12998" y="8334"/>
                </a:cubicBezTo>
                <a:cubicBezTo>
                  <a:pt x="13081" y="8360"/>
                  <a:pt x="13131" y="8390"/>
                  <a:pt x="13146" y="8483"/>
                </a:cubicBezTo>
                <a:cubicBezTo>
                  <a:pt x="13156" y="8548"/>
                  <a:pt x="13157" y="8649"/>
                  <a:pt x="13122" y="8706"/>
                </a:cubicBezTo>
                <a:cubicBezTo>
                  <a:pt x="13098" y="8745"/>
                  <a:pt x="13008" y="8774"/>
                  <a:pt x="12973" y="8781"/>
                </a:cubicBezTo>
                <a:cubicBezTo>
                  <a:pt x="12912" y="8793"/>
                  <a:pt x="12835" y="8781"/>
                  <a:pt x="12774" y="8781"/>
                </a:cubicBezTo>
              </a:path>
              <a:path w="4168" h="1985">
                <a:moveTo>
                  <a:pt x="11832" y="8855"/>
                </a:moveTo>
                <a:cubicBezTo>
                  <a:pt x="11930" y="8818"/>
                  <a:pt x="12019" y="8830"/>
                  <a:pt x="12129" y="8830"/>
                </a:cubicBezTo>
                <a:cubicBezTo>
                  <a:pt x="12501" y="8830"/>
                  <a:pt x="13568" y="8830"/>
                  <a:pt x="13196" y="8830"/>
                </a:cubicBezTo>
              </a:path>
              <a:path w="4168" h="1985">
                <a:moveTo>
                  <a:pt x="12229" y="9054"/>
                </a:moveTo>
                <a:cubicBezTo>
                  <a:pt x="12289" y="9018"/>
                  <a:pt x="12352" y="9029"/>
                  <a:pt x="12427" y="9029"/>
                </a:cubicBezTo>
                <a:cubicBezTo>
                  <a:pt x="12512" y="9029"/>
                  <a:pt x="12589" y="9004"/>
                  <a:pt x="12675" y="9004"/>
                </a:cubicBezTo>
                <a:cubicBezTo>
                  <a:pt x="12715" y="9004"/>
                  <a:pt x="12830" y="8981"/>
                  <a:pt x="12849" y="9029"/>
                </a:cubicBezTo>
                <a:cubicBezTo>
                  <a:pt x="12886" y="9125"/>
                  <a:pt x="12855" y="9305"/>
                  <a:pt x="12874" y="9401"/>
                </a:cubicBezTo>
                <a:cubicBezTo>
                  <a:pt x="12897" y="9516"/>
                  <a:pt x="12867" y="9641"/>
                  <a:pt x="12898" y="9748"/>
                </a:cubicBezTo>
                <a:cubicBezTo>
                  <a:pt x="12898" y="9756"/>
                  <a:pt x="12898" y="9765"/>
                  <a:pt x="12898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Ink 8"/>
          <p:cNvSpPr/>
          <p:nvPr/>
        </p:nvSpPr>
        <p:spPr>
          <a:xfrm>
            <a:off x="5330880" y="2928960"/>
            <a:ext cx="714240" cy="812880"/>
          </a:xfrm>
          <a:custGeom>
            <a:avLst/>
            <a:gdLst/>
            <a:ahLst/>
            <a:rect l="l" t="t" r="r" b="b"/>
            <a:pathLst>
              <a:path w="1986" h="2258">
                <a:moveTo>
                  <a:pt x="14833" y="8880"/>
                </a:moveTo>
                <a:cubicBezTo>
                  <a:pt x="14827" y="8923"/>
                  <a:pt x="14791" y="8985"/>
                  <a:pt x="14858" y="9004"/>
                </a:cubicBezTo>
                <a:cubicBezTo>
                  <a:pt x="14903" y="9004"/>
                  <a:pt x="14916" y="9008"/>
                  <a:pt x="14932" y="8979"/>
                </a:cubicBezTo>
                <a:cubicBezTo>
                  <a:pt x="14845" y="8990"/>
                  <a:pt x="14820" y="8993"/>
                  <a:pt x="14808" y="9079"/>
                </a:cubicBezTo>
                <a:cubicBezTo>
                  <a:pt x="14907" y="9067"/>
                  <a:pt x="14941" y="9048"/>
                  <a:pt x="14858" y="8979"/>
                </a:cubicBezTo>
              </a:path>
              <a:path w="1986" h="2258">
                <a:moveTo>
                  <a:pt x="15478" y="8632"/>
                </a:moveTo>
                <a:cubicBezTo>
                  <a:pt x="15569" y="8632"/>
                  <a:pt x="15660" y="8632"/>
                  <a:pt x="15751" y="8632"/>
                </a:cubicBezTo>
              </a:path>
              <a:path w="1986" h="2258">
                <a:moveTo>
                  <a:pt x="16073" y="8409"/>
                </a:moveTo>
                <a:cubicBezTo>
                  <a:pt x="16106" y="8318"/>
                  <a:pt x="16129" y="8278"/>
                  <a:pt x="16197" y="8210"/>
                </a:cubicBezTo>
                <a:cubicBezTo>
                  <a:pt x="16237" y="8170"/>
                  <a:pt x="16312" y="8123"/>
                  <a:pt x="16371" y="8136"/>
                </a:cubicBezTo>
                <a:cubicBezTo>
                  <a:pt x="16471" y="8158"/>
                  <a:pt x="16470" y="8253"/>
                  <a:pt x="16470" y="8334"/>
                </a:cubicBezTo>
                <a:cubicBezTo>
                  <a:pt x="16470" y="8432"/>
                  <a:pt x="16469" y="8513"/>
                  <a:pt x="16446" y="8607"/>
                </a:cubicBezTo>
                <a:cubicBezTo>
                  <a:pt x="16416" y="8730"/>
                  <a:pt x="16412" y="8756"/>
                  <a:pt x="16346" y="8855"/>
                </a:cubicBezTo>
                <a:cubicBezTo>
                  <a:pt x="16303" y="8918"/>
                  <a:pt x="16292" y="8942"/>
                  <a:pt x="16222" y="8979"/>
                </a:cubicBezTo>
                <a:cubicBezTo>
                  <a:pt x="16127" y="9029"/>
                  <a:pt x="16122" y="8971"/>
                  <a:pt x="16098" y="8905"/>
                </a:cubicBezTo>
                <a:cubicBezTo>
                  <a:pt x="16076" y="8861"/>
                  <a:pt x="16063" y="8849"/>
                  <a:pt x="16098" y="8830"/>
                </a:cubicBezTo>
                <a:cubicBezTo>
                  <a:pt x="16163" y="8839"/>
                  <a:pt x="16259" y="8855"/>
                  <a:pt x="16321" y="8880"/>
                </a:cubicBezTo>
                <a:cubicBezTo>
                  <a:pt x="16376" y="8902"/>
                  <a:pt x="16428" y="8926"/>
                  <a:pt x="16495" y="8930"/>
                </a:cubicBezTo>
                <a:cubicBezTo>
                  <a:pt x="16567" y="8934"/>
                  <a:pt x="16600" y="8943"/>
                  <a:pt x="16669" y="8930"/>
                </a:cubicBezTo>
                <a:cubicBezTo>
                  <a:pt x="16710" y="8930"/>
                  <a:pt x="16718" y="8930"/>
                  <a:pt x="16743" y="8930"/>
                </a:cubicBezTo>
              </a:path>
              <a:path w="1986" h="2258">
                <a:moveTo>
                  <a:pt x="15974" y="9203"/>
                </a:moveTo>
                <a:cubicBezTo>
                  <a:pt x="16221" y="9203"/>
                  <a:pt x="16565" y="9264"/>
                  <a:pt x="16793" y="9178"/>
                </a:cubicBezTo>
              </a:path>
              <a:path w="1986" h="2258">
                <a:moveTo>
                  <a:pt x="16247" y="9451"/>
                </a:moveTo>
                <a:cubicBezTo>
                  <a:pt x="16385" y="9451"/>
                  <a:pt x="16514" y="9447"/>
                  <a:pt x="16644" y="9426"/>
                </a:cubicBezTo>
                <a:cubicBezTo>
                  <a:pt x="16694" y="9426"/>
                  <a:pt x="16710" y="9426"/>
                  <a:pt x="16743" y="9426"/>
                </a:cubicBezTo>
                <a:cubicBezTo>
                  <a:pt x="16704" y="9477"/>
                  <a:pt x="16718" y="9532"/>
                  <a:pt x="16718" y="9599"/>
                </a:cubicBezTo>
                <a:cubicBezTo>
                  <a:pt x="16718" y="9849"/>
                  <a:pt x="16708" y="10100"/>
                  <a:pt x="16743" y="10344"/>
                </a:cubicBezTo>
                <a:cubicBezTo>
                  <a:pt x="16743" y="10388"/>
                  <a:pt x="16740" y="10408"/>
                  <a:pt x="16768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Ink 9"/>
          <p:cNvSpPr/>
          <p:nvPr/>
        </p:nvSpPr>
        <p:spPr>
          <a:xfrm>
            <a:off x="3483000" y="3214800"/>
            <a:ext cx="1581120" cy="1258920"/>
          </a:xfrm>
          <a:custGeom>
            <a:avLst/>
            <a:gdLst/>
            <a:ahLst/>
            <a:rect l="l" t="t" r="r" b="b"/>
            <a:pathLst>
              <a:path w="4391" h="3498">
                <a:moveTo>
                  <a:pt x="9674" y="10666"/>
                </a:moveTo>
                <a:cubicBezTo>
                  <a:pt x="9839" y="10666"/>
                  <a:pt x="10005" y="10666"/>
                  <a:pt x="10170" y="10666"/>
                </a:cubicBezTo>
              </a:path>
              <a:path w="4391" h="3498">
                <a:moveTo>
                  <a:pt x="9699" y="10914"/>
                </a:moveTo>
                <a:cubicBezTo>
                  <a:pt x="9769" y="10941"/>
                  <a:pt x="9821" y="10939"/>
                  <a:pt x="9897" y="10939"/>
                </a:cubicBezTo>
                <a:cubicBezTo>
                  <a:pt x="9978" y="10939"/>
                  <a:pt x="10243" y="10984"/>
                  <a:pt x="10294" y="10964"/>
                </a:cubicBezTo>
                <a:cubicBezTo>
                  <a:pt x="10294" y="10936"/>
                  <a:pt x="10292" y="10925"/>
                  <a:pt x="10269" y="10914"/>
                </a:cubicBezTo>
              </a:path>
              <a:path w="4391" h="3498">
                <a:moveTo>
                  <a:pt x="10120" y="8979"/>
                </a:moveTo>
                <a:cubicBezTo>
                  <a:pt x="10213" y="8970"/>
                  <a:pt x="10298" y="8954"/>
                  <a:pt x="10393" y="8954"/>
                </a:cubicBezTo>
                <a:cubicBezTo>
                  <a:pt x="10489" y="8954"/>
                  <a:pt x="10571" y="8934"/>
                  <a:pt x="10666" y="8930"/>
                </a:cubicBezTo>
                <a:cubicBezTo>
                  <a:pt x="10773" y="8925"/>
                  <a:pt x="10881" y="8930"/>
                  <a:pt x="10988" y="8930"/>
                </a:cubicBezTo>
              </a:path>
              <a:path w="4391" h="3498">
                <a:moveTo>
                  <a:pt x="10616" y="9203"/>
                </a:moveTo>
                <a:cubicBezTo>
                  <a:pt x="10638" y="9303"/>
                  <a:pt x="10641" y="9372"/>
                  <a:pt x="10641" y="9475"/>
                </a:cubicBezTo>
                <a:cubicBezTo>
                  <a:pt x="10641" y="9581"/>
                  <a:pt x="10663" y="9671"/>
                  <a:pt x="10666" y="9773"/>
                </a:cubicBezTo>
                <a:cubicBezTo>
                  <a:pt x="10666" y="9856"/>
                  <a:pt x="10666" y="9872"/>
                  <a:pt x="10666" y="9922"/>
                </a:cubicBezTo>
              </a:path>
              <a:path w="4391" h="3498">
                <a:moveTo>
                  <a:pt x="10988" y="11311"/>
                </a:moveTo>
                <a:cubicBezTo>
                  <a:pt x="11050" y="11295"/>
                  <a:pt x="11111" y="11287"/>
                  <a:pt x="11187" y="11286"/>
                </a:cubicBezTo>
                <a:cubicBezTo>
                  <a:pt x="11285" y="11284"/>
                  <a:pt x="11372" y="11301"/>
                  <a:pt x="11460" y="11311"/>
                </a:cubicBezTo>
                <a:cubicBezTo>
                  <a:pt x="11547" y="11320"/>
                  <a:pt x="11647" y="11330"/>
                  <a:pt x="11733" y="11336"/>
                </a:cubicBezTo>
                <a:cubicBezTo>
                  <a:pt x="11833" y="11343"/>
                  <a:pt x="11932" y="11344"/>
                  <a:pt x="12030" y="11361"/>
                </a:cubicBezTo>
                <a:cubicBezTo>
                  <a:pt x="12177" y="11387"/>
                  <a:pt x="12328" y="11406"/>
                  <a:pt x="12477" y="11410"/>
                </a:cubicBezTo>
                <a:cubicBezTo>
                  <a:pt x="12588" y="11413"/>
                  <a:pt x="12714" y="11418"/>
                  <a:pt x="12824" y="11435"/>
                </a:cubicBezTo>
                <a:cubicBezTo>
                  <a:pt x="12949" y="11455"/>
                  <a:pt x="13072" y="11498"/>
                  <a:pt x="13196" y="11509"/>
                </a:cubicBezTo>
                <a:cubicBezTo>
                  <a:pt x="13338" y="11521"/>
                  <a:pt x="13476" y="11534"/>
                  <a:pt x="13618" y="11559"/>
                </a:cubicBezTo>
                <a:cubicBezTo>
                  <a:pt x="13698" y="11573"/>
                  <a:pt x="13821" y="11601"/>
                  <a:pt x="13891" y="11609"/>
                </a:cubicBezTo>
                <a:cubicBezTo>
                  <a:pt x="13946" y="11616"/>
                  <a:pt x="14008" y="11609"/>
                  <a:pt x="14064" y="11609"/>
                </a:cubicBezTo>
              </a:path>
              <a:path w="4391" h="3498">
                <a:moveTo>
                  <a:pt x="10964" y="10740"/>
                </a:moveTo>
                <a:cubicBezTo>
                  <a:pt x="11051" y="10717"/>
                  <a:pt x="11121" y="10716"/>
                  <a:pt x="11212" y="10716"/>
                </a:cubicBezTo>
                <a:cubicBezTo>
                  <a:pt x="11220" y="10716"/>
                  <a:pt x="11229" y="10716"/>
                  <a:pt x="11237" y="10716"/>
                </a:cubicBezTo>
              </a:path>
              <a:path w="4391" h="3498">
                <a:moveTo>
                  <a:pt x="11534" y="10418"/>
                </a:moveTo>
                <a:cubicBezTo>
                  <a:pt x="11534" y="10602"/>
                  <a:pt x="11465" y="10981"/>
                  <a:pt x="11559" y="11137"/>
                </a:cubicBezTo>
              </a:path>
              <a:path w="4391" h="3498">
                <a:moveTo>
                  <a:pt x="11733" y="10468"/>
                </a:moveTo>
                <a:cubicBezTo>
                  <a:pt x="11816" y="10399"/>
                  <a:pt x="11870" y="10353"/>
                  <a:pt x="11981" y="10418"/>
                </a:cubicBezTo>
                <a:cubicBezTo>
                  <a:pt x="12032" y="10447"/>
                  <a:pt x="12045" y="10513"/>
                  <a:pt x="12030" y="10567"/>
                </a:cubicBezTo>
                <a:cubicBezTo>
                  <a:pt x="12005" y="10657"/>
                  <a:pt x="11942" y="10725"/>
                  <a:pt x="11881" y="10790"/>
                </a:cubicBezTo>
                <a:cubicBezTo>
                  <a:pt x="11851" y="10822"/>
                  <a:pt x="11793" y="10873"/>
                  <a:pt x="11782" y="10914"/>
                </a:cubicBezTo>
                <a:cubicBezTo>
                  <a:pt x="11764" y="10982"/>
                  <a:pt x="11755" y="11005"/>
                  <a:pt x="11807" y="11063"/>
                </a:cubicBezTo>
                <a:cubicBezTo>
                  <a:pt x="11850" y="11111"/>
                  <a:pt x="11943" y="11088"/>
                  <a:pt x="12005" y="11088"/>
                </a:cubicBezTo>
                <a:cubicBezTo>
                  <a:pt x="12038" y="11088"/>
                  <a:pt x="12072" y="11088"/>
                  <a:pt x="12105" y="11088"/>
                </a:cubicBezTo>
              </a:path>
              <a:path w="4391" h="3498">
                <a:moveTo>
                  <a:pt x="12353" y="10517"/>
                </a:moveTo>
                <a:cubicBezTo>
                  <a:pt x="12372" y="10587"/>
                  <a:pt x="12400" y="10649"/>
                  <a:pt x="12402" y="10716"/>
                </a:cubicBezTo>
                <a:cubicBezTo>
                  <a:pt x="12407" y="10868"/>
                  <a:pt x="12390" y="11015"/>
                  <a:pt x="12427" y="11162"/>
                </a:cubicBezTo>
                <a:cubicBezTo>
                  <a:pt x="12427" y="11032"/>
                  <a:pt x="12422" y="10912"/>
                  <a:pt x="12402" y="10790"/>
                </a:cubicBezTo>
                <a:cubicBezTo>
                  <a:pt x="12390" y="10719"/>
                  <a:pt x="12388" y="10638"/>
                  <a:pt x="12378" y="10567"/>
                </a:cubicBezTo>
                <a:cubicBezTo>
                  <a:pt x="12372" y="10527"/>
                  <a:pt x="12356" y="10339"/>
                  <a:pt x="12402" y="10319"/>
                </a:cubicBezTo>
                <a:cubicBezTo>
                  <a:pt x="12436" y="10304"/>
                  <a:pt x="12562" y="10296"/>
                  <a:pt x="12601" y="10294"/>
                </a:cubicBezTo>
                <a:cubicBezTo>
                  <a:pt x="12736" y="10286"/>
                  <a:pt x="12870" y="10286"/>
                  <a:pt x="12998" y="10269"/>
                </a:cubicBezTo>
                <a:cubicBezTo>
                  <a:pt x="13087" y="10257"/>
                  <a:pt x="13437" y="10295"/>
                  <a:pt x="13419" y="10244"/>
                </a:cubicBezTo>
              </a:path>
              <a:path w="4391" h="3498">
                <a:moveTo>
                  <a:pt x="12750" y="10443"/>
                </a:moveTo>
                <a:cubicBezTo>
                  <a:pt x="12862" y="10443"/>
                  <a:pt x="12975" y="10447"/>
                  <a:pt x="13072" y="10418"/>
                </a:cubicBezTo>
                <a:cubicBezTo>
                  <a:pt x="13080" y="10418"/>
                  <a:pt x="13089" y="10418"/>
                  <a:pt x="13097" y="10418"/>
                </a:cubicBezTo>
              </a:path>
              <a:path w="4391" h="3498">
                <a:moveTo>
                  <a:pt x="12849" y="10443"/>
                </a:moveTo>
                <a:cubicBezTo>
                  <a:pt x="12789" y="10503"/>
                  <a:pt x="12778" y="10528"/>
                  <a:pt x="12774" y="10616"/>
                </a:cubicBezTo>
                <a:cubicBezTo>
                  <a:pt x="12773" y="10642"/>
                  <a:pt x="12765" y="10772"/>
                  <a:pt x="12824" y="10765"/>
                </a:cubicBezTo>
                <a:cubicBezTo>
                  <a:pt x="12861" y="10761"/>
                  <a:pt x="12934" y="10699"/>
                  <a:pt x="12973" y="10691"/>
                </a:cubicBezTo>
                <a:cubicBezTo>
                  <a:pt x="13068" y="10672"/>
                  <a:pt x="13093" y="10740"/>
                  <a:pt x="13122" y="10790"/>
                </a:cubicBezTo>
                <a:cubicBezTo>
                  <a:pt x="13173" y="10879"/>
                  <a:pt x="13154" y="10962"/>
                  <a:pt x="13146" y="11063"/>
                </a:cubicBezTo>
                <a:cubicBezTo>
                  <a:pt x="13142" y="11109"/>
                  <a:pt x="13123" y="11164"/>
                  <a:pt x="13072" y="11187"/>
                </a:cubicBezTo>
                <a:cubicBezTo>
                  <a:pt x="13010" y="11215"/>
                  <a:pt x="12942" y="11177"/>
                  <a:pt x="12898" y="11137"/>
                </a:cubicBezTo>
                <a:cubicBezTo>
                  <a:pt x="12849" y="11092"/>
                  <a:pt x="12815" y="11088"/>
                  <a:pt x="12750" y="11088"/>
                </a:cubicBezTo>
              </a:path>
              <a:path w="4391" h="3498">
                <a:moveTo>
                  <a:pt x="11956" y="11633"/>
                </a:moveTo>
                <a:cubicBezTo>
                  <a:pt x="11919" y="11675"/>
                  <a:pt x="11846" y="11752"/>
                  <a:pt x="11832" y="11807"/>
                </a:cubicBezTo>
                <a:cubicBezTo>
                  <a:pt x="11813" y="11879"/>
                  <a:pt x="11835" y="11932"/>
                  <a:pt x="11906" y="11956"/>
                </a:cubicBezTo>
                <a:cubicBezTo>
                  <a:pt x="11994" y="11986"/>
                  <a:pt x="12063" y="12005"/>
                  <a:pt x="12154" y="12005"/>
                </a:cubicBezTo>
                <a:cubicBezTo>
                  <a:pt x="12162" y="12005"/>
                  <a:pt x="12171" y="12005"/>
                  <a:pt x="12179" y="12005"/>
                </a:cubicBezTo>
              </a:path>
              <a:path w="4391" h="3498">
                <a:moveTo>
                  <a:pt x="12229" y="11584"/>
                </a:moveTo>
                <a:cubicBezTo>
                  <a:pt x="12186" y="11655"/>
                  <a:pt x="12204" y="11744"/>
                  <a:pt x="12204" y="11832"/>
                </a:cubicBezTo>
                <a:cubicBezTo>
                  <a:pt x="12204" y="11960"/>
                  <a:pt x="12209" y="12083"/>
                  <a:pt x="12229" y="12204"/>
                </a:cubicBezTo>
                <a:cubicBezTo>
                  <a:pt x="12234" y="12237"/>
                  <a:pt x="12202" y="12415"/>
                  <a:pt x="12254" y="12427"/>
                </a:cubicBezTo>
                <a:cubicBezTo>
                  <a:pt x="12270" y="12419"/>
                  <a:pt x="12287" y="12410"/>
                  <a:pt x="12303" y="12402"/>
                </a:cubicBezTo>
              </a:path>
              <a:path w="4391" h="3498">
                <a:moveTo>
                  <a:pt x="12774" y="11807"/>
                </a:moveTo>
                <a:cubicBezTo>
                  <a:pt x="12774" y="11761"/>
                  <a:pt x="12779" y="11660"/>
                  <a:pt x="12725" y="11633"/>
                </a:cubicBezTo>
                <a:cubicBezTo>
                  <a:pt x="12684" y="11613"/>
                  <a:pt x="12528" y="11624"/>
                  <a:pt x="12502" y="11658"/>
                </a:cubicBezTo>
                <a:cubicBezTo>
                  <a:pt x="12465" y="11707"/>
                  <a:pt x="12434" y="11768"/>
                  <a:pt x="12452" y="11832"/>
                </a:cubicBezTo>
                <a:cubicBezTo>
                  <a:pt x="12464" y="11874"/>
                  <a:pt x="12506" y="11960"/>
                  <a:pt x="12551" y="11981"/>
                </a:cubicBezTo>
                <a:cubicBezTo>
                  <a:pt x="12602" y="12005"/>
                  <a:pt x="12712" y="12006"/>
                  <a:pt x="12750" y="11956"/>
                </a:cubicBezTo>
                <a:cubicBezTo>
                  <a:pt x="12788" y="11905"/>
                  <a:pt x="12779" y="11722"/>
                  <a:pt x="12799" y="11782"/>
                </a:cubicBezTo>
                <a:cubicBezTo>
                  <a:pt x="12817" y="11835"/>
                  <a:pt x="12762" y="11890"/>
                  <a:pt x="12774" y="11956"/>
                </a:cubicBezTo>
                <a:cubicBezTo>
                  <a:pt x="12790" y="12047"/>
                  <a:pt x="12811" y="12138"/>
                  <a:pt x="12824" y="12229"/>
                </a:cubicBezTo>
                <a:cubicBezTo>
                  <a:pt x="12832" y="12283"/>
                  <a:pt x="12840" y="12335"/>
                  <a:pt x="12874" y="12378"/>
                </a:cubicBezTo>
                <a:cubicBezTo>
                  <a:pt x="12898" y="12402"/>
                  <a:pt x="12906" y="12410"/>
                  <a:pt x="12874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Ink 10"/>
          <p:cNvSpPr/>
          <p:nvPr/>
        </p:nvSpPr>
        <p:spPr>
          <a:xfrm>
            <a:off x="152280" y="3205080"/>
            <a:ext cx="1722600" cy="447840"/>
          </a:xfrm>
          <a:custGeom>
            <a:avLst/>
            <a:gdLst/>
            <a:ahLst/>
            <a:rect l="l" t="t" r="r" b="b"/>
            <a:pathLst>
              <a:path w="4788" h="1241">
                <a:moveTo>
                  <a:pt x="595" y="9525"/>
                </a:moveTo>
                <a:cubicBezTo>
                  <a:pt x="670" y="9525"/>
                  <a:pt x="744" y="9525"/>
                  <a:pt x="819" y="9525"/>
                </a:cubicBezTo>
              </a:path>
              <a:path w="4788" h="1241">
                <a:moveTo>
                  <a:pt x="992" y="9376"/>
                </a:moveTo>
                <a:cubicBezTo>
                  <a:pt x="1088" y="9344"/>
                  <a:pt x="1166" y="9302"/>
                  <a:pt x="1265" y="9351"/>
                </a:cubicBezTo>
                <a:cubicBezTo>
                  <a:pt x="1292" y="9364"/>
                  <a:pt x="1345" y="9420"/>
                  <a:pt x="1339" y="9451"/>
                </a:cubicBezTo>
                <a:cubicBezTo>
                  <a:pt x="1323" y="9530"/>
                  <a:pt x="1279" y="9584"/>
                  <a:pt x="1240" y="9649"/>
                </a:cubicBezTo>
                <a:cubicBezTo>
                  <a:pt x="1205" y="9706"/>
                  <a:pt x="1172" y="9765"/>
                  <a:pt x="1141" y="9823"/>
                </a:cubicBezTo>
                <a:cubicBezTo>
                  <a:pt x="1113" y="9874"/>
                  <a:pt x="1083" y="9906"/>
                  <a:pt x="1042" y="9947"/>
                </a:cubicBezTo>
                <a:cubicBezTo>
                  <a:pt x="1116" y="9947"/>
                  <a:pt x="1172" y="9960"/>
                  <a:pt x="1240" y="9971"/>
                </a:cubicBezTo>
                <a:cubicBezTo>
                  <a:pt x="1327" y="9985"/>
                  <a:pt x="1425" y="9971"/>
                  <a:pt x="1513" y="9971"/>
                </a:cubicBezTo>
              </a:path>
              <a:path w="4788" h="1241">
                <a:moveTo>
                  <a:pt x="719" y="9054"/>
                </a:moveTo>
                <a:cubicBezTo>
                  <a:pt x="645" y="9065"/>
                  <a:pt x="631" y="9083"/>
                  <a:pt x="595" y="9153"/>
                </a:cubicBezTo>
                <a:cubicBezTo>
                  <a:pt x="557" y="9226"/>
                  <a:pt x="535" y="9306"/>
                  <a:pt x="496" y="9376"/>
                </a:cubicBezTo>
                <a:cubicBezTo>
                  <a:pt x="459" y="9442"/>
                  <a:pt x="431" y="9509"/>
                  <a:pt x="422" y="9575"/>
                </a:cubicBezTo>
                <a:cubicBezTo>
                  <a:pt x="409" y="9671"/>
                  <a:pt x="452" y="9727"/>
                  <a:pt x="496" y="9798"/>
                </a:cubicBezTo>
                <a:cubicBezTo>
                  <a:pt x="566" y="9911"/>
                  <a:pt x="610" y="9935"/>
                  <a:pt x="719" y="9971"/>
                </a:cubicBezTo>
                <a:cubicBezTo>
                  <a:pt x="736" y="9979"/>
                  <a:pt x="752" y="9988"/>
                  <a:pt x="769" y="9996"/>
                </a:cubicBezTo>
              </a:path>
              <a:path w="4788" h="1241">
                <a:moveTo>
                  <a:pt x="1339" y="9128"/>
                </a:moveTo>
                <a:cubicBezTo>
                  <a:pt x="1395" y="9135"/>
                  <a:pt x="1472" y="9156"/>
                  <a:pt x="1513" y="9203"/>
                </a:cubicBezTo>
                <a:cubicBezTo>
                  <a:pt x="1562" y="9260"/>
                  <a:pt x="1628" y="9387"/>
                  <a:pt x="1662" y="9451"/>
                </a:cubicBezTo>
                <a:cubicBezTo>
                  <a:pt x="1695" y="9514"/>
                  <a:pt x="1750" y="9630"/>
                  <a:pt x="1761" y="9699"/>
                </a:cubicBezTo>
                <a:cubicBezTo>
                  <a:pt x="1783" y="9832"/>
                  <a:pt x="1789" y="9885"/>
                  <a:pt x="1736" y="10021"/>
                </a:cubicBezTo>
                <a:cubicBezTo>
                  <a:pt x="1731" y="10035"/>
                  <a:pt x="1663" y="10152"/>
                  <a:pt x="1637" y="10145"/>
                </a:cubicBezTo>
                <a:cubicBezTo>
                  <a:pt x="1637" y="10137"/>
                  <a:pt x="1637" y="10128"/>
                  <a:pt x="1637" y="10120"/>
                </a:cubicBezTo>
              </a:path>
              <a:path w="4788" h="1241">
                <a:moveTo>
                  <a:pt x="1637" y="8979"/>
                </a:moveTo>
                <a:cubicBezTo>
                  <a:pt x="1707" y="8953"/>
                  <a:pt x="1760" y="8954"/>
                  <a:pt x="1836" y="8954"/>
                </a:cubicBezTo>
                <a:cubicBezTo>
                  <a:pt x="1916" y="8954"/>
                  <a:pt x="1975" y="8977"/>
                  <a:pt x="1984" y="9054"/>
                </a:cubicBezTo>
                <a:cubicBezTo>
                  <a:pt x="1991" y="9111"/>
                  <a:pt x="1948" y="9162"/>
                  <a:pt x="1910" y="9203"/>
                </a:cubicBezTo>
                <a:cubicBezTo>
                  <a:pt x="1902" y="9211"/>
                  <a:pt x="1893" y="9219"/>
                  <a:pt x="1885" y="9227"/>
                </a:cubicBezTo>
                <a:cubicBezTo>
                  <a:pt x="1957" y="9227"/>
                  <a:pt x="1994" y="9248"/>
                  <a:pt x="2059" y="9252"/>
                </a:cubicBezTo>
                <a:cubicBezTo>
                  <a:pt x="2075" y="9252"/>
                  <a:pt x="2092" y="9252"/>
                  <a:pt x="2108" y="9252"/>
                </a:cubicBezTo>
              </a:path>
              <a:path w="4788" h="1241">
                <a:moveTo>
                  <a:pt x="2406" y="9327"/>
                </a:moveTo>
                <a:cubicBezTo>
                  <a:pt x="2416" y="9403"/>
                  <a:pt x="2447" y="9473"/>
                  <a:pt x="2456" y="9550"/>
                </a:cubicBezTo>
                <a:cubicBezTo>
                  <a:pt x="2465" y="9631"/>
                  <a:pt x="2486" y="9703"/>
                  <a:pt x="2505" y="9773"/>
                </a:cubicBezTo>
                <a:cubicBezTo>
                  <a:pt x="2505" y="9781"/>
                  <a:pt x="2505" y="9790"/>
                  <a:pt x="2505" y="9798"/>
                </a:cubicBezTo>
              </a:path>
              <a:path w="4788" h="1241">
                <a:moveTo>
                  <a:pt x="2257" y="9575"/>
                </a:moveTo>
                <a:cubicBezTo>
                  <a:pt x="2356" y="9575"/>
                  <a:pt x="2456" y="9575"/>
                  <a:pt x="2555" y="9575"/>
                </a:cubicBezTo>
              </a:path>
              <a:path w="4788" h="1241">
                <a:moveTo>
                  <a:pt x="2803" y="9401"/>
                </a:moveTo>
                <a:cubicBezTo>
                  <a:pt x="2846" y="9454"/>
                  <a:pt x="2891" y="9517"/>
                  <a:pt x="2927" y="9575"/>
                </a:cubicBezTo>
                <a:cubicBezTo>
                  <a:pt x="2983" y="9663"/>
                  <a:pt x="3028" y="9703"/>
                  <a:pt x="3101" y="9773"/>
                </a:cubicBezTo>
                <a:cubicBezTo>
                  <a:pt x="3157" y="9826"/>
                  <a:pt x="3210" y="9905"/>
                  <a:pt x="3274" y="9947"/>
                </a:cubicBezTo>
                <a:cubicBezTo>
                  <a:pt x="3323" y="9979"/>
                  <a:pt x="3365" y="10027"/>
                  <a:pt x="3423" y="10021"/>
                </a:cubicBezTo>
                <a:cubicBezTo>
                  <a:pt x="3431" y="10013"/>
                  <a:pt x="3440" y="10004"/>
                  <a:pt x="3448" y="9996"/>
                </a:cubicBezTo>
              </a:path>
              <a:path w="4788" h="1241">
                <a:moveTo>
                  <a:pt x="3175" y="9401"/>
                </a:moveTo>
                <a:cubicBezTo>
                  <a:pt x="3113" y="9463"/>
                  <a:pt x="3093" y="9476"/>
                  <a:pt x="3076" y="9575"/>
                </a:cubicBezTo>
                <a:cubicBezTo>
                  <a:pt x="3060" y="9665"/>
                  <a:pt x="3035" y="9759"/>
                  <a:pt x="3001" y="9847"/>
                </a:cubicBezTo>
                <a:cubicBezTo>
                  <a:pt x="2982" y="9897"/>
                  <a:pt x="2939" y="9953"/>
                  <a:pt x="2927" y="9996"/>
                </a:cubicBezTo>
                <a:cubicBezTo>
                  <a:pt x="2910" y="10054"/>
                  <a:pt x="2867" y="10157"/>
                  <a:pt x="2952" y="9971"/>
                </a:cubicBezTo>
              </a:path>
              <a:path w="4788" h="1241">
                <a:moveTo>
                  <a:pt x="3249" y="9004"/>
                </a:moveTo>
                <a:cubicBezTo>
                  <a:pt x="3310" y="8984"/>
                  <a:pt x="3325" y="8965"/>
                  <a:pt x="3349" y="9004"/>
                </a:cubicBezTo>
                <a:cubicBezTo>
                  <a:pt x="3371" y="9061"/>
                  <a:pt x="3347" y="9100"/>
                  <a:pt x="3299" y="9153"/>
                </a:cubicBezTo>
                <a:cubicBezTo>
                  <a:pt x="3291" y="9161"/>
                  <a:pt x="3282" y="9170"/>
                  <a:pt x="3274" y="9178"/>
                </a:cubicBezTo>
                <a:cubicBezTo>
                  <a:pt x="3339" y="9211"/>
                  <a:pt x="3407" y="9178"/>
                  <a:pt x="3473" y="9203"/>
                </a:cubicBezTo>
                <a:cubicBezTo>
                  <a:pt x="3509" y="9217"/>
                  <a:pt x="3526" y="9227"/>
                  <a:pt x="3572" y="9227"/>
                </a:cubicBezTo>
              </a:path>
              <a:path w="4788" h="1241">
                <a:moveTo>
                  <a:pt x="3621" y="9550"/>
                </a:moveTo>
                <a:cubicBezTo>
                  <a:pt x="3690" y="9569"/>
                  <a:pt x="3725" y="9575"/>
                  <a:pt x="3795" y="9575"/>
                </a:cubicBezTo>
              </a:path>
              <a:path w="4788" h="1241">
                <a:moveTo>
                  <a:pt x="3646" y="9723"/>
                </a:moveTo>
                <a:cubicBezTo>
                  <a:pt x="3716" y="9732"/>
                  <a:pt x="3771" y="9748"/>
                  <a:pt x="3845" y="9748"/>
                </a:cubicBezTo>
              </a:path>
              <a:path w="4788" h="1241">
                <a:moveTo>
                  <a:pt x="4018" y="9351"/>
                </a:moveTo>
                <a:cubicBezTo>
                  <a:pt x="4126" y="9337"/>
                  <a:pt x="4206" y="9351"/>
                  <a:pt x="4316" y="9351"/>
                </a:cubicBezTo>
                <a:cubicBezTo>
                  <a:pt x="4386" y="9351"/>
                  <a:pt x="4441" y="9376"/>
                  <a:pt x="4514" y="9376"/>
                </a:cubicBezTo>
                <a:cubicBezTo>
                  <a:pt x="4452" y="9456"/>
                  <a:pt x="4465" y="9525"/>
                  <a:pt x="4465" y="9624"/>
                </a:cubicBezTo>
                <a:cubicBezTo>
                  <a:pt x="4465" y="9716"/>
                  <a:pt x="4477" y="9784"/>
                  <a:pt x="4490" y="9872"/>
                </a:cubicBezTo>
                <a:cubicBezTo>
                  <a:pt x="4501" y="9950"/>
                  <a:pt x="4503" y="10048"/>
                  <a:pt x="4539" y="10120"/>
                </a:cubicBezTo>
                <a:cubicBezTo>
                  <a:pt x="4562" y="10143"/>
                  <a:pt x="4570" y="10154"/>
                  <a:pt x="4564" y="10120"/>
                </a:cubicBezTo>
              </a:path>
              <a:path w="4788" h="1241">
                <a:moveTo>
                  <a:pt x="4638" y="8979"/>
                </a:moveTo>
                <a:cubicBezTo>
                  <a:pt x="4702" y="8928"/>
                  <a:pt x="4767" y="8868"/>
                  <a:pt x="4862" y="8905"/>
                </a:cubicBezTo>
                <a:cubicBezTo>
                  <a:pt x="4924" y="8929"/>
                  <a:pt x="4957" y="8967"/>
                  <a:pt x="4961" y="9029"/>
                </a:cubicBezTo>
                <a:cubicBezTo>
                  <a:pt x="4966" y="9113"/>
                  <a:pt x="4895" y="9155"/>
                  <a:pt x="4837" y="9203"/>
                </a:cubicBezTo>
                <a:cubicBezTo>
                  <a:pt x="4796" y="9237"/>
                  <a:pt x="4754" y="9283"/>
                  <a:pt x="4812" y="9327"/>
                </a:cubicBezTo>
                <a:cubicBezTo>
                  <a:pt x="4875" y="9374"/>
                  <a:pt x="4982" y="9327"/>
                  <a:pt x="5060" y="9327"/>
                </a:cubicBezTo>
                <a:cubicBezTo>
                  <a:pt x="5110" y="9327"/>
                  <a:pt x="5159" y="9327"/>
                  <a:pt x="5209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Ink 11"/>
          <p:cNvSpPr/>
          <p:nvPr/>
        </p:nvSpPr>
        <p:spPr>
          <a:xfrm>
            <a:off x="357120" y="3714840"/>
            <a:ext cx="1349280" cy="446040"/>
          </a:xfrm>
          <a:custGeom>
            <a:avLst/>
            <a:gdLst/>
            <a:ahLst/>
            <a:rect l="l" t="t" r="r" b="b"/>
            <a:pathLst>
              <a:path w="3747" h="1241">
                <a:moveTo>
                  <a:pt x="1017" y="10542"/>
                </a:moveTo>
                <a:cubicBezTo>
                  <a:pt x="1017" y="10648"/>
                  <a:pt x="997" y="10738"/>
                  <a:pt x="992" y="10840"/>
                </a:cubicBezTo>
                <a:cubicBezTo>
                  <a:pt x="992" y="10889"/>
                  <a:pt x="992" y="10906"/>
                  <a:pt x="992" y="10939"/>
                </a:cubicBezTo>
                <a:cubicBezTo>
                  <a:pt x="1066" y="10894"/>
                  <a:pt x="1089" y="10934"/>
                  <a:pt x="1166" y="10964"/>
                </a:cubicBezTo>
                <a:cubicBezTo>
                  <a:pt x="1231" y="10989"/>
                  <a:pt x="1272" y="10988"/>
                  <a:pt x="1339" y="10988"/>
                </a:cubicBezTo>
              </a:path>
              <a:path w="3747" h="1241">
                <a:moveTo>
                  <a:pt x="1339" y="10418"/>
                </a:moveTo>
                <a:cubicBezTo>
                  <a:pt x="1347" y="10494"/>
                  <a:pt x="1364" y="10537"/>
                  <a:pt x="1364" y="10616"/>
                </a:cubicBezTo>
                <a:cubicBezTo>
                  <a:pt x="1364" y="10728"/>
                  <a:pt x="1386" y="10826"/>
                  <a:pt x="1389" y="10939"/>
                </a:cubicBezTo>
                <a:cubicBezTo>
                  <a:pt x="1391" y="11008"/>
                  <a:pt x="1393" y="11144"/>
                  <a:pt x="1414" y="11212"/>
                </a:cubicBezTo>
                <a:cubicBezTo>
                  <a:pt x="1430" y="11264"/>
                  <a:pt x="1440" y="11357"/>
                  <a:pt x="1463" y="11410"/>
                </a:cubicBezTo>
                <a:cubicBezTo>
                  <a:pt x="1471" y="11418"/>
                  <a:pt x="1480" y="11427"/>
                  <a:pt x="1488" y="11435"/>
                </a:cubicBezTo>
              </a:path>
              <a:path w="3747" h="1241">
                <a:moveTo>
                  <a:pt x="1984" y="10765"/>
                </a:moveTo>
                <a:cubicBezTo>
                  <a:pt x="1984" y="10862"/>
                  <a:pt x="1994" y="10947"/>
                  <a:pt x="2009" y="11038"/>
                </a:cubicBezTo>
                <a:cubicBezTo>
                  <a:pt x="2022" y="11116"/>
                  <a:pt x="2031" y="11188"/>
                  <a:pt x="2059" y="11261"/>
                </a:cubicBezTo>
              </a:path>
              <a:path w="3747" h="1241">
                <a:moveTo>
                  <a:pt x="1761" y="10914"/>
                </a:moveTo>
                <a:cubicBezTo>
                  <a:pt x="1836" y="10923"/>
                  <a:pt x="1911" y="10955"/>
                  <a:pt x="1984" y="10964"/>
                </a:cubicBezTo>
                <a:cubicBezTo>
                  <a:pt x="2067" y="10964"/>
                  <a:pt x="2100" y="10964"/>
                  <a:pt x="2158" y="10964"/>
                </a:cubicBezTo>
              </a:path>
              <a:path w="3747" h="1241">
                <a:moveTo>
                  <a:pt x="2431" y="10740"/>
                </a:moveTo>
                <a:cubicBezTo>
                  <a:pt x="2439" y="10802"/>
                  <a:pt x="2461" y="10859"/>
                  <a:pt x="2480" y="10914"/>
                </a:cubicBezTo>
                <a:cubicBezTo>
                  <a:pt x="2505" y="10984"/>
                  <a:pt x="2558" y="11057"/>
                  <a:pt x="2604" y="11112"/>
                </a:cubicBezTo>
                <a:cubicBezTo>
                  <a:pt x="2663" y="11182"/>
                  <a:pt x="2736" y="11230"/>
                  <a:pt x="2803" y="11286"/>
                </a:cubicBezTo>
                <a:cubicBezTo>
                  <a:pt x="2861" y="11335"/>
                  <a:pt x="2902" y="11410"/>
                  <a:pt x="2977" y="11435"/>
                </a:cubicBezTo>
                <a:cubicBezTo>
                  <a:pt x="2985" y="11435"/>
                  <a:pt x="2993" y="11435"/>
                  <a:pt x="3001" y="11435"/>
                </a:cubicBezTo>
              </a:path>
              <a:path w="3747" h="1241">
                <a:moveTo>
                  <a:pt x="2704" y="10691"/>
                </a:moveTo>
                <a:cubicBezTo>
                  <a:pt x="2674" y="10804"/>
                  <a:pt x="2625" y="10926"/>
                  <a:pt x="2604" y="11038"/>
                </a:cubicBezTo>
                <a:cubicBezTo>
                  <a:pt x="2588" y="11121"/>
                  <a:pt x="2546" y="11201"/>
                  <a:pt x="2530" y="11286"/>
                </a:cubicBezTo>
                <a:cubicBezTo>
                  <a:pt x="2521" y="11336"/>
                  <a:pt x="2530" y="11433"/>
                  <a:pt x="2555" y="11336"/>
                </a:cubicBezTo>
              </a:path>
              <a:path w="3747" h="1241">
                <a:moveTo>
                  <a:pt x="2778" y="10418"/>
                </a:moveTo>
                <a:cubicBezTo>
                  <a:pt x="2818" y="10378"/>
                  <a:pt x="2863" y="10304"/>
                  <a:pt x="2927" y="10319"/>
                </a:cubicBezTo>
                <a:cubicBezTo>
                  <a:pt x="3034" y="10344"/>
                  <a:pt x="3002" y="10409"/>
                  <a:pt x="2952" y="10468"/>
                </a:cubicBezTo>
                <a:cubicBezTo>
                  <a:pt x="2920" y="10506"/>
                  <a:pt x="2856" y="10531"/>
                  <a:pt x="2877" y="10592"/>
                </a:cubicBezTo>
                <a:cubicBezTo>
                  <a:pt x="2895" y="10644"/>
                  <a:pt x="3110" y="10616"/>
                  <a:pt x="3150" y="10616"/>
                </a:cubicBezTo>
              </a:path>
              <a:path w="3747" h="1241">
                <a:moveTo>
                  <a:pt x="3150" y="10988"/>
                </a:moveTo>
                <a:cubicBezTo>
                  <a:pt x="3249" y="10988"/>
                  <a:pt x="3349" y="10988"/>
                  <a:pt x="3448" y="10988"/>
                </a:cubicBezTo>
              </a:path>
              <a:path w="3747" h="1241">
                <a:moveTo>
                  <a:pt x="3200" y="11088"/>
                </a:moveTo>
                <a:cubicBezTo>
                  <a:pt x="3282" y="11159"/>
                  <a:pt x="3314" y="11162"/>
                  <a:pt x="3423" y="11162"/>
                </a:cubicBezTo>
                <a:cubicBezTo>
                  <a:pt x="3431" y="11162"/>
                  <a:pt x="3440" y="11162"/>
                  <a:pt x="3448" y="11162"/>
                </a:cubicBezTo>
              </a:path>
              <a:path w="3747" h="1241">
                <a:moveTo>
                  <a:pt x="3845" y="10691"/>
                </a:moveTo>
                <a:cubicBezTo>
                  <a:pt x="3822" y="10772"/>
                  <a:pt x="3774" y="10856"/>
                  <a:pt x="3770" y="10939"/>
                </a:cubicBezTo>
                <a:cubicBezTo>
                  <a:pt x="3770" y="11005"/>
                  <a:pt x="3770" y="11022"/>
                  <a:pt x="3770" y="11063"/>
                </a:cubicBezTo>
                <a:cubicBezTo>
                  <a:pt x="3834" y="11072"/>
                  <a:pt x="3873" y="11088"/>
                  <a:pt x="3944" y="11088"/>
                </a:cubicBezTo>
                <a:cubicBezTo>
                  <a:pt x="3989" y="11088"/>
                  <a:pt x="4002" y="11092"/>
                  <a:pt x="4018" y="11063"/>
                </a:cubicBezTo>
              </a:path>
              <a:path w="3747" h="1241">
                <a:moveTo>
                  <a:pt x="4043" y="10641"/>
                </a:moveTo>
                <a:cubicBezTo>
                  <a:pt x="4004" y="10706"/>
                  <a:pt x="4018" y="10783"/>
                  <a:pt x="4018" y="10864"/>
                </a:cubicBezTo>
                <a:cubicBezTo>
                  <a:pt x="4018" y="11034"/>
                  <a:pt x="4019" y="11196"/>
                  <a:pt x="4043" y="11361"/>
                </a:cubicBezTo>
                <a:cubicBezTo>
                  <a:pt x="4049" y="11406"/>
                  <a:pt x="4061" y="11573"/>
                  <a:pt x="4093" y="11509"/>
                </a:cubicBezTo>
              </a:path>
              <a:path w="3747" h="1241">
                <a:moveTo>
                  <a:pt x="4490" y="11013"/>
                </a:moveTo>
                <a:cubicBezTo>
                  <a:pt x="4563" y="10910"/>
                  <a:pt x="4624" y="10850"/>
                  <a:pt x="4589" y="10716"/>
                </a:cubicBezTo>
                <a:cubicBezTo>
                  <a:pt x="4571" y="10646"/>
                  <a:pt x="4527" y="10604"/>
                  <a:pt x="4465" y="10592"/>
                </a:cubicBezTo>
                <a:cubicBezTo>
                  <a:pt x="4418" y="10583"/>
                  <a:pt x="4344" y="10627"/>
                  <a:pt x="4316" y="10666"/>
                </a:cubicBezTo>
                <a:cubicBezTo>
                  <a:pt x="4268" y="10733"/>
                  <a:pt x="4285" y="10827"/>
                  <a:pt x="4316" y="10889"/>
                </a:cubicBezTo>
                <a:cubicBezTo>
                  <a:pt x="4354" y="10965"/>
                  <a:pt x="4382" y="10997"/>
                  <a:pt x="4465" y="10964"/>
                </a:cubicBezTo>
                <a:cubicBezTo>
                  <a:pt x="4541" y="10934"/>
                  <a:pt x="4564" y="10683"/>
                  <a:pt x="4564" y="10765"/>
                </a:cubicBezTo>
                <a:cubicBezTo>
                  <a:pt x="4564" y="10853"/>
                  <a:pt x="4584" y="10928"/>
                  <a:pt x="4589" y="11013"/>
                </a:cubicBezTo>
                <a:cubicBezTo>
                  <a:pt x="4594" y="11100"/>
                  <a:pt x="4608" y="11203"/>
                  <a:pt x="4638" y="11286"/>
                </a:cubicBezTo>
                <a:cubicBezTo>
                  <a:pt x="4662" y="11353"/>
                  <a:pt x="4676" y="11399"/>
                  <a:pt x="4713" y="11460"/>
                </a:cubicBezTo>
                <a:cubicBezTo>
                  <a:pt x="4737" y="11508"/>
                  <a:pt x="4746" y="11522"/>
                  <a:pt x="4738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Ink 12"/>
          <p:cNvSpPr/>
          <p:nvPr/>
        </p:nvSpPr>
        <p:spPr>
          <a:xfrm>
            <a:off x="928800" y="4205160"/>
            <a:ext cx="785880" cy="393840"/>
          </a:xfrm>
          <a:custGeom>
            <a:avLst/>
            <a:gdLst/>
            <a:ahLst/>
            <a:rect l="l" t="t" r="r" b="b"/>
            <a:pathLst>
              <a:path w="2183" h="1092">
                <a:moveTo>
                  <a:pt x="2580" y="12080"/>
                </a:moveTo>
                <a:cubicBezTo>
                  <a:pt x="2608" y="12152"/>
                  <a:pt x="2644" y="12208"/>
                  <a:pt x="2679" y="12278"/>
                </a:cubicBezTo>
                <a:cubicBezTo>
                  <a:pt x="2721" y="12361"/>
                  <a:pt x="2775" y="12404"/>
                  <a:pt x="2828" y="12477"/>
                </a:cubicBezTo>
                <a:cubicBezTo>
                  <a:pt x="2882" y="12551"/>
                  <a:pt x="2934" y="12588"/>
                  <a:pt x="3001" y="12650"/>
                </a:cubicBezTo>
                <a:cubicBezTo>
                  <a:pt x="3009" y="12658"/>
                  <a:pt x="3018" y="12667"/>
                  <a:pt x="3026" y="12675"/>
                </a:cubicBezTo>
              </a:path>
              <a:path w="2183" h="1092">
                <a:moveTo>
                  <a:pt x="2902" y="12055"/>
                </a:moveTo>
                <a:cubicBezTo>
                  <a:pt x="2856" y="12154"/>
                  <a:pt x="2821" y="12254"/>
                  <a:pt x="2778" y="12353"/>
                </a:cubicBezTo>
                <a:cubicBezTo>
                  <a:pt x="2745" y="12429"/>
                  <a:pt x="2717" y="12521"/>
                  <a:pt x="2704" y="12601"/>
                </a:cubicBezTo>
                <a:cubicBezTo>
                  <a:pt x="2695" y="12655"/>
                  <a:pt x="2704" y="12684"/>
                  <a:pt x="2729" y="12725"/>
                </a:cubicBezTo>
              </a:path>
              <a:path w="2183" h="1092">
                <a:moveTo>
                  <a:pt x="3051" y="11733"/>
                </a:moveTo>
                <a:cubicBezTo>
                  <a:pt x="3110" y="11693"/>
                  <a:pt x="3122" y="11664"/>
                  <a:pt x="3150" y="11708"/>
                </a:cubicBezTo>
                <a:cubicBezTo>
                  <a:pt x="3175" y="11757"/>
                  <a:pt x="3145" y="11762"/>
                  <a:pt x="3101" y="11807"/>
                </a:cubicBezTo>
                <a:cubicBezTo>
                  <a:pt x="3069" y="11839"/>
                  <a:pt x="3008" y="11893"/>
                  <a:pt x="3076" y="11931"/>
                </a:cubicBezTo>
                <a:cubicBezTo>
                  <a:pt x="3144" y="11969"/>
                  <a:pt x="3225" y="11956"/>
                  <a:pt x="3299" y="11956"/>
                </a:cubicBezTo>
              </a:path>
              <a:path w="2183" h="1092">
                <a:moveTo>
                  <a:pt x="3225" y="12278"/>
                </a:moveTo>
                <a:cubicBezTo>
                  <a:pt x="3291" y="12295"/>
                  <a:pt x="3357" y="12311"/>
                  <a:pt x="3423" y="12328"/>
                </a:cubicBezTo>
              </a:path>
              <a:path w="2183" h="1092">
                <a:moveTo>
                  <a:pt x="3324" y="12402"/>
                </a:moveTo>
                <a:cubicBezTo>
                  <a:pt x="3431" y="12445"/>
                  <a:pt x="3459" y="12452"/>
                  <a:pt x="3572" y="12452"/>
                </a:cubicBezTo>
              </a:path>
              <a:path w="2183" h="1092">
                <a:moveTo>
                  <a:pt x="3919" y="12030"/>
                </a:moveTo>
                <a:cubicBezTo>
                  <a:pt x="3893" y="12076"/>
                  <a:pt x="3854" y="12134"/>
                  <a:pt x="3845" y="12179"/>
                </a:cubicBezTo>
                <a:cubicBezTo>
                  <a:pt x="3832" y="12242"/>
                  <a:pt x="3880" y="12309"/>
                  <a:pt x="3919" y="12353"/>
                </a:cubicBezTo>
                <a:cubicBezTo>
                  <a:pt x="3963" y="12402"/>
                  <a:pt x="4007" y="12402"/>
                  <a:pt x="4068" y="12402"/>
                </a:cubicBezTo>
              </a:path>
              <a:path w="2183" h="1092">
                <a:moveTo>
                  <a:pt x="4167" y="11956"/>
                </a:moveTo>
                <a:cubicBezTo>
                  <a:pt x="4140" y="12026"/>
                  <a:pt x="4142" y="12078"/>
                  <a:pt x="4142" y="12154"/>
                </a:cubicBezTo>
                <a:cubicBezTo>
                  <a:pt x="4142" y="12284"/>
                  <a:pt x="4148" y="12404"/>
                  <a:pt x="4167" y="12526"/>
                </a:cubicBezTo>
                <a:cubicBezTo>
                  <a:pt x="4178" y="12598"/>
                  <a:pt x="4161" y="12684"/>
                  <a:pt x="4192" y="12750"/>
                </a:cubicBezTo>
                <a:cubicBezTo>
                  <a:pt x="4215" y="12772"/>
                  <a:pt x="4220" y="12780"/>
                  <a:pt x="4242" y="12774"/>
                </a:cubicBezTo>
              </a:path>
              <a:path w="2183" h="1092">
                <a:moveTo>
                  <a:pt x="4465" y="12005"/>
                </a:moveTo>
                <a:cubicBezTo>
                  <a:pt x="4532" y="11999"/>
                  <a:pt x="4623" y="11999"/>
                  <a:pt x="4688" y="11981"/>
                </a:cubicBezTo>
                <a:cubicBezTo>
                  <a:pt x="4705" y="11973"/>
                  <a:pt x="4721" y="11964"/>
                  <a:pt x="4738" y="11956"/>
                </a:cubicBezTo>
              </a:path>
              <a:path w="2183" h="1092">
                <a:moveTo>
                  <a:pt x="4514" y="11981"/>
                </a:moveTo>
                <a:cubicBezTo>
                  <a:pt x="4466" y="12029"/>
                  <a:pt x="4388" y="12074"/>
                  <a:pt x="4415" y="12154"/>
                </a:cubicBezTo>
                <a:cubicBezTo>
                  <a:pt x="4444" y="12240"/>
                  <a:pt x="4486" y="12229"/>
                  <a:pt x="4564" y="12229"/>
                </a:cubicBezTo>
                <a:cubicBezTo>
                  <a:pt x="4643" y="12229"/>
                  <a:pt x="4667" y="12273"/>
                  <a:pt x="4713" y="12328"/>
                </a:cubicBezTo>
                <a:cubicBezTo>
                  <a:pt x="4763" y="12388"/>
                  <a:pt x="4762" y="12426"/>
                  <a:pt x="4762" y="12502"/>
                </a:cubicBezTo>
                <a:cubicBezTo>
                  <a:pt x="4762" y="12580"/>
                  <a:pt x="4781" y="12710"/>
                  <a:pt x="4688" y="12750"/>
                </a:cubicBezTo>
                <a:cubicBezTo>
                  <a:pt x="4581" y="12796"/>
                  <a:pt x="4494" y="12767"/>
                  <a:pt x="4390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Ink 13"/>
          <p:cNvSpPr/>
          <p:nvPr/>
        </p:nvSpPr>
        <p:spPr>
          <a:xfrm>
            <a:off x="1054080" y="4653000"/>
            <a:ext cx="1776600" cy="374760"/>
          </a:xfrm>
          <a:custGeom>
            <a:avLst/>
            <a:gdLst/>
            <a:ahLst/>
            <a:rect l="l" t="t" r="r" b="b"/>
            <a:pathLst>
              <a:path w="4937" h="1043">
                <a:moveTo>
                  <a:pt x="2927" y="13171"/>
                </a:moveTo>
                <a:cubicBezTo>
                  <a:pt x="2992" y="13276"/>
                  <a:pt x="3049" y="13394"/>
                  <a:pt x="3125" y="13494"/>
                </a:cubicBezTo>
                <a:cubicBezTo>
                  <a:pt x="3214" y="13611"/>
                  <a:pt x="3349" y="13688"/>
                  <a:pt x="3423" y="13816"/>
                </a:cubicBezTo>
              </a:path>
              <a:path w="4937" h="1043">
                <a:moveTo>
                  <a:pt x="3249" y="13221"/>
                </a:moveTo>
                <a:cubicBezTo>
                  <a:pt x="3218" y="13322"/>
                  <a:pt x="3189" y="13456"/>
                  <a:pt x="3125" y="13543"/>
                </a:cubicBezTo>
                <a:cubicBezTo>
                  <a:pt x="3070" y="13618"/>
                  <a:pt x="3056" y="13669"/>
                  <a:pt x="3051" y="13767"/>
                </a:cubicBezTo>
                <a:cubicBezTo>
                  <a:pt x="3051" y="13783"/>
                  <a:pt x="3051" y="13800"/>
                  <a:pt x="3051" y="13816"/>
                </a:cubicBezTo>
              </a:path>
              <a:path w="4937" h="1043">
                <a:moveTo>
                  <a:pt x="3572" y="13320"/>
                </a:moveTo>
                <a:cubicBezTo>
                  <a:pt x="3641" y="13307"/>
                  <a:pt x="3673" y="13314"/>
                  <a:pt x="3721" y="13295"/>
                </a:cubicBezTo>
              </a:path>
              <a:path w="4937" h="1043">
                <a:moveTo>
                  <a:pt x="3522" y="13469"/>
                </a:moveTo>
                <a:cubicBezTo>
                  <a:pt x="3579" y="13498"/>
                  <a:pt x="3610" y="13511"/>
                  <a:pt x="3671" y="13519"/>
                </a:cubicBezTo>
              </a:path>
              <a:path w="4937" h="1043">
                <a:moveTo>
                  <a:pt x="4018" y="13196"/>
                </a:moveTo>
                <a:cubicBezTo>
                  <a:pt x="4056" y="13257"/>
                  <a:pt x="4104" y="13309"/>
                  <a:pt x="4142" y="13370"/>
                </a:cubicBezTo>
                <a:cubicBezTo>
                  <a:pt x="4187" y="13443"/>
                  <a:pt x="4226" y="13559"/>
                  <a:pt x="4242" y="13643"/>
                </a:cubicBezTo>
                <a:cubicBezTo>
                  <a:pt x="4256" y="13721"/>
                  <a:pt x="4222" y="13796"/>
                  <a:pt x="4192" y="13866"/>
                </a:cubicBezTo>
                <a:cubicBezTo>
                  <a:pt x="4184" y="13882"/>
                  <a:pt x="4175" y="13899"/>
                  <a:pt x="4167" y="13915"/>
                </a:cubicBezTo>
                <a:cubicBezTo>
                  <a:pt x="4200" y="13855"/>
                  <a:pt x="4219" y="13808"/>
                  <a:pt x="4242" y="13742"/>
                </a:cubicBezTo>
                <a:cubicBezTo>
                  <a:pt x="4273" y="13650"/>
                  <a:pt x="4287" y="13539"/>
                  <a:pt x="4291" y="13444"/>
                </a:cubicBezTo>
                <a:cubicBezTo>
                  <a:pt x="4295" y="13352"/>
                  <a:pt x="4270" y="13285"/>
                  <a:pt x="4266" y="13196"/>
                </a:cubicBezTo>
                <a:cubicBezTo>
                  <a:pt x="4263" y="13134"/>
                  <a:pt x="4240" y="13083"/>
                  <a:pt x="4217" y="13022"/>
                </a:cubicBezTo>
                <a:cubicBezTo>
                  <a:pt x="4287" y="13030"/>
                  <a:pt x="4339" y="13061"/>
                  <a:pt x="4415" y="13072"/>
                </a:cubicBezTo>
                <a:cubicBezTo>
                  <a:pt x="4516" y="13087"/>
                  <a:pt x="4620" y="13058"/>
                  <a:pt x="4713" y="13047"/>
                </a:cubicBezTo>
                <a:cubicBezTo>
                  <a:pt x="4862" y="13029"/>
                  <a:pt x="5015" y="13057"/>
                  <a:pt x="5159" y="13072"/>
                </a:cubicBezTo>
                <a:cubicBezTo>
                  <a:pt x="5307" y="13088"/>
                  <a:pt x="5460" y="13080"/>
                  <a:pt x="5606" y="13097"/>
                </a:cubicBezTo>
                <a:cubicBezTo>
                  <a:pt x="5724" y="13111"/>
                  <a:pt x="6059" y="13018"/>
                  <a:pt x="5953" y="13072"/>
                </a:cubicBezTo>
                <a:cubicBezTo>
                  <a:pt x="5925" y="13100"/>
                  <a:pt x="5912" y="13109"/>
                  <a:pt x="5879" y="13097"/>
                </a:cubicBezTo>
              </a:path>
              <a:path w="4937" h="1043">
                <a:moveTo>
                  <a:pt x="4762" y="13221"/>
                </a:moveTo>
                <a:cubicBezTo>
                  <a:pt x="4770" y="13229"/>
                  <a:pt x="4779" y="13238"/>
                  <a:pt x="4787" y="13246"/>
                </a:cubicBezTo>
                <a:cubicBezTo>
                  <a:pt x="4756" y="13298"/>
                  <a:pt x="4758" y="13339"/>
                  <a:pt x="4738" y="13395"/>
                </a:cubicBezTo>
                <a:cubicBezTo>
                  <a:pt x="4709" y="13476"/>
                  <a:pt x="4710" y="13517"/>
                  <a:pt x="4762" y="13593"/>
                </a:cubicBezTo>
                <a:cubicBezTo>
                  <a:pt x="4793" y="13638"/>
                  <a:pt x="4887" y="13661"/>
                  <a:pt x="4936" y="13667"/>
                </a:cubicBezTo>
                <a:cubicBezTo>
                  <a:pt x="4961" y="13667"/>
                  <a:pt x="4986" y="13667"/>
                  <a:pt x="5011" y="13667"/>
                </a:cubicBezTo>
              </a:path>
              <a:path w="4937" h="1043">
                <a:moveTo>
                  <a:pt x="5110" y="13146"/>
                </a:moveTo>
                <a:cubicBezTo>
                  <a:pt x="5084" y="13216"/>
                  <a:pt x="5085" y="13269"/>
                  <a:pt x="5085" y="13345"/>
                </a:cubicBezTo>
                <a:cubicBezTo>
                  <a:pt x="5085" y="13426"/>
                  <a:pt x="5063" y="13491"/>
                  <a:pt x="5060" y="13568"/>
                </a:cubicBezTo>
                <a:cubicBezTo>
                  <a:pt x="5057" y="13628"/>
                  <a:pt x="5029" y="13947"/>
                  <a:pt x="5085" y="13965"/>
                </a:cubicBezTo>
                <a:cubicBezTo>
                  <a:pt x="5085" y="13957"/>
                  <a:pt x="5085" y="13948"/>
                  <a:pt x="5085" y="13940"/>
                </a:cubicBezTo>
              </a:path>
              <a:path w="4937" h="1043">
                <a:moveTo>
                  <a:pt x="5358" y="13246"/>
                </a:moveTo>
                <a:cubicBezTo>
                  <a:pt x="5454" y="13231"/>
                  <a:pt x="5515" y="13221"/>
                  <a:pt x="5606" y="13221"/>
                </a:cubicBezTo>
              </a:path>
              <a:path w="4937" h="1043">
                <a:moveTo>
                  <a:pt x="5333" y="13271"/>
                </a:moveTo>
                <a:cubicBezTo>
                  <a:pt x="5333" y="13320"/>
                  <a:pt x="5319" y="13421"/>
                  <a:pt x="5383" y="13444"/>
                </a:cubicBezTo>
                <a:cubicBezTo>
                  <a:pt x="5436" y="13463"/>
                  <a:pt x="5503" y="13448"/>
                  <a:pt x="5556" y="13469"/>
                </a:cubicBezTo>
                <a:cubicBezTo>
                  <a:pt x="5594" y="13484"/>
                  <a:pt x="5692" y="13552"/>
                  <a:pt x="5705" y="13593"/>
                </a:cubicBezTo>
                <a:cubicBezTo>
                  <a:pt x="5725" y="13652"/>
                  <a:pt x="5747" y="13752"/>
                  <a:pt x="5730" y="13816"/>
                </a:cubicBezTo>
                <a:cubicBezTo>
                  <a:pt x="5711" y="13889"/>
                  <a:pt x="5678" y="13937"/>
                  <a:pt x="5606" y="13940"/>
                </a:cubicBezTo>
                <a:cubicBezTo>
                  <a:pt x="5526" y="13944"/>
                  <a:pt x="5498" y="13904"/>
                  <a:pt x="5432" y="13891"/>
                </a:cubicBezTo>
                <a:cubicBezTo>
                  <a:pt x="5391" y="13891"/>
                  <a:pt x="5375" y="13899"/>
                  <a:pt x="5383" y="13866"/>
                </a:cubicBezTo>
              </a:path>
              <a:path w="4937" h="1043">
                <a:moveTo>
                  <a:pt x="6028" y="13519"/>
                </a:moveTo>
                <a:cubicBezTo>
                  <a:pt x="6077" y="13519"/>
                  <a:pt x="6127" y="13519"/>
                  <a:pt x="6176" y="13519"/>
                </a:cubicBezTo>
              </a:path>
              <a:path w="4937" h="1043">
                <a:moveTo>
                  <a:pt x="6077" y="13742"/>
                </a:moveTo>
                <a:cubicBezTo>
                  <a:pt x="6157" y="13785"/>
                  <a:pt x="6147" y="13791"/>
                  <a:pt x="6226" y="13791"/>
                </a:cubicBezTo>
              </a:path>
              <a:path w="4937" h="1043">
                <a:moveTo>
                  <a:pt x="6449" y="13345"/>
                </a:moveTo>
                <a:cubicBezTo>
                  <a:pt x="6449" y="13481"/>
                  <a:pt x="6459" y="13610"/>
                  <a:pt x="6474" y="13742"/>
                </a:cubicBezTo>
                <a:cubicBezTo>
                  <a:pt x="6483" y="13818"/>
                  <a:pt x="6472" y="13845"/>
                  <a:pt x="6499" y="13915"/>
                </a:cubicBezTo>
                <a:cubicBezTo>
                  <a:pt x="6473" y="13839"/>
                  <a:pt x="6474" y="13774"/>
                  <a:pt x="6474" y="13692"/>
                </a:cubicBezTo>
                <a:cubicBezTo>
                  <a:pt x="6474" y="13516"/>
                  <a:pt x="6471" y="13340"/>
                  <a:pt x="6499" y="13171"/>
                </a:cubicBezTo>
                <a:cubicBezTo>
                  <a:pt x="6509" y="13112"/>
                  <a:pt x="6511" y="13044"/>
                  <a:pt x="6548" y="12998"/>
                </a:cubicBezTo>
                <a:cubicBezTo>
                  <a:pt x="6582" y="12956"/>
                  <a:pt x="6672" y="12951"/>
                  <a:pt x="6722" y="12948"/>
                </a:cubicBezTo>
                <a:cubicBezTo>
                  <a:pt x="6890" y="12940"/>
                  <a:pt x="7052" y="12956"/>
                  <a:pt x="7218" y="12973"/>
                </a:cubicBezTo>
                <a:cubicBezTo>
                  <a:pt x="7308" y="12982"/>
                  <a:pt x="7398" y="13015"/>
                  <a:pt x="7491" y="12998"/>
                </a:cubicBezTo>
                <a:cubicBezTo>
                  <a:pt x="7559" y="12985"/>
                  <a:pt x="7573" y="12965"/>
                  <a:pt x="7615" y="12923"/>
                </a:cubicBezTo>
              </a:path>
              <a:path w="4937" h="1043">
                <a:moveTo>
                  <a:pt x="7045" y="13419"/>
                </a:moveTo>
                <a:cubicBezTo>
                  <a:pt x="7092" y="13316"/>
                  <a:pt x="7113" y="13297"/>
                  <a:pt x="7069" y="13196"/>
                </a:cubicBezTo>
                <a:cubicBezTo>
                  <a:pt x="7036" y="13120"/>
                  <a:pt x="7017" y="13120"/>
                  <a:pt x="6945" y="13146"/>
                </a:cubicBezTo>
                <a:cubicBezTo>
                  <a:pt x="6897" y="13163"/>
                  <a:pt x="6817" y="13238"/>
                  <a:pt x="6821" y="13295"/>
                </a:cubicBezTo>
                <a:cubicBezTo>
                  <a:pt x="6825" y="13350"/>
                  <a:pt x="6851" y="13424"/>
                  <a:pt x="6896" y="13469"/>
                </a:cubicBezTo>
                <a:cubicBezTo>
                  <a:pt x="6948" y="13521"/>
                  <a:pt x="6974" y="13539"/>
                  <a:pt x="7045" y="13494"/>
                </a:cubicBezTo>
                <a:cubicBezTo>
                  <a:pt x="7074" y="13464"/>
                  <a:pt x="7085" y="13449"/>
                  <a:pt x="7094" y="13419"/>
                </a:cubicBezTo>
                <a:cubicBezTo>
                  <a:pt x="7084" y="13487"/>
                  <a:pt x="7056" y="13547"/>
                  <a:pt x="7045" y="13618"/>
                </a:cubicBezTo>
                <a:cubicBezTo>
                  <a:pt x="7032" y="13701"/>
                  <a:pt x="7031" y="13929"/>
                  <a:pt x="7069" y="13915"/>
                </a:cubicBezTo>
              </a:path>
              <a:path w="4937" h="1043">
                <a:moveTo>
                  <a:pt x="7268" y="13543"/>
                </a:moveTo>
                <a:cubicBezTo>
                  <a:pt x="7312" y="13543"/>
                  <a:pt x="7325" y="13546"/>
                  <a:pt x="7342" y="13519"/>
                </a:cubicBezTo>
              </a:path>
              <a:path w="4937" h="1043">
                <a:moveTo>
                  <a:pt x="7565" y="13221"/>
                </a:moveTo>
                <a:cubicBezTo>
                  <a:pt x="7647" y="13188"/>
                  <a:pt x="7747" y="13187"/>
                  <a:pt x="7813" y="13146"/>
                </a:cubicBezTo>
              </a:path>
              <a:path w="4937" h="1043">
                <a:moveTo>
                  <a:pt x="7615" y="13146"/>
                </a:moveTo>
                <a:cubicBezTo>
                  <a:pt x="7537" y="13281"/>
                  <a:pt x="7518" y="13279"/>
                  <a:pt x="7541" y="13395"/>
                </a:cubicBezTo>
                <a:cubicBezTo>
                  <a:pt x="7541" y="13411"/>
                  <a:pt x="7541" y="13428"/>
                  <a:pt x="7541" y="13444"/>
                </a:cubicBezTo>
                <a:cubicBezTo>
                  <a:pt x="7604" y="13444"/>
                  <a:pt x="7711" y="13412"/>
                  <a:pt x="7764" y="13419"/>
                </a:cubicBezTo>
                <a:cubicBezTo>
                  <a:pt x="7809" y="13425"/>
                  <a:pt x="7858" y="13541"/>
                  <a:pt x="7863" y="13568"/>
                </a:cubicBezTo>
                <a:cubicBezTo>
                  <a:pt x="7880" y="13651"/>
                  <a:pt x="7830" y="13678"/>
                  <a:pt x="7813" y="13742"/>
                </a:cubicBezTo>
                <a:cubicBezTo>
                  <a:pt x="7798" y="13796"/>
                  <a:pt x="7794" y="13830"/>
                  <a:pt x="7739" y="13866"/>
                </a:cubicBezTo>
                <a:cubicBezTo>
                  <a:pt x="7664" y="13914"/>
                  <a:pt x="7639" y="13874"/>
                  <a:pt x="7565" y="13866"/>
                </a:cubicBezTo>
                <a:cubicBezTo>
                  <a:pt x="7481" y="13866"/>
                  <a:pt x="7461" y="13873"/>
                  <a:pt x="7417" y="138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Ink 14"/>
          <p:cNvSpPr/>
          <p:nvPr/>
        </p:nvSpPr>
        <p:spPr>
          <a:xfrm>
            <a:off x="2241720" y="5116680"/>
            <a:ext cx="563400" cy="312480"/>
          </a:xfrm>
          <a:custGeom>
            <a:avLst/>
            <a:gdLst/>
            <a:ahLst/>
            <a:rect l="l" t="t" r="r" b="b"/>
            <a:pathLst>
              <a:path w="1564" h="869">
                <a:moveTo>
                  <a:pt x="6276" y="14436"/>
                </a:moveTo>
                <a:cubicBezTo>
                  <a:pt x="6365" y="14450"/>
                  <a:pt x="6417" y="14461"/>
                  <a:pt x="6499" y="14461"/>
                </a:cubicBezTo>
              </a:path>
              <a:path w="1564" h="869">
                <a:moveTo>
                  <a:pt x="6226" y="14635"/>
                </a:moveTo>
                <a:cubicBezTo>
                  <a:pt x="6274" y="14749"/>
                  <a:pt x="6270" y="14784"/>
                  <a:pt x="6400" y="14784"/>
                </a:cubicBezTo>
              </a:path>
              <a:path w="1564" h="869">
                <a:moveTo>
                  <a:pt x="6623" y="14337"/>
                </a:moveTo>
                <a:cubicBezTo>
                  <a:pt x="6740" y="14299"/>
                  <a:pt x="6759" y="14267"/>
                  <a:pt x="6821" y="14312"/>
                </a:cubicBezTo>
                <a:cubicBezTo>
                  <a:pt x="6847" y="14382"/>
                  <a:pt x="6853" y="14412"/>
                  <a:pt x="6846" y="14461"/>
                </a:cubicBezTo>
                <a:cubicBezTo>
                  <a:pt x="6837" y="14521"/>
                  <a:pt x="6829" y="14573"/>
                  <a:pt x="6772" y="14610"/>
                </a:cubicBezTo>
                <a:cubicBezTo>
                  <a:pt x="6692" y="14662"/>
                  <a:pt x="6640" y="14635"/>
                  <a:pt x="6772" y="14635"/>
                </a:cubicBezTo>
                <a:cubicBezTo>
                  <a:pt x="6842" y="14635"/>
                  <a:pt x="6880" y="14688"/>
                  <a:pt x="6896" y="14759"/>
                </a:cubicBezTo>
                <a:cubicBezTo>
                  <a:pt x="6909" y="14819"/>
                  <a:pt x="6895" y="14929"/>
                  <a:pt x="6871" y="14982"/>
                </a:cubicBezTo>
                <a:cubicBezTo>
                  <a:pt x="6829" y="15072"/>
                  <a:pt x="6798" y="15094"/>
                  <a:pt x="6697" y="15056"/>
                </a:cubicBezTo>
                <a:cubicBezTo>
                  <a:pt x="6641" y="15035"/>
                  <a:pt x="6631" y="14955"/>
                  <a:pt x="6623" y="14908"/>
                </a:cubicBezTo>
              </a:path>
              <a:path w="1564" h="869">
                <a:moveTo>
                  <a:pt x="7119" y="14536"/>
                </a:moveTo>
                <a:cubicBezTo>
                  <a:pt x="7119" y="14658"/>
                  <a:pt x="7120" y="14768"/>
                  <a:pt x="7144" y="14883"/>
                </a:cubicBezTo>
                <a:cubicBezTo>
                  <a:pt x="7152" y="14933"/>
                  <a:pt x="7161" y="14982"/>
                  <a:pt x="7169" y="15032"/>
                </a:cubicBezTo>
                <a:cubicBezTo>
                  <a:pt x="7211" y="14956"/>
                  <a:pt x="7218" y="14894"/>
                  <a:pt x="7218" y="14808"/>
                </a:cubicBezTo>
                <a:cubicBezTo>
                  <a:pt x="7218" y="14679"/>
                  <a:pt x="7214" y="14558"/>
                  <a:pt x="7243" y="14436"/>
                </a:cubicBezTo>
                <a:cubicBezTo>
                  <a:pt x="7263" y="14349"/>
                  <a:pt x="7272" y="14276"/>
                  <a:pt x="7367" y="14238"/>
                </a:cubicBezTo>
                <a:cubicBezTo>
                  <a:pt x="7408" y="14221"/>
                  <a:pt x="7538" y="14263"/>
                  <a:pt x="7590" y="14263"/>
                </a:cubicBezTo>
                <a:cubicBezTo>
                  <a:pt x="7679" y="14263"/>
                  <a:pt x="7719" y="14269"/>
                  <a:pt x="7789" y="14213"/>
                </a:cubicBezTo>
              </a:path>
              <a:path w="1564" h="869">
                <a:moveTo>
                  <a:pt x="7590" y="14461"/>
                </a:moveTo>
                <a:cubicBezTo>
                  <a:pt x="7746" y="14481"/>
                  <a:pt x="7680" y="14477"/>
                  <a:pt x="7789" y="14461"/>
                </a:cubicBezTo>
              </a:path>
              <a:path w="1564" h="869">
                <a:moveTo>
                  <a:pt x="7516" y="14486"/>
                </a:moveTo>
                <a:cubicBezTo>
                  <a:pt x="7499" y="14572"/>
                  <a:pt x="7490" y="14604"/>
                  <a:pt x="7590" y="14610"/>
                </a:cubicBezTo>
                <a:cubicBezTo>
                  <a:pt x="7633" y="14613"/>
                  <a:pt x="7733" y="14607"/>
                  <a:pt x="7764" y="14635"/>
                </a:cubicBezTo>
                <a:cubicBezTo>
                  <a:pt x="7817" y="14683"/>
                  <a:pt x="7793" y="14807"/>
                  <a:pt x="7764" y="14858"/>
                </a:cubicBezTo>
                <a:cubicBezTo>
                  <a:pt x="7731" y="14915"/>
                  <a:pt x="7712" y="14950"/>
                  <a:pt x="7665" y="14982"/>
                </a:cubicBezTo>
                <a:cubicBezTo>
                  <a:pt x="7620" y="15012"/>
                  <a:pt x="7565" y="15007"/>
                  <a:pt x="7516" y="14982"/>
                </a:cubicBezTo>
                <a:cubicBezTo>
                  <a:pt x="7488" y="14954"/>
                  <a:pt x="7474" y="14945"/>
                  <a:pt x="7441" y="149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Solve this equation:</a:t>
            </a:r>
            <a:br>
              <a:rPr sz="4000"/>
            </a:b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sin 2x + cos x = 0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Page 418</a:t>
            </a:r>
            <a:br>
              <a:rPr sz="7500"/>
            </a:b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#3,5,7,9,21,23</a:t>
            </a:r>
            <a:br>
              <a:rPr sz="7500"/>
            </a:br>
            <a:endParaRPr b="0" lang="en-US" sz="7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2:47Z</dcterms:created>
  <dc:creator>jnewman</dc:creator>
  <dc:description/>
  <dc:language>en-US</dc:language>
  <cp:lastModifiedBy>abeason</cp:lastModifiedBy>
  <dcterms:modified xsi:type="dcterms:W3CDTF">2009-12-11T15:49:31Z</dcterms:modified>
  <cp:revision>13</cp:revision>
  <dc:subject/>
  <dc:title>Lesson 5.5 part one</dc:title>
</cp:coreProperties>
</file>